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51.xml" ContentType="application/vnd.openxmlformats-officedocument.presentationml.notesSlide+xml"/>
  <Override PartName="/ppt/notesSlides/notesSlide82.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23.xml.rels" ContentType="application/vnd.openxmlformats-package.relationships+xml"/>
  <Override PartName="/ppt/notesSlides/_rels/notesSlide121.xml.rels" ContentType="application/vnd.openxmlformats-package.relationships+xml"/>
  <Override PartName="/ppt/notesSlides/_rels/notesSlide84.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27.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114.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9E1F-3392-4344-8FB4-366E6C521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81DE-E2D0-4A7A-A2E7-81B20D0E7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828B-68DF-49E6-AF7F-04690190A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9929-FD46-4565-B5D9-869ECB5D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6F1B-67BF-48B6-9AB3-037B0FBC5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5FED-72EF-4223-8C85-DBCB0C1FE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F6EF-EAFC-46F7-969D-7C73C1938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F4CB-F341-4AC8-A946-20778D05B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A44E-F273-41F0-A561-7CBFE10F8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185D-8F1D-4FAE-8595-983ACBBDD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4B05-9747-4947-88EE-78657FDD5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85AF-43FC-4D2D-9C41-3B317E0AE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2AE8-5DB5-4196-B1FD-A70A0FFB1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FB6D-1B09-4A74-A969-102BA8462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1661-94FB-4CC5-9B8D-E416713EC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DFA1-03DE-4198-B64F-B186CAEFC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7D65-6BB3-491D-8953-9D47DD056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08AA-C925-463E-9064-9254EBEBA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B344-B35C-49E0-8372-26B1CC39D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A1EE-10E5-4FB1-B71D-E0B88A94C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B20E-322A-4DB4-9EF2-4A95BBC61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3D77-FC8C-42AE-B422-B7349ECDE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EAA6-4292-4E12-B88F-53F9ECF53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7A95-ABCB-4084-8C15-7DC4039F1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213D-AC7C-4B27-B7D2-C664716A9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9362-41AF-45E2-BD3E-EABA365BC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8A11-DF05-4946-A495-CEA33ACB9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6013-BEE4-4ED9-B8A0-1479FD285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6996-21BC-49FC-9490-9EEC0D815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F9AE-5D08-40B4-A5AE-606E54AD7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179F-5E31-42C9-B908-943ACF5CD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28ED-C7D9-4BE6-A15A-9EB60D709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9A1E-77CD-476B-87B1-408BA06BF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4E54-8B85-426E-97C4-A31D10921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0D18-D932-4955-A712-050D41F7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5798-AC2D-439B-8BBB-411D4F664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49C2-2481-444A-85E6-53D7FD99D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9952-DA17-41F1-9138-D5B21DA50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B4ED-4A66-4222-B3CF-A5AD49C67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AA7E-754B-4B1E-A4BF-84DBFDBDF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6DD9-1278-494E-9A77-92E17BFBC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1AF2-4FE8-429E-A3E1-BF7C3E42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8984-9A2E-4B20-9D87-E860321C0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0B42-5C3A-4246-9C42-002B26915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01A3-69FF-432F-B28C-46E935775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2B90-90C8-4451-B0FD-F0AFF2C8E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7BCD-FD80-40D6-AD09-E1AF5CCDB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21BA-309F-4D36-80B0-89B374ACC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7089-464E-4882-BEF9-64E7C903E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903F-ABF9-4411-9AA2-CFA06237A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8556-781C-46D2-B092-46A6F3087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28B3-9E19-44C5-8E2E-CDEF38CE7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3034-922B-41E5-9AD6-3E1E96E24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30FF-A412-4739-AE40-17898A729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B806-EA0B-4081-8D38-7FA4B00B2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9D4A-881C-47A5-88A2-916941247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65E8-924A-409A-9BC7-2691BFDB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C7F7-6A58-4D61-BF23-196E2CB7F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55C6-2BFE-4D8F-A530-14AF4C0E6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0F46-AB7B-4C57-9980-99C467F53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AF22-8DF8-4150-A748-F7CBB40DD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446D-F972-47E8-9868-2AE776416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3F91-3C75-466C-988C-63CB8B55B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2E91-975E-447C-B1F4-188B91EB8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E127-2F4A-463D-8673-0DFD55FE9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B2EC-8FA2-4CFA-96AE-175E8BC6B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5B48-501F-4C0D-A9E6-A27048C6B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22AB-EC6C-43C9-8C37-DF3B91C33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4546-A981-421E-B6EB-1913C0AC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B995-5ED4-4FF5-802E-17EB7D752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DDA6C-2045-4732-BFAE-298C1ADDF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A4FD-E448-41EA-BEC8-14E8467D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0287D-9B4A-4483-98C2-090E749F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287E-4416-4BCD-8BE0-C3904072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4222-F09F-40BF-AA6D-0B5D2A7F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0D90-1417-4F03-85CA-1E44454AA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75F2-2073-40D2-88C3-F6A9861B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7679-2E2E-4F99-96A9-DB1EE15A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AB86-4830-41B7-BC11-DC992877E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5760-5513-41FC-BF60-E175E44F5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3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600200"/>
            <a:ext cx="6400800" cy="4038480"/>
          </a:xfrm>
          <a:prstGeom prst="rect">
            <a:avLst/>
          </a:prstGeom>
          <a:noFill/>
          <a:ln w="76320">
            <a:solidFill>
              <a:srgbClr val="3366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ookman Old Style"/>
              </a:rPr>
              <a:t>FIRE INSURANC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UM INSURED FOR HOME BUILDING</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228240" y="990360"/>
            <a:ext cx="883908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UILDI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CARPET AREA OF THE STRUCTURE IN SQM XRATE OF CONSTRUCTION AT INCEPTION OF POLICY (PREVAILING RA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T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L CONTENTS:</a:t>
            </a:r>
            <a:r>
              <a:rPr b="0" lang="en-US" sz="1800" spc="-1" strike="noStrike">
                <a:solidFill>
                  <a:srgbClr val="000000"/>
                </a:solidFill>
                <a:latin typeface="Times New Roman"/>
              </a:rPr>
              <a:t> </a:t>
            </a:r>
            <a:r>
              <a:rPr b="0" lang="en-US" sz="1800" spc="-1" strike="noStrike">
                <a:solidFill>
                  <a:srgbClr val="ff9900"/>
                </a:solidFill>
                <a:latin typeface="Times New Roman"/>
              </a:rPr>
              <a:t>ALL HOUSE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VALUABLE CONTENTS:</a:t>
            </a:r>
            <a:r>
              <a:rPr b="0" lang="en-US" sz="1800" spc="-1" strike="noStrike">
                <a:solidFill>
                  <a:srgbClr val="000000"/>
                </a:solidFill>
                <a:latin typeface="Times New Roman"/>
              </a:rPr>
              <a:t> </a:t>
            </a:r>
            <a:r>
              <a:rPr b="0" lang="en-US" sz="1800" spc="-1" strike="noStrike">
                <a:solidFill>
                  <a:srgbClr val="3333cc"/>
                </a:solidFill>
                <a:latin typeface="Times New Roman"/>
              </a:rPr>
              <a:t>JEWELLERY, SILVERWARE, PAINTINGS, WORKS OF ART, ANTIQUE ITEMS, CURIES ET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IF OPT FOR BUILDING AND CONTENT COVER THE GENERAL CONTENT OF HOME EQUAL TO 20% OF SI FOR HOME BUILDING SUBJECT TO MAX OF 10 LAKHAS AUTOMATICALLY COVER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VER FOR VALUABLE CONTENTS ON AGREED VALUE BASIS: BASED ON VALUATION CERTIFICATE.  VALUATION CERTIFICATE IS WAIVED IF THE SI OPTED UP TO Rs 5 LAKHS AND INDIVIDUAL ITEM NOT EXCEEDING Rs 1 LAKH</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LONG TERM POLICY  10 YEARS WITH AUTOMATIC INCREASE IN SUM INSURED OF 1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PTIONAL COVER: PA COVER Rs 5 LAKHS PER P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2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296"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298"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300"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300">
                                            <p:txEl>
                                              <p:pRg st="0" end="0"/>
                                            </p:txEl>
                                          </p:spTgt>
                                        </p:tgtEl>
                                        <p:attrNameLst>
                                          <p:attrName>style.visibility</p:attrName>
                                        </p:attrNameLst>
                                      </p:cBhvr>
                                      <p:to>
                                        <p:strVal val="visible"/>
                                      </p:to>
                                    </p:set>
                                    <p:anim calcmode="lin" valueType="num">
                                      <p:cBhvr additive="base">
                                        <p:cTn id="37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300">
                                            <p:txEl>
                                              <p:pRg st="1" end="1"/>
                                            </p:txEl>
                                          </p:spTgt>
                                        </p:tgtEl>
                                        <p:attrNameLst>
                                          <p:attrName>style.visibility</p:attrName>
                                        </p:attrNameLst>
                                      </p:cBhvr>
                                      <p:to>
                                        <p:strVal val="visible"/>
                                      </p:to>
                                    </p:set>
                                    <p:anim calcmode="lin" valueType="num">
                                      <p:cBhvr additive="base">
                                        <p:cTn id="37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0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302"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302">
                                            <p:txEl>
                                              <p:pRg st="0" end="0"/>
                                            </p:txEl>
                                          </p:spTgt>
                                        </p:tgtEl>
                                        <p:attrNameLst>
                                          <p:attrName>style.visibility</p:attrName>
                                        </p:attrNameLst>
                                      </p:cBhvr>
                                      <p:to>
                                        <p:strVal val="visible"/>
                                      </p:to>
                                    </p:set>
                                    <p:anim calcmode="lin" valueType="num">
                                      <p:cBhvr additive="base">
                                        <p:cTn id="38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02">
                                            <p:txEl>
                                              <p:pRg st="0" end="0"/>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302">
                                            <p:txEl>
                                              <p:pRg st="1" end="1"/>
                                            </p:txEl>
                                          </p:spTgt>
                                        </p:tgtEl>
                                        <p:attrNameLst>
                                          <p:attrName>style.visibility</p:attrName>
                                        </p:attrNameLst>
                                      </p:cBhvr>
                                      <p:to>
                                        <p:strVal val="visible"/>
                                      </p:to>
                                    </p:set>
                                    <p:anim calcmode="lin" valueType="num">
                                      <p:cBhvr additive="base">
                                        <p:cTn id="391"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02">
                                            <p:txEl>
                                              <p:pRg st="1" end="1"/>
                                            </p:txEl>
                                          </p:spTgt>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302">
                                            <p:txEl>
                                              <p:pRg st="2" end="2"/>
                                            </p:txEl>
                                          </p:spTgt>
                                        </p:tgtEl>
                                        <p:attrNameLst>
                                          <p:attrName>style.visibility</p:attrName>
                                        </p:attrNameLst>
                                      </p:cBhvr>
                                      <p:to>
                                        <p:strVal val="visible"/>
                                      </p:to>
                                    </p:set>
                                    <p:anim calcmode="lin" valueType="num">
                                      <p:cBhvr additive="base">
                                        <p:cTn id="395"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02">
                                            <p:txEl>
                                              <p:pRg st="2" end="2"/>
                                            </p:txEl>
                                          </p:spTgt>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302">
                                            <p:txEl>
                                              <p:pRg st="3" end="3"/>
                                            </p:txEl>
                                          </p:spTgt>
                                        </p:tgtEl>
                                        <p:attrNameLst>
                                          <p:attrName>style.visibility</p:attrName>
                                        </p:attrNameLst>
                                      </p:cBhvr>
                                      <p:to>
                                        <p:strVal val="visible"/>
                                      </p:to>
                                    </p:set>
                                    <p:anim calcmode="lin" valueType="num">
                                      <p:cBhvr additive="base">
                                        <p:cTn id="39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02">
                                            <p:txEl>
                                              <p:pRg st="3" end="3"/>
                                            </p:txEl>
                                          </p:spTgt>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302">
                                            <p:txEl>
                                              <p:pRg st="4" end="4"/>
                                            </p:txEl>
                                          </p:spTgt>
                                        </p:tgtEl>
                                        <p:attrNameLst>
                                          <p:attrName>style.visibility</p:attrName>
                                        </p:attrNameLst>
                                      </p:cBhvr>
                                      <p:to>
                                        <p:strVal val="visible"/>
                                      </p:to>
                                    </p:set>
                                    <p:anim calcmode="lin" valueType="num">
                                      <p:cBhvr additive="base">
                                        <p:cTn id="403"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02">
                                            <p:txEl>
                                              <p:pRg st="4" end="4"/>
                                            </p:txEl>
                                          </p:spTgt>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302">
                                            <p:txEl>
                                              <p:pRg st="5" end="5"/>
                                            </p:txEl>
                                          </p:spTgt>
                                        </p:tgtEl>
                                        <p:attrNameLst>
                                          <p:attrName>style.visibility</p:attrName>
                                        </p:attrNameLst>
                                      </p:cBhvr>
                                      <p:to>
                                        <p:strVal val="visible"/>
                                      </p:to>
                                    </p:set>
                                    <p:anim calcmode="lin" valueType="num">
                                      <p:cBhvr additive="base">
                                        <p:cTn id="407"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02">
                                            <p:txEl>
                                              <p:pRg st="5" end="5"/>
                                            </p:txEl>
                                          </p:spTgt>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302">
                                            <p:txEl>
                                              <p:pRg st="6" end="6"/>
                                            </p:txEl>
                                          </p:spTgt>
                                        </p:tgtEl>
                                        <p:attrNameLst>
                                          <p:attrName>style.visibility</p:attrName>
                                        </p:attrNameLst>
                                      </p:cBhvr>
                                      <p:to>
                                        <p:strVal val="visible"/>
                                      </p:to>
                                    </p:set>
                                    <p:anim calcmode="lin" valueType="num">
                                      <p:cBhvr additive="base">
                                        <p:cTn id="411"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0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304">
                                            <p:txEl>
                                              <p:pRg st="0" end="0"/>
                                            </p:txEl>
                                          </p:spTgt>
                                        </p:tgtEl>
                                        <p:attrNameLst>
                                          <p:attrName>style.visibility</p:attrName>
                                        </p:attrNameLst>
                                      </p:cBhvr>
                                      <p:to>
                                        <p:strVal val="visible"/>
                                      </p:to>
                                    </p:set>
                                    <p:anim calcmode="lin" valueType="num">
                                      <p:cBhvr additive="base">
                                        <p:cTn id="419"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304">
                                            <p:txEl>
                                              <p:pRg st="1" end="1"/>
                                            </p:txEl>
                                          </p:spTgt>
                                        </p:tgtEl>
                                        <p:attrNameLst>
                                          <p:attrName>style.visibility</p:attrName>
                                        </p:attrNameLst>
                                      </p:cBhvr>
                                      <p:to>
                                        <p:strVal val="visible"/>
                                      </p:to>
                                    </p:set>
                                    <p:anim calcmode="lin" valueType="num">
                                      <p:cBhvr additive="base">
                                        <p:cTn id="425"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304">
                                            <p:txEl>
                                              <p:pRg st="2" end="2"/>
                                            </p:txEl>
                                          </p:spTgt>
                                        </p:tgtEl>
                                        <p:attrNameLst>
                                          <p:attrName>style.visibility</p:attrName>
                                        </p:attrNameLst>
                                      </p:cBhvr>
                                      <p:to>
                                        <p:strVal val="visible"/>
                                      </p:to>
                                    </p:set>
                                    <p:anim calcmode="lin" valueType="num">
                                      <p:cBhvr additive="base">
                                        <p:cTn id="431"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 calcmode="lin" valueType="num">
                                      <p:cBhvr additive="base">
                                        <p:cTn id="437"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304">
                                            <p:txEl>
                                              <p:pRg st="4" end="4"/>
                                            </p:txEl>
                                          </p:spTgt>
                                        </p:tgtEl>
                                        <p:attrNameLst>
                                          <p:attrName>style.visibility</p:attrName>
                                        </p:attrNameLst>
                                      </p:cBhvr>
                                      <p:to>
                                        <p:strVal val="visible"/>
                                      </p:to>
                                    </p:set>
                                    <p:anim calcmode="lin" valueType="num">
                                      <p:cBhvr additive="base">
                                        <p:cTn id="443"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304">
                                            <p:txEl>
                                              <p:pRg st="5" end="5"/>
                                            </p:txEl>
                                          </p:spTgt>
                                        </p:tgtEl>
                                        <p:attrNameLst>
                                          <p:attrName>style.visibility</p:attrName>
                                        </p:attrNameLst>
                                      </p:cBhvr>
                                      <p:to>
                                        <p:strVal val="visible"/>
                                      </p:to>
                                    </p:set>
                                    <p:anim calcmode="lin" valueType="num">
                                      <p:cBhvr additive="base">
                                        <p:cTn id="449"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0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304">
                                            <p:txEl>
                                              <p:pRg st="6" end="6"/>
                                            </p:txEl>
                                          </p:spTgt>
                                        </p:tgtEl>
                                        <p:attrNameLst>
                                          <p:attrName>style.visibility</p:attrName>
                                        </p:attrNameLst>
                                      </p:cBhvr>
                                      <p:to>
                                        <p:strVal val="visible"/>
                                      </p:to>
                                    </p:set>
                                    <p:anim calcmode="lin" valueType="num">
                                      <p:cBhvr additive="base">
                                        <p:cTn id="455"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0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04">
                                            <p:txEl>
                                              <p:pRg st="7" end="7"/>
                                            </p:txEl>
                                          </p:spTgt>
                                        </p:tgtEl>
                                        <p:attrNameLst>
                                          <p:attrName>style.visibility</p:attrName>
                                        </p:attrNameLst>
                                      </p:cBhvr>
                                      <p:to>
                                        <p:strVal val="visible"/>
                                      </p:to>
                                    </p:set>
                                    <p:anim calcmode="lin" valueType="num">
                                      <p:cBhvr additive="base">
                                        <p:cTn id="461"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0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59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ndParaRPr>
          </a:p>
        </p:txBody>
      </p:sp>
      <p:sp>
        <p:nvSpPr>
          <p:cNvPr id="116" name="PlaceHolder 2"/>
          <p:cNvSpPr>
            <a:spLocks noGrp="1"/>
          </p:cNvSpPr>
          <p:nvPr>
            <p:ph type="subTitle"/>
          </p:nvPr>
        </p:nvSpPr>
        <p:spPr>
          <a:xfrm>
            <a:off x="228600" y="456840"/>
            <a:ext cx="8763120" cy="6172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EA OF BUILDING: 100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ST OF CONSTRUCTION: Rs 20,000/- PER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Rs. 20,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LOSS DUE TO EQ TOTAL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URVEYOR ASSESSED RE CONST COST AT Rs 16,000/- PER SQM AS ON DATE OF LOSS ACCORDINGLY LOSS AT Rs: 16,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NCE INSURER ACCEPTED FOR Rs 20,00,000/- SAME SHALL BE INDEM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307"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321"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7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txBox="1"/>
          <p:nvPr/>
        </p:nvSpPr>
        <p:spPr>
          <a:xfrm>
            <a:off x="75960" y="152280"/>
            <a:ext cx="9296280" cy="59436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REA OF BUILDING: 100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OF CONSTRUCTION: Rs 15,000/- PER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MISTAKE AREA DECLARED AS 120 SQ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DECLARED: Rs. 18,00,000/- INSTEAD OF Rs 15,0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OTAL LOSS DUE TO EQ TOT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INCE THE ACTUAL AREA NOT DECLARED CORRECTLY, THE POLICY  SHALL INDEMNIFY ONLY Rs 15,00,000/-.</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332"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335"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7"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harat Griha Raksha Perils covered</a:t>
            </a:r>
            <a:br>
              <a:rPr sz="2000"/>
            </a:br>
            <a:r>
              <a:rPr b="0" lang="en-US" sz="1800" spc="-1" strike="noStrike">
                <a:solidFill>
                  <a:srgbClr val="000000"/>
                </a:solidFill>
                <a:latin typeface="Gill Sans MT"/>
              </a:rPr>
              <a:t>(SFSP</a:t>
            </a:r>
            <a:r>
              <a:rPr b="0" lang="en-US" sz="1800" spc="-1" strike="noStrike">
                <a:solidFill>
                  <a:srgbClr val="00b050"/>
                </a:solidFill>
                <a:latin typeface="Gill Sans MT"/>
              </a:rPr>
              <a:t>+IMPACT BY INSURED’S OWN VEHICLES+FOREST FIRE+SP.COMBUSTION </a:t>
            </a:r>
            <a:r>
              <a:rPr b="0" lang="en-US" sz="1800" spc="-1" strike="noStrike">
                <a:solidFill>
                  <a:srgbClr val="000000"/>
                </a:solidFill>
                <a:latin typeface="Gill Sans MT"/>
              </a:rPr>
              <a:t>+</a:t>
            </a:r>
            <a:r>
              <a:rPr b="0" lang="en-US" sz="1800" spc="-1" strike="noStrike">
                <a:solidFill>
                  <a:srgbClr val="16165d"/>
                </a:solidFill>
                <a:latin typeface="Gill Sans MT"/>
              </a:rPr>
              <a:t>EQ+TERRORISM+THEFT</a:t>
            </a:r>
            <a:r>
              <a:rPr b="0" lang="en-US" sz="1800" spc="-1" strike="noStrike">
                <a:solidFill>
                  <a:srgbClr val="000000"/>
                </a:solidFill>
                <a:latin typeface="Gill Sans MT"/>
              </a:rPr>
              <a:t>, No. of perils-12+</a:t>
            </a:r>
            <a:r>
              <a:rPr b="0" lang="en-US" sz="1800" spc="-1" strike="noStrike">
                <a:solidFill>
                  <a:srgbClr val="00b050"/>
                </a:solidFill>
                <a:latin typeface="Gill Sans MT"/>
              </a:rPr>
              <a:t>3</a:t>
            </a:r>
            <a:r>
              <a:rPr b="0" lang="en-US" sz="1800" spc="-1" strike="noStrike">
                <a:solidFill>
                  <a:srgbClr val="000000"/>
                </a:solidFill>
                <a:latin typeface="Gill Sans MT"/>
              </a:rPr>
              <a:t>+</a:t>
            </a:r>
            <a:r>
              <a:rPr b="0" lang="en-US" sz="1800" spc="-1" strike="noStrike">
                <a:solidFill>
                  <a:srgbClr val="16165d"/>
                </a:solidFill>
                <a:latin typeface="Gill Sans MT"/>
              </a:rPr>
              <a:t>3</a:t>
            </a:r>
            <a:endParaRPr b="0" lang="en-US" sz="1800" spc="-1" strike="noStrike">
              <a:solidFill>
                <a:srgbClr val="000000"/>
              </a:solidFill>
              <a:latin typeface="Times New Roman"/>
            </a:endParaRPr>
          </a:p>
        </p:txBody>
      </p:sp>
      <p:sp>
        <p:nvSpPr>
          <p:cNvPr id="120" name="PlaceHolder 2"/>
          <p:cNvSpPr>
            <a:spLocks noGrp="1"/>
          </p:cNvSpPr>
          <p:nvPr>
            <p:ph type="subTitle"/>
          </p:nvPr>
        </p:nvSpPr>
        <p:spPr>
          <a:xfrm>
            <a:off x="228600" y="2133720"/>
            <a:ext cx="9067680" cy="586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e </a:t>
            </a:r>
            <a:r>
              <a:rPr b="0" lang="en-US" sz="2800" spc="-1" strike="noStrike">
                <a:solidFill>
                  <a:srgbClr val="ff0000"/>
                </a:solidFill>
                <a:latin typeface="Gill Sans MT"/>
              </a:rPr>
              <a:t>(No specific exclusion regarding inherent vice, </a:t>
            </a:r>
            <a:r>
              <a:rPr b="0" lang="en-US" sz="2800" spc="-1" strike="noStrike">
                <a:solidFill>
                  <a:srgbClr val="00b050"/>
                </a:solidFill>
                <a:latin typeface="Gill Sans MT"/>
              </a:rPr>
              <a:t>spontaneous combustion </a:t>
            </a:r>
            <a:r>
              <a:rPr b="0" lang="en-US" sz="2800" spc="-1" strike="noStrike">
                <a:solidFill>
                  <a:srgbClr val="ff0000"/>
                </a:solidFill>
                <a:latin typeface="Gill Sans MT"/>
              </a:rPr>
              <a:t>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osion / Implosion </a:t>
            </a:r>
            <a:r>
              <a:rPr b="0" lang="en-US" sz="2800" spc="-1" strike="noStrike">
                <a:solidFill>
                  <a:srgbClr val="ff0000"/>
                </a:solidFill>
                <a:latin typeface="Gill Sans MT"/>
              </a:rPr>
              <a:t>(No specific exclusion like boi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n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Earthquake, Volcanic eruption &amp; other convulsions of nat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m, Cyclone, Typhoon, Tempest, Hurricane, Tornado, Tsunami, Flood &amp; Inund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idence, Landslide, rockslid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h fire, </a:t>
            </a:r>
            <a:r>
              <a:rPr b="0" lang="en-US" sz="2800" spc="-1" strike="noStrike">
                <a:solidFill>
                  <a:srgbClr val="00b050"/>
                </a:solidFill>
                <a:latin typeface="Gill Sans MT"/>
              </a:rPr>
              <a:t>Forest Fire</a:t>
            </a:r>
            <a:r>
              <a:rPr b="0" lang="en-US" sz="2800" spc="-1" strike="noStrike">
                <a:solidFill>
                  <a:srgbClr val="ff0000"/>
                </a:solidFill>
                <a:latin typeface="Gill Sans MT"/>
              </a:rPr>
              <a:t>, Jungle Fir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6840" y="990720"/>
            <a:ext cx="8077320" cy="5410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act damage by </a:t>
            </a:r>
            <a:r>
              <a:rPr b="0" lang="en-US" sz="2800" spc="-1" strike="noStrike">
                <a:solidFill>
                  <a:srgbClr val="00b050"/>
                </a:solidFill>
                <a:latin typeface="Gill Sans MT"/>
              </a:rPr>
              <a:t>any external physical object </a:t>
            </a:r>
            <a:r>
              <a:rPr b="0" lang="en-US" sz="2800" spc="-1" strike="noStrike">
                <a:solidFill>
                  <a:srgbClr val="000000"/>
                </a:solidFill>
                <a:latin typeface="Gill Sans MT"/>
              </a:rPr>
              <a:t>(Incl. Insured’s own items &amp; not limited to vehicles &amp; animal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Testing Operation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SMD</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errorism (As per IMTRIP)</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rsting &amp; Overflowing of pipe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kage of Automatic sprinklers</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heft within 7 days following any of the above mentioned peril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228600" y="837720"/>
            <a:ext cx="8763120" cy="5410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Other Inbuilt cove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s of rent for specified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t for alternate accommodation for specific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tects’, Surveyor &amp; Consulting Engineers Fees up to 5% of claim amount</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al of debris upto 2% of the claim amou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Add on cov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luable contents based on Agreed value basis (Option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Accident cover for owner &amp; spouse (Optional) for Rs. 5 lakhs each (Death only)</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Calibri"/>
                <a:ea typeface="Calibri"/>
              </a:rPr>
              <a:t>EXCLUSIONS</a:t>
            </a:r>
            <a:endParaRPr b="0" lang="en-US" sz="3200" spc="-1" strike="noStrike">
              <a:solidFill>
                <a:srgbClr val="000000"/>
              </a:solidFill>
              <a:latin typeface="Times New Roman"/>
            </a:endParaRPr>
          </a:p>
        </p:txBody>
      </p:sp>
      <p:sp>
        <p:nvSpPr>
          <p:cNvPr id="126" name="PlaceHolder 2"/>
          <p:cNvSpPr>
            <a:spLocks noGrp="1"/>
          </p:cNvSpPr>
          <p:nvPr>
            <p:ph type="subTitle"/>
          </p:nvPr>
        </p:nvSpPr>
        <p:spPr>
          <a:xfrm>
            <a:off x="457200" y="837720"/>
            <a:ext cx="8229600" cy="632484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eliberate ,Willful or intentional act or omission of insured, or anyone on his behalf and in</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adiation and  contamination claus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War Perils</a:t>
            </a:r>
            <a:endParaRPr b="0" lang="en-US" sz="1600" spc="-1" strike="noStrike">
              <a:solidFill>
                <a:srgbClr val="000000"/>
              </a:solidFill>
              <a:latin typeface="Times New Roman"/>
            </a:endParaRPr>
          </a:p>
          <a:p>
            <a:pPr indent="0" algn="just">
              <a:lnSpc>
                <a:spcPts val="165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ollution or Contamination unless the pollution or contamination itself  has resulted from an Insured Event, or an Insured Event itself results from pollution or contamination.</a:t>
            </a: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damage or destruction to any  electrical/electronic machine, apparatus, fixture,  or fitting by over-running, excessive pressure,  short circuiting, arcing, self heating or leakage of  electricity from whatever cause (lightning  included) This exclusion applies only to the  particular machine so lost, damaged or destroyed</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bullion or  unset precious stones,  manuscripts, plans, drawings,  securities, obligations or  documents of any kind, coins  or paper money, cheques,  vehicles, and explosive  substances</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perty which is missing or has  been mislaid, or its  disappearance cannot be linked  to any single identifiable ev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f earnings, loss by  delay, loss of market or  other consequential</a:t>
            </a:r>
            <a:r>
              <a:rPr b="1" lang="en-US" sz="1600" spc="-1" strike="noStrike">
                <a:solidFill>
                  <a:srgbClr val="000000"/>
                </a:solidFill>
                <a:latin typeface="Century Gothic"/>
                <a:ea typeface="Century Gothic"/>
              </a:rPr>
              <a: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any  Insured Property  removed from the  Home to any other  plac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reduction in market value of  any Insured Property after its  repair or reinstatem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addition, extension, or alteration to any structure  of the property that increases its Carpet Area by more  than 10% of the Carpet Area existing at the Commencement Date or on the date of renewal of this  Policy, unless You have paid additional premium and  such addition, extension or alteration is added by  Endorsemen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sts, fees or expenses for  preparing any clai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28880" y="857160"/>
            <a:ext cx="7200720" cy="4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ed Bharat Sookshma Udyam Suraksha/BLUS</a:t>
            </a:r>
            <a:endParaRPr b="0" lang="en-US" sz="2200" spc="-1" strike="noStrike">
              <a:solidFill>
                <a:srgbClr val="000000"/>
              </a:solidFill>
              <a:latin typeface="Times New Roman"/>
            </a:endParaRPr>
          </a:p>
        </p:txBody>
      </p:sp>
      <p:graphicFrame>
        <p:nvGraphicFramePr>
          <p:cNvPr id="128" name=""/>
          <p:cNvGraphicFramePr/>
          <p:nvPr/>
        </p:nvGraphicFramePr>
        <p:xfrm>
          <a:off x="638280" y="1346040"/>
          <a:ext cx="8426520" cy="4651560"/>
        </p:xfrm>
        <a:graphic>
          <a:graphicData uri="http://schemas.openxmlformats.org/drawingml/2006/table">
            <a:tbl>
              <a:tblPr/>
              <a:tblGrid>
                <a:gridCol w="1025280"/>
                <a:gridCol w="4702320"/>
                <a:gridCol w="2698920"/>
              </a:tblGrid>
              <a:tr h="28188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S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L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w.e.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19996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s that can be co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um Insured not exceeding Rs. 5 Cr. Offices, Hotels, Shops, Industrial/Manufacturing risks, Utilities located outside the compound of industrial/manufacturing risks, Storage risks outside the compound of industrial/manufacturing risks and Tank farms/Gas holders outside the compounds of industrial/manufacturing risks where the total value at risk does not exceed Rs. 5 Cr across all asset classes at any one lo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s.5cr&lt;=SI&lt;=Rs.50c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Tenu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ces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lat Rs. 5000/- other than Terro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 % of each claim, subject to a minimum of ₹ 10,000/- other than Terroris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 Add-On cov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claration clause for Stock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Gill Sans MT"/>
                        </a:rPr>
                        <a:t> Declaration clause for Stoc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loater cov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 BUILT COVERS SOOKHMA &amp; LAGHU</a:t>
            </a:r>
            <a:endParaRPr b="0" lang="en-US" sz="2800" spc="-1" strike="noStrike">
              <a:solidFill>
                <a:srgbClr val="000000"/>
              </a:solidFill>
              <a:latin typeface="Times New Roman"/>
            </a:endParaRPr>
          </a:p>
        </p:txBody>
      </p:sp>
      <p:sp>
        <p:nvSpPr>
          <p:cNvPr id="130" name=""/>
          <p:cNvSpPr txBox="1"/>
          <p:nvPr/>
        </p:nvSpPr>
        <p:spPr>
          <a:xfrm>
            <a:off x="0" y="685800"/>
            <a:ext cx="9220320" cy="5943600"/>
          </a:xfrm>
          <a:prstGeom prst="rect">
            <a:avLst/>
          </a:prstGeom>
          <a:noFill/>
          <a:ln w="0">
            <a:noFill/>
          </a:ln>
        </p:spPr>
        <p:txBody>
          <a:bodyPr anchor="t">
            <a:normAutofit/>
          </a:bodyPr>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OTIONS, ALTERATIONSOR EXTENSIONS: 15% (5% IN SF&amp;SP) EXCEPT STOCK</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 TEMPORARY REMOVAL OF STOCK: 10%.</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3. COVER FOR SPECIFIC COVER: MONEY , MANUSCRIPTS, SECURITIES, PLAN ETC UP TO Rs 50,000. COVER FOR COMPUTER PROGRAMMES, INFORMATION DATA UPTO Rs 5 LAKHS. PERSONAL EFFECTS OF EMPLOYEES, DIRECTORS AND VISITERS UP TO Rs 15,000/- PER PERSON FOR A MAX OF 20 PERSONS DURING THE POLICY PERIOD.</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rPr>
              <a:t>4. STRAT UP EXPENSES: UP TO Rs 5 LAKH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5. PROFFESSIONAL FEES: UP TO 5 % OF THE CLAIM AMOUNT (3%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 REMOVAL OF DEBRIES: UP TO 2% OF THE CLAIM AMOUNT (1%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 COST COMPELLED BY MUNICIPAL REGULATIONS: ADDITIONAL COST.</a:t>
            </a:r>
            <a:endParaRPr b="0" lang="en-US" sz="2000" spc="-1" strike="noStrike">
              <a:solidFill>
                <a:srgbClr val="000000"/>
              </a:solidFill>
              <a:latin typeface="Times New Roman"/>
            </a:endParaRPr>
          </a:p>
          <a:p>
            <a:pPr marL="457200" indent="-45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ON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837720"/>
            <a:ext cx="6934320" cy="4800600"/>
          </a:xfrm>
          <a:prstGeom prst="rect">
            <a:avLst/>
          </a:prstGeom>
          <a:noFill/>
          <a:ln w="0">
            <a:noFill/>
          </a:ln>
        </p:spPr>
        <p:txBody>
          <a:bodyPr anchor="t">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 Stocks in cold storage due to change in temp</a:t>
            </a: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 Damage by spoilage</a:t>
            </a:r>
            <a:endParaRPr b="0" lang="en-US" sz="1800" spc="-1" strike="noStrike">
              <a:solidFill>
                <a:srgbClr val="000000"/>
              </a:solidFill>
              <a:latin typeface="Times New Roman"/>
            </a:endParaRPr>
          </a:p>
          <a:p>
            <a:pPr marL="12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us as applicable for Gri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INSU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1066680"/>
            <a:ext cx="8915400" cy="5029200"/>
          </a:xfrm>
          <a:prstGeom prst="rect">
            <a:avLst/>
          </a:prstGeom>
          <a:noFill/>
          <a:ln w="76320">
            <a:solidFill>
              <a:srgbClr val="cc00cc"/>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MEANING OF </a:t>
            </a:r>
            <a:r>
              <a:rPr b="1" lang="en-US" sz="2800" spc="-1" strike="noStrike">
                <a:solidFill>
                  <a:srgbClr val="ff0000"/>
                </a:solidFill>
                <a:latin typeface="Bookman Old Style"/>
              </a:rPr>
              <a:t>FIRE</a:t>
            </a:r>
            <a:r>
              <a:rPr b="1" lang="en-US" sz="2800" spc="-1" strike="noStrike">
                <a:solidFill>
                  <a:srgbClr val="3333cc"/>
                </a:solidFill>
                <a:latin typeface="Bookman Old Style"/>
              </a:rPr>
              <a:t> UNDER FIRE INSUR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THE TERM FIRE HAS NOT DEFINED IN THE POLICY. T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EFINITION OF FIRE IS AS PER LEGAL C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RE MUST BE ACTUAL IGN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PROPERTY WHICH OUGHT NOT HAVE BEEN FIRE</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 FIRE IS PURELY ACCIDENTAL OR FORTUITOUS </a:t>
            </a:r>
            <a:r>
              <a:rPr b="1" lang="en-US" sz="2800" spc="-1" strike="noStrike">
                <a:solidFill>
                  <a:srgbClr val="ff0000"/>
                </a:solidFill>
                <a:latin typeface="Bookman Old Style"/>
              </a:rPr>
              <a:t>IN ORIGIN.</a:t>
            </a: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base">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1">
                                            <p:txEl>
                                              <p:pRg st="7" end="7"/>
                                            </p:txEl>
                                          </p:spTgt>
                                        </p:tgtEl>
                                        <p:attrNameLst>
                                          <p:attrName>style.visibility</p:attrName>
                                        </p:attrNameLst>
                                      </p:cBhvr>
                                      <p:to>
                                        <p:strVal val="visible"/>
                                      </p:to>
                                    </p:set>
                                    <p:anim calcmode="lin" valueType="num">
                                      <p:cBhvr additive="base">
                                        <p:cTn id="37"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51">
                                            <p:txEl>
                                              <p:pRg st="9" end="9"/>
                                            </p:txEl>
                                          </p:spTgt>
                                        </p:tgtEl>
                                        <p:attrNameLst>
                                          <p:attrName>style.visibility</p:attrName>
                                        </p:attrNameLst>
                                      </p:cBhvr>
                                      <p:to>
                                        <p:strVal val="visible"/>
                                      </p:to>
                                    </p:set>
                                    <p:anim calcmode="lin" valueType="num">
                                      <p:cBhvr additive="base">
                                        <p:cTn id="43" dur="500" fill="hold"/>
                                        <p:tgtEl>
                                          <p:spTgt spid="51">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109520"/>
            <a:ext cx="87138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Gill Sans MT"/>
              </a:rPr>
              <a:t>Bharat Sookshma Udyam Suraksha/BLUS</a:t>
            </a:r>
            <a:br>
              <a:rPr sz="3000"/>
            </a:br>
            <a:r>
              <a:rPr b="0" lang="en-US" sz="2400" spc="-1" strike="noStrike">
                <a:solidFill>
                  <a:srgbClr val="0033cc"/>
                </a:solidFill>
                <a:latin typeface="Gill Sans MT"/>
              </a:rPr>
              <a:t>Basis of Claim Settlement</a:t>
            </a:r>
            <a:endParaRPr b="0" lang="en-US" sz="2400" spc="-1" strike="noStrike">
              <a:solidFill>
                <a:srgbClr val="000000"/>
              </a:solidFill>
              <a:latin typeface="Times New Roman"/>
            </a:endParaRPr>
          </a:p>
        </p:txBody>
      </p:sp>
      <p:graphicFrame>
        <p:nvGraphicFramePr>
          <p:cNvPr id="134" name=""/>
          <p:cNvGraphicFramePr/>
          <p:nvPr/>
        </p:nvGraphicFramePr>
        <p:xfrm>
          <a:off x="641520" y="2228760"/>
          <a:ext cx="8370720" cy="3382920"/>
        </p:xfrm>
        <a:graphic>
          <a:graphicData uri="http://schemas.openxmlformats.org/drawingml/2006/table">
            <a:tbl>
              <a:tblPr/>
              <a:tblGrid>
                <a:gridCol w="3252600"/>
                <a:gridCol w="5118120"/>
              </a:tblGrid>
              <a:tr h="2970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TEM</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SIS OF SETTLEMENT</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ilding, Plant and Machinery, Furniture, Fixture and Fittings and any other content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repaired/reinstated within 12m-Reinstatement Valu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not repaired/Reinstated within 12m- Market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74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ock of Raw material</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Landed Cost at Premis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525240">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tock in proces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Input Cost of the stock at the time of dam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56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nished stock</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 Manufacturing Cost of the finished stock or the Contract Price of goods sold but not delivered</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llion or unset precious stones, any curios or works of art or obsolete machinery and the lik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reed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Gill Sans MT"/>
              </a:rPr>
              <a:t>Comparison of SFSP vs. 3 new products</a:t>
            </a:r>
            <a:endParaRPr b="0" lang="en-US" sz="4400" spc="-1" strike="noStrike">
              <a:solidFill>
                <a:srgbClr val="000000"/>
              </a:solidFill>
              <a:latin typeface="Times New Roman"/>
            </a:endParaRPr>
          </a:p>
        </p:txBody>
      </p:sp>
      <p:graphicFrame>
        <p:nvGraphicFramePr>
          <p:cNvPr id="136" name=""/>
          <p:cNvGraphicFramePr/>
          <p:nvPr/>
        </p:nvGraphicFramePr>
        <p:xfrm>
          <a:off x="1028880" y="1941480"/>
          <a:ext cx="7939080" cy="4105440"/>
        </p:xfrm>
        <a:graphic>
          <a:graphicData uri="http://schemas.openxmlformats.org/drawingml/2006/table">
            <a:tbl>
              <a:tblPr/>
              <a:tblGrid>
                <a:gridCol w="1587240"/>
                <a:gridCol w="2676600"/>
                <a:gridCol w="1216080"/>
                <a:gridCol w="1257120"/>
                <a:gridCol w="1202040"/>
              </a:tblGrid>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056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Fir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 exce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 its own </a:t>
                      </a:r>
                      <a:r>
                        <a:rPr b="0" lang="en-US" sz="1400" spc="-1" strike="noStrike">
                          <a:solidFill>
                            <a:srgbClr val="000000"/>
                          </a:solidFill>
                          <a:latin typeface="Calibri"/>
                          <a:ea typeface="Calibri"/>
                        </a:rPr>
                        <a:t>fermentation</a:t>
                      </a:r>
                      <a:r>
                        <a:rPr b="0" lang="en-US" sz="1400" spc="-1" strike="noStrike">
                          <a:solidFill>
                            <a:srgbClr val="000000"/>
                          </a:solidFill>
                          <a:latin typeface="Gill Sans MT"/>
                        </a:rPr>
                        <a:t> ,natural heating or spontaneous combus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i) burning of property insured by order of any Public Authority. </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54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Lightning</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830160" y="1239840"/>
          <a:ext cx="8137800" cy="4427640"/>
        </p:xfrm>
        <a:graphic>
          <a:graphicData uri="http://schemas.openxmlformats.org/drawingml/2006/table">
            <a:tbl>
              <a:tblPr/>
              <a:tblGrid>
                <a:gridCol w="1816200"/>
                <a:gridCol w="1600200"/>
                <a:gridCol w="1724040"/>
                <a:gridCol w="1546200"/>
                <a:gridCol w="1451160"/>
              </a:tblGrid>
              <a:tr h="282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Professional fee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3%)</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348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sts for removal of debri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1%)</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Earthquake, volcanic eruption, or other convulsions of natu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Bush fire, Forest fire, Jungle fi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Forest Fire covered as add-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9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errorism</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779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heft within 7 day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Not 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Loss of Rent and Rent for Alternative Accommod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as separate Add-on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63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utomatic Increase in Sum insured for Building(Escal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341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Under Insurance Wavi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mplete wai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523880"/>
            <a:ext cx="7925040" cy="3200400"/>
          </a:xfrm>
          <a:prstGeom prst="rect">
            <a:avLst/>
          </a:prstGeom>
          <a:noFill/>
          <a:ln w="76320">
            <a:solidFill>
              <a:srgbClr val="ff9900"/>
            </a:solidFill>
            <a:miter/>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ookman Old Style"/>
              </a:rPr>
              <a:t>STANDARD FIRE &amp; SPECIAL PERILS POLICY</a:t>
            </a:r>
            <a:endParaRPr b="0" lang="en-US" sz="4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GENERAL RULES &amp; REGULATIONS</a:t>
            </a:r>
            <a:endParaRPr b="0" lang="en-US" sz="3200" spc="-1" strike="noStrike">
              <a:solidFill>
                <a:srgbClr val="000000"/>
              </a:solidFill>
              <a:latin typeface="Times New Roman"/>
            </a:endParaRPr>
          </a:p>
        </p:txBody>
      </p:sp>
      <p:sp>
        <p:nvSpPr>
          <p:cNvPr id="143" name="PlaceHolder 2"/>
          <p:cNvSpPr>
            <a:spLocks noGrp="1"/>
          </p:cNvSpPr>
          <p:nvPr>
            <p:ph type="subTitle"/>
          </p:nvPr>
        </p:nvSpPr>
        <p:spPr>
          <a:xfrm>
            <a:off x="228600" y="533160"/>
            <a:ext cx="8686800" cy="6095880"/>
          </a:xfrm>
          <a:prstGeom prst="rect">
            <a:avLst/>
          </a:prstGeom>
          <a:noFill/>
          <a:ln w="76320">
            <a:solidFill>
              <a:srgbClr val="ff66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1. </a:t>
            </a:r>
            <a:r>
              <a:rPr b="1" lang="en-US" sz="2400" spc="-1" strike="noStrike">
                <a:solidFill>
                  <a:srgbClr val="cc00ff"/>
                </a:solidFill>
                <a:latin typeface="Bookman Old Style"/>
              </a:rPr>
              <a:t>SF&amp;SPs ARE NOT VALUED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2. </a:t>
            </a:r>
            <a:r>
              <a:rPr b="1" lang="en-US" sz="2400" spc="-1" strike="noStrike">
                <a:solidFill>
                  <a:srgbClr val="ff0000"/>
                </a:solidFill>
                <a:latin typeface="Bookman Old Style"/>
              </a:rPr>
              <a:t>POLICY PERIOD NOT EXCEEDING 12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3. MID TERM COVER GRANTED SUBJECT T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WAITING PERIOD OF 15 DAYS &amp; MOD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PREMIUM BY CASH OR D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4. NO MID TERM COVER FOR RSM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Bookman Old Style"/>
              </a:rPr>
              <a:t>5. PAYMENT OF PREMIUM NOT ON INSTALMEN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6. MINIMUM PREMIUM IS Rs.100/- INDUST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    </a:t>
            </a:r>
            <a:r>
              <a:rPr b="1" lang="en-US" sz="2400" spc="-1" strike="noStrike">
                <a:solidFill>
                  <a:srgbClr val="cc0066"/>
                </a:solidFill>
                <a:latin typeface="Bookman Old Style"/>
              </a:rPr>
              <a:t>RISK &amp; Rs.50/-FOR SIMPLE RISK&amp; TINYSECTO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7. PARTIAL INSURANCE NOT ALLOWED EXCEP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BOILERS)    PLINTH &amp; FOUN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8. NO EXTENSION OF SHORT PERIOD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230040"/>
            <a:ext cx="6324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228600" y="609480"/>
            <a:ext cx="8686800" cy="5943600"/>
          </a:xfrm>
          <a:prstGeom prst="rect">
            <a:avLst/>
          </a:prstGeom>
          <a:noFill/>
          <a:ln w="76320">
            <a:solidFill>
              <a:srgbClr val="00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9.   LOADING OF Rs.4.00%o ON KATCHA CON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10. RULES FOR CANCELL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9900"/>
                </a:solidFill>
                <a:latin typeface="Bookman Old Style"/>
              </a:rPr>
              <a:t>OPTION OF INSURED: </a:t>
            </a:r>
            <a:r>
              <a:rPr b="1" lang="en-US" sz="2400" spc="-1" strike="noStrike">
                <a:solidFill>
                  <a:srgbClr val="ff9900"/>
                </a:solidFill>
                <a:latin typeface="Bookman Old Style"/>
              </a:rPr>
              <a:t>ON SHOTR PERIO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33cc"/>
                </a:solidFill>
                <a:latin typeface="Bookman Old Style"/>
              </a:rPr>
              <a:t>OPTION OF INSURER:</a:t>
            </a:r>
            <a:r>
              <a:rPr b="1" lang="en-US" sz="2400" spc="-1" strike="noStrike">
                <a:solidFill>
                  <a:srgbClr val="009900"/>
                </a:solidFill>
                <a:latin typeface="Bookman Old Style"/>
              </a:rPr>
              <a:t> CANCELLATION &am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REPLACEMENT OF THE  SAME PROPERTY, GOV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ORDER &amp; BLDG UNDER CONSTRUCTION OR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DEMOLISHED :</a:t>
            </a:r>
            <a:r>
              <a:rPr b="1" lang="en-US" sz="2400" spc="-1" strike="noStrike">
                <a:solidFill>
                  <a:srgbClr val="000000"/>
                </a:solidFill>
                <a:latin typeface="Bookman Old Style"/>
              </a:rPr>
              <a:t>	</a:t>
            </a:r>
            <a:r>
              <a:rPr b="1" lang="en-US" sz="2400" spc="-1" strike="noStrike">
                <a:solidFill>
                  <a:srgbClr val="ff0000"/>
                </a:solidFill>
                <a:latin typeface="Bookman Old Style"/>
              </a:rPr>
              <a:t>ON PRORATABASI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2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0" y="228240"/>
            <a:ext cx="9144000" cy="6629400"/>
          </a:xfrm>
          <a:prstGeom prst="rect">
            <a:avLst/>
          </a:prstGeom>
          <a:noFill/>
          <a:ln w="76320">
            <a:solidFill>
              <a:srgbClr val="ff000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12. </a:t>
            </a:r>
            <a:r>
              <a:rPr b="1" lang="en-US" sz="2000" spc="-1" strike="noStrike">
                <a:solidFill>
                  <a:srgbClr val="009900"/>
                </a:solidFill>
                <a:latin typeface="Bookman Old Style"/>
              </a:rPr>
              <a:t>ESCALATION CLAUSE APPLICABLE BMA EXCEPT STOCKS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       </a:t>
            </a:r>
            <a:r>
              <a:rPr b="1" lang="en-US" sz="2000" spc="-1" strike="noStrike">
                <a:solidFill>
                  <a:srgbClr val="009900"/>
                </a:solidFill>
                <a:latin typeface="Bookman Old Style"/>
              </a:rPr>
              <a:t>SLECTION IS MAX. 25%.</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13. FACTORIES WHERE NO MANUFACTURING/STORAG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ECTION IV &amp;VI) CONTINUOUSLY FOR 30 OR MORE THAN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AYS  IS CALLED SILENTRISK. DELETION OF STFI &amp;RSMAD I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ALLOWED IN THE INCEPTION OF THE POLICY. FEW BLOCK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ILENT WILL NOT BE QUALIFY SILENT RIS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4. RISK IN MULTIPLE OCCUPANCY INDUSTRIAL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STATE SHALL BE RATED PER SE. IF TH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NTIRE BUILDING OF THE IND. ESTATE I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INSURED UNDER ONE SUM INSURED BY</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HARGING Rs.1.80%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5. VOLINTARY DEDUCTIBLE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T THE OPTION OF THE INSURED IT REPLACES TH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OMPULSORY DEDUCTIBLE. ONLY VOL. DEDUCTIBLE WIL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P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imes New Roman"/>
              </a:rPr>
              <a:t>Deductible wef 01.04.2014 </a:t>
            </a:r>
            <a:endParaRPr b="0" lang="en-US" sz="2800" spc="-1" strike="noStrike">
              <a:solidFill>
                <a:srgbClr val="000000"/>
              </a:solidFill>
              <a:latin typeface="Times New Roman"/>
            </a:endParaRPr>
          </a:p>
        </p:txBody>
      </p:sp>
      <p:sp>
        <p:nvSpPr>
          <p:cNvPr id="149" name=""/>
          <p:cNvSpPr txBox="1"/>
          <p:nvPr/>
        </p:nvSpPr>
        <p:spPr>
          <a:xfrm>
            <a:off x="152280" y="685800"/>
            <a:ext cx="8686800" cy="6019920"/>
          </a:xfrm>
          <a:prstGeom prst="rect">
            <a:avLst/>
          </a:prstGeom>
          <a:noFill/>
          <a:ln w="0">
            <a:noFill/>
          </a:ln>
        </p:spPr>
        <p:txBody>
          <a:bodyPr anchor="t">
            <a:normAutofit fontScale="99000"/>
          </a:bodyPr>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FIRE: DWELLINGS – NIL AND OTHERS PER LOCATION BASIS.</a:t>
            </a:r>
            <a:endParaRPr b="0" lang="en-US" sz="2000" spc="-1" strike="noStrike">
              <a:solidFill>
                <a:srgbClr val="000000"/>
              </a:solidFill>
              <a:latin typeface="Times New Roman"/>
            </a:endParaRPr>
          </a:p>
          <a:p>
            <a:pPr marL="339480" indent="-339480">
              <a:lnSpc>
                <a:spcPct val="100000"/>
              </a:lnSpc>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ATER &amp; FLOATER DECLARATION:5% OF CLAIM AMOUNT SUB TO MIN OF Rs. 50,000</a:t>
            </a:r>
            <a:r>
              <a:rPr b="0" lang="en-US" sz="3200" spc="-1" strike="noStrike">
                <a:solidFill>
                  <a:srgbClr val="336600"/>
                </a:solidFill>
                <a:latin typeface="Times New Roman"/>
              </a:rPr>
              <a:t>/-</a:t>
            </a:r>
            <a:endParaRPr b="0" lang="en-US" sz="32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FLOP: OTHER THAN PETRO: 7 DAYS GP. PETRO: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IAR: SI UP TO 1500 Crs (MD+BI) PER LOCATION</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OF CLAIM AMT SUB TO MIN OF Rs.10,00,000/-</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SI ABOVE Rs 1500 Cr AND UP TO 2500 Cr.(MD+BI) PER LOCATION</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MD: 5% OF CLAIM AMT SUB TO MIN OF Rs.25,00,000/-</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I ABOVE Rs 2500 Cr. (MD+BI) PER LOCATION</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COPE OF COVER</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1066320"/>
            <a:ext cx="8534160" cy="5410440"/>
          </a:xfrm>
          <a:prstGeom prst="rect">
            <a:avLst/>
          </a:prstGeom>
          <a:noFill/>
          <a:ln w="76320">
            <a:solidFill>
              <a:srgbClr val="ff0000"/>
            </a:solidFill>
            <a:miter/>
          </a:ln>
        </p:spPr>
        <p:txBody>
          <a:bodyPr anchor="t">
            <a:normAutofit/>
          </a:bodyPr>
          <a:p>
            <a:pPr marL="343080" indent="-343080" algn="just">
              <a:lnSpc>
                <a:spcPct val="100000"/>
              </a:lnSpc>
              <a:spcBef>
                <a:spcPts val="700"/>
              </a:spcBef>
              <a:buClr>
                <a:srgbClr val="cc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FINANCIAL PROTECTION AGAINST LOSS ARISING OUT OF PERILS COVERED.</a:t>
            </a:r>
            <a:endParaRPr b="0" lang="en-US" sz="28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IRE INCLUDING FIRE RESULTING FROM EXPLOSION / IMPLOSION.</a:t>
            </a:r>
            <a:endParaRPr b="0" lang="en-US" sz="2400" spc="-1" strike="noStrike">
              <a:solidFill>
                <a:srgbClr val="000000"/>
              </a:solidFill>
              <a:latin typeface="Times New Roman"/>
            </a:endParaRPr>
          </a:p>
          <a:p>
            <a:pPr marL="343080" indent="-343080" algn="just">
              <a:lnSpc>
                <a:spcPct val="100000"/>
              </a:lnSpc>
              <a:spcBef>
                <a:spcPts val="601"/>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SMOKE, SCORCHING/ HEAT RADIATION CAUSED</a:t>
            </a:r>
            <a:r>
              <a:rPr b="1" lang="en-US" sz="2400" spc="-1" strike="noStrike">
                <a:solidFill>
                  <a:srgbClr val="00cc99"/>
                </a:solidFill>
                <a:latin typeface="Bookman Old Style"/>
              </a:rPr>
              <a:t>	</a:t>
            </a:r>
            <a:r>
              <a:rPr b="1" lang="en-US" sz="2400" spc="-1" strike="noStrike">
                <a:solidFill>
                  <a:srgbClr val="00cc99"/>
                </a:solidFill>
                <a:latin typeface="Bookman Old Style"/>
              </a:rPr>
              <a:t>FOLLOWING BY FIRE </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ALLING OF WALL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WATER OR OTHER FIRE EXTINGUISHING APPLIANCES USED IN PUTTING OUT FIRE.</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URING REMOVAL FROM A BURNING BUILDING</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eductible conti….</a:t>
            </a:r>
            <a:endParaRPr b="0" lang="en-US" sz="2800" spc="-1" strike="noStrike">
              <a:solidFill>
                <a:srgbClr val="000000"/>
              </a:solidFill>
              <a:latin typeface="Times New Roman"/>
            </a:endParaRPr>
          </a:p>
        </p:txBody>
      </p:sp>
      <p:sp>
        <p:nvSpPr>
          <p:cNvPr id="151" name=""/>
          <p:cNvSpPr txBox="1"/>
          <p:nvPr/>
        </p:nvSpPr>
        <p:spPr>
          <a:xfrm>
            <a:off x="0" y="457200"/>
            <a:ext cx="9144000" cy="6400800"/>
          </a:xfrm>
          <a:prstGeom prst="rect">
            <a:avLst/>
          </a:prstGeom>
          <a:noFill/>
          <a:ln w="0">
            <a:noFill/>
          </a:ln>
        </p:spPr>
        <p:txBody>
          <a:bodyPr anchor="t">
            <a:normAutofit fontScale="99000"/>
          </a:bodyPr>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EGA RISK : SUM INSURED ABVE Rs 2500 Cr (MD+BI)</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P: 14 DAYS, MLOP 21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CELLULAR NETWORK</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D: 5% OF CLAIM AMOUNT SUB MIN OF Rs 5,00,000/-</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BI: 3 DAYS OF GP</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ENGINEERING PROJECT INSURANCE: </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TIMES OF TAC TARIFF EXCES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ALOP: 30 DAYS FOR FIRST YEAR + 1 DAY FOR EACH ERECTION MONTH IN ADDITION TO 12 MONTHS NOT EXCEEDING 60 DAY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ET RISK: SPECILISED RISK (ALL WORKS IN WATER, DAMS, CANALS, HYDRO POWER PROJECTS, TUNNELS, IRRIGATION SYSTEM, CAVERNS) 15 TIMES OF TAC TARIFF (1.5 L X 15, 5L X 15).</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LOP: 45 DAYS FOR FIRST YEAR + 1 DAY FOR EACH ERECTION MONTH IN ADDITION TO 12 MONTHS NOT EXCEEDING 75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eductible Conti…</a:t>
            </a:r>
            <a:endParaRPr b="0" lang="en-US" sz="2400" spc="-1" strike="noStrike">
              <a:solidFill>
                <a:srgbClr val="000000"/>
              </a:solidFill>
              <a:latin typeface="Times New Roman"/>
            </a:endParaRPr>
          </a:p>
        </p:txBody>
      </p:sp>
      <p:sp>
        <p:nvSpPr>
          <p:cNvPr id="153"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ea typeface="Arial"/>
              </a:rPr>
              <a:t>MACINERY BREAKDOWN</a:t>
            </a:r>
            <a:r>
              <a:rPr b="0" lang="en-US" sz="2000" spc="-1" strike="noStrike">
                <a:solidFill>
                  <a:srgbClr val="cc0099"/>
                </a:solidFill>
                <a:latin typeface="Arial"/>
                <a:ea typeface="Arial"/>
              </a:rPr>
              <a:t>: 1% OF SUM INSURED FOR EACH MACHINE SUBJECT TO MINIMUM OF Rs. 2,500/-</a:t>
            </a:r>
            <a:endParaRPr b="0" lang="en-US" sz="2000" spc="-1" strike="noStrike">
              <a:solidFill>
                <a:srgbClr val="000000"/>
              </a:solidFill>
              <a:latin typeface="Times New Roman"/>
            </a:endParaRPr>
          </a:p>
          <a:p>
            <a:pPr marL="343080" indent="-3430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LOP: 14 DAYS OF STANDARD GP</a:t>
            </a:r>
            <a:endParaRPr b="0" lang="en-US" sz="2000" spc="-1" strike="noStrike">
              <a:solidFill>
                <a:srgbClr val="000000"/>
              </a:solidFill>
              <a:latin typeface="Times New Roman"/>
            </a:endParaRPr>
          </a:p>
          <a:p>
            <a:pPr marL="343080" indent="-34308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PM: </a:t>
            </a:r>
            <a:r>
              <a:rPr b="0" lang="en-US" sz="2000" spc="-1" strike="noStrike">
                <a:solidFill>
                  <a:srgbClr val="3333cc"/>
                </a:solidFill>
                <a:latin typeface="Arial"/>
                <a:ea typeface="Arial"/>
              </a:rPr>
              <a:t>GROUP I,II,III,IV INCL CRANES ABOVE 10 T UNDER GROUP III. INDIVIDUAL VALUE FROM 1 LACS AND  OVER RS 10 LACS UP TO RS 25 LACS NO CHANGE (OTHERTHAN AOG AND AOG)</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BET 25 LACS AND 50 LACS . AOG  IS 1% OF SI SUBJECT TO MIN OF Rs.50,000/- (EARLIER Rs 2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ABOVE 50 LACS . AOG  IS 1% OF SI SUBJECT TO MIN OF Rs.50,000/- (EARLIER Rs 3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OM SECTION: 20% OF CLAIM AMOUNT SUB MIN OF Rs 25,000/-</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FOR GROUP V : Rs. 25,000/- FL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LECTRONIC INSURANCE </a:t>
            </a:r>
            <a:r>
              <a:rPr b="0" lang="en-US" sz="2000" spc="-1" strike="noStrike">
                <a:solidFill>
                  <a:srgbClr val="009900"/>
                </a:solidFill>
                <a:latin typeface="Arial"/>
                <a:ea typeface="Arial"/>
              </a:rPr>
              <a:t>: AS PER TAC TARIFF</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ILER INSURANCE</a:t>
            </a:r>
            <a:r>
              <a:rPr b="0" lang="en-US" sz="2000" spc="-1" strike="noStrike">
                <a:solidFill>
                  <a:srgbClr val="d60093"/>
                </a:solidFill>
                <a:latin typeface="Arial"/>
                <a:ea typeface="Arial"/>
              </a:rPr>
              <a:t>: 5% OF CLAIM AMOUNT SUB TO Rs.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Rulings for rating</a:t>
            </a:r>
            <a:endParaRPr b="0" lang="en-US" sz="2800" spc="-1" strike="noStrike">
              <a:solidFill>
                <a:srgbClr val="000000"/>
              </a:solidFill>
              <a:latin typeface="Times New Roman"/>
            </a:endParaRPr>
          </a:p>
        </p:txBody>
      </p:sp>
      <p:sp>
        <p:nvSpPr>
          <p:cNvPr id="155" name=""/>
          <p:cNvSpPr txBox="1"/>
          <p:nvPr/>
        </p:nvSpPr>
        <p:spPr>
          <a:xfrm>
            <a:off x="151920" y="304560"/>
            <a:ext cx="8991720" cy="65530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tion III: SIMPLE RISK</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ilding and contents are pe-rs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ocks stored in open area belong to insured is held cover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cidental operations, such as grinding of lenses, varnishing in furniture shops, occasional repairs etc are permitt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asonal storage of crackers loading of 10% on the applicable contents rat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ence of hazardous goods up to 5% of total stock value allowed.</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ction IV. INDUSTRIAL MANUFACTURING RISK</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e provided in this section applicable for entire insured property.</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more than one product is manufactured in the same block highest rate applicable shall be charged overall.</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wo are more factories are located in the same compound in detached blocks, the rates are per se. For Common utilities highest rate of manufacturing block will be charged. </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wellings inside factory premises are  rated per-se under Graha Raksha.</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360"/>
            <a:ext cx="9144000" cy="662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 STAND ALONE UTILITY SERVI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I: GODOWNS AND WAREHOUS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Operations such as packing, sorting, mending, stitching, battery charging which do not materially altered will be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Presence of higher category is allowed upto 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Utilites and miscellaneous blocks shall be rated Re. 1.00%o.</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 Incidental open storage up to 2%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tion VII. TANK FOARMS AND GAS HOLDERS</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ll tanks located in the same dyke shall carry highest rate.</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Times New Roman"/>
              </a:rPr>
              <a:t>Utilities and miscellaneous blocks shall be rated Re. 1.00%o</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sociated properties such as Pumping stations, Compressor house, Blower house are rate applicable to respective gas holder/bullets/sphere vessels/Tanks.</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SUM INSURED</a:t>
            </a:r>
            <a:endParaRPr b="0" lang="en-US" sz="3600" spc="-1" strike="noStrike">
              <a:solidFill>
                <a:srgbClr val="000000"/>
              </a:solidFill>
              <a:latin typeface="Times New Roman"/>
            </a:endParaRPr>
          </a:p>
        </p:txBody>
      </p:sp>
      <p:sp>
        <p:nvSpPr>
          <p:cNvPr id="158" name=""/>
          <p:cNvSpPr txBox="1"/>
          <p:nvPr/>
        </p:nvSpPr>
        <p:spPr>
          <a:xfrm>
            <a:off x="533520" y="914040"/>
            <a:ext cx="7772400" cy="5715000"/>
          </a:xfrm>
          <a:prstGeom prst="rect">
            <a:avLst/>
          </a:prstGeom>
          <a:noFill/>
          <a:ln w="0">
            <a:noFill/>
          </a:ln>
        </p:spPr>
        <p:txBody>
          <a:bodyPr anchor="t">
            <a:normAutofit/>
          </a:bodyPr>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ALWAYS TO BE FIXED BY THE INSUR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MAXIMUM LIMIT OF LIABILITY UNDER THE POLICY</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AMOUNT ON WHICH THE RATE IS APPLIED TO ARRIVE AT THE PREMIUM.</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UM INSURED SHOULD REPRESENT THE ACTUAL VALUE OF THE PROPERTY INSURED. IF IT IS OVER INSURED  THERE IS NO BENEFIT TO THE INSURED; IF THERE IS UNDER INSURED THE CLAIM AMOUNT WILL BE PROPORTIONATELY  REDUCED BY APPLTING PRO RATA AVERAG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100"/>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ookman Old Style"/>
              </a:rPr>
              <a:t>INDEMNITY POLIC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cc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Bookman Old Style"/>
              </a:rPr>
              <a:t>REINSTATEMENT VALUE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 </a:t>
            </a:r>
            <a:br>
              <a:rPr sz="4400"/>
            </a:br>
            <a:r>
              <a:rPr b="1" lang="en-US" sz="4400" spc="-1" strike="noStrike">
                <a:solidFill>
                  <a:srgbClr val="ff0000"/>
                </a:solidFill>
                <a:latin typeface="Bookman Old Style"/>
              </a:rPr>
              <a:t>(SI ABOVE Rs 50 Crs)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SIMPLE RISK</a:t>
            </a:r>
            <a:endParaRPr b="0" lang="en-US" sz="3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OFFICE, HOSPITALS, HOTELS, SHOPS, CALL CENTERS</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INDUSTRIAL RISK</a:t>
            </a:r>
            <a:endParaRPr b="0" lang="en-US" sz="3200" spc="-1" strike="noStrike">
              <a:solidFill>
                <a:srgbClr val="000000"/>
              </a:solidFill>
              <a:latin typeface="Times New Roman"/>
            </a:endParaRPr>
          </a:p>
          <a:p>
            <a:pPr lvl="2" marL="914400">
              <a:lnSpc>
                <a:spcPct val="100000"/>
              </a:lnSpc>
              <a:spcBef>
                <a:spcPts val="601"/>
              </a:spcBef>
              <a:buClr>
                <a:srgbClr val="9900c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MANUFACTURING FACILITIES, GODOWNS,  TANKFARMS,UTILITY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048"/>
          <p:cNvGraphicFramePr/>
          <p:nvPr/>
        </p:nvGraphicFramePr>
        <p:xfrm>
          <a:off x="690480" y="247680"/>
          <a:ext cx="7666200" cy="9104400"/>
        </p:xfrm>
        <a:graphic>
          <a:graphicData uri="http://schemas.openxmlformats.org/presentationml/2006/ole">
            <p:oleObj progId="Word.Document.12" r:id="rId1" spid="">
              <p:embed/>
              <p:pic>
                <p:nvPicPr>
                  <p:cNvPr id="164" name="Object 2048" descr=""/>
                  <p:cNvPicPr/>
                  <p:nvPr/>
                </p:nvPicPr>
                <p:blipFill>
                  <a:blip r:embed="rId2"/>
                  <a:stretch/>
                </p:blipFill>
                <p:spPr>
                  <a:xfrm>
                    <a:off x="690480" y="247680"/>
                    <a:ext cx="7666200" cy="9104400"/>
                  </a:xfrm>
                  <a:prstGeom prst="rect">
                    <a:avLst/>
                  </a:prstGeom>
                  <a:ln w="57240">
                    <a:solidFill>
                      <a:srgbClr val="ff0000"/>
                    </a:solidFill>
                    <a:miter/>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048"/>
          <p:cNvGraphicFramePr/>
          <p:nvPr/>
        </p:nvGraphicFramePr>
        <p:xfrm>
          <a:off x="673200" y="681120"/>
          <a:ext cx="7737480" cy="5781600"/>
        </p:xfrm>
        <a:graphic>
          <a:graphicData uri="http://schemas.openxmlformats.org/presentationml/2006/ole">
            <p:oleObj progId="Word.Document.12" r:id="rId1" spid="">
              <p:embed/>
              <p:pic>
                <p:nvPicPr>
                  <p:cNvPr id="166" name="Object 2048" descr=""/>
                  <p:cNvPicPr/>
                  <p:nvPr/>
                </p:nvPicPr>
                <p:blipFill>
                  <a:blip r:embed="rId2"/>
                  <a:stretch/>
                </p:blipFill>
                <p:spPr>
                  <a:xfrm>
                    <a:off x="673200" y="681120"/>
                    <a:ext cx="7737480" cy="5781600"/>
                  </a:xfrm>
                  <a:prstGeom prst="rect">
                    <a:avLst/>
                  </a:prstGeom>
                  <a:ln w="9360">
                    <a:solidFill>
                      <a:srgbClr val="ff0000"/>
                    </a:solidFill>
                    <a:miter/>
                  </a:ln>
                </p:spPr>
              </p:pic>
            </p:oleObj>
          </a:graphicData>
        </a:graphic>
      </p:graphicFrame>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2048"/>
          <p:cNvGraphicFramePr/>
          <p:nvPr/>
        </p:nvGraphicFramePr>
        <p:xfrm>
          <a:off x="533520" y="1295280"/>
          <a:ext cx="7732440" cy="4875480"/>
        </p:xfrm>
        <a:graphic>
          <a:graphicData uri="http://schemas.openxmlformats.org/presentationml/2006/ole">
            <p:oleObj progId="Word.Document.12" r:id="rId1" spid="">
              <p:embed/>
              <p:pic>
                <p:nvPicPr>
                  <p:cNvPr id="168" name="Object 2048" descr=""/>
                  <p:cNvPicPr/>
                  <p:nvPr/>
                </p:nvPicPr>
                <p:blipFill>
                  <a:blip r:embed="rId2"/>
                  <a:stretch/>
                </p:blipFill>
                <p:spPr>
                  <a:xfrm>
                    <a:off x="533520" y="1295280"/>
                    <a:ext cx="7732440" cy="4875480"/>
                  </a:xfrm>
                  <a:prstGeom prst="rect">
                    <a:avLst/>
                  </a:prstGeom>
                  <a:ln w="9360">
                    <a:solidFill>
                      <a:srgbClr val="ff0000"/>
                    </a:solidFill>
                    <a:miter/>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PROPERTIES INSURED UNDER FIRE INSURANCE</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304920" y="1371240"/>
            <a:ext cx="8610480" cy="5257800"/>
          </a:xfrm>
          <a:prstGeom prst="rect">
            <a:avLst/>
          </a:prstGeom>
          <a:noFill/>
          <a:ln w="76320">
            <a:solidFill>
              <a:srgbClr val="0000ff"/>
            </a:solidFill>
            <a:miter/>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FIXED ASSE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cc00ff"/>
                </a:solidFill>
                <a:latin typeface="Bookman Old Style"/>
              </a:rPr>
              <a:t>BUILD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FURNITURE FIXTURE &amp;FITT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PLANT &amp; MACHINER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STOCK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9900"/>
                </a:solidFill>
                <a:latin typeface="Bookman Old Style"/>
              </a:rPr>
              <a:t>RAW MATE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WORK IN PROG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FINISHED GOOD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PACKING MATERI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0" lang="en-US" sz="2800" spc="-1" strike="noStrike">
                <a:solidFill>
                  <a:srgbClr val="ff9900"/>
                </a:solidFill>
                <a:latin typeface="Times New Roman"/>
              </a:rPr>
              <a:t>	</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REINSTATEMENT VALUE POLICY</a:t>
            </a:r>
            <a:endParaRPr b="0" lang="en-US" sz="3200" spc="-1" strike="noStrike">
              <a:solidFill>
                <a:srgbClr val="000000"/>
              </a:solidFill>
              <a:latin typeface="Times New Roman"/>
            </a:endParaRPr>
          </a:p>
        </p:txBody>
      </p:sp>
      <p:sp>
        <p:nvSpPr>
          <p:cNvPr id="170" name="PlaceHolder 2"/>
          <p:cNvSpPr>
            <a:spLocks noGrp="1"/>
          </p:cNvSpPr>
          <p:nvPr>
            <p:ph type="subTitle"/>
          </p:nvPr>
        </p:nvSpPr>
        <p:spPr>
          <a:xfrm>
            <a:off x="228600" y="838080"/>
            <a:ext cx="8686800" cy="601992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ONLY FOR BLDG, P&amp;M, FFF NOT FOR STOCK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PAYS NEW FOR OL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COMMENCEMENT OF REINSTAMENT HAS TO BE INTIMATED TO THE INSURER WITH IN 6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REINSTATEMENT OF THE DAMAGED PROPERTY SHOULD COMPLETE WITHIN 12 MONTHS FROM THE DATE OF LOSS</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REINSTATEMENT SHOULD BE ON SAME KIND/ TYPE BUT NOT SUPERIOR THAN THE ORIGINAL INSURED PROPER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REINSTATEMENT AT THE  SAME OR ANOTHER PLACE  IS ALLOWED</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LAIMS PAYABLE FULL &amp;  FINAL ONLY AFTER COMPLETION OF REPAIR/REINSTATEMENT</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FLOATER POLICY</a:t>
            </a:r>
            <a:endParaRPr b="0" lang="en-US" sz="3200" spc="-1" strike="noStrike">
              <a:solidFill>
                <a:srgbClr val="000000"/>
              </a:solidFill>
              <a:latin typeface="Times New Roman"/>
            </a:endParaRPr>
          </a:p>
        </p:txBody>
      </p:sp>
      <p:sp>
        <p:nvSpPr>
          <p:cNvPr id="172" name="PlaceHolder 2"/>
          <p:cNvSpPr>
            <a:spLocks noGrp="1"/>
          </p:cNvSpPr>
          <p:nvPr>
            <p:ph type="subTitle"/>
          </p:nvPr>
        </p:nvSpPr>
        <p:spPr>
          <a:xfrm>
            <a:off x="456840" y="1066680"/>
            <a:ext cx="8001000" cy="5181840"/>
          </a:xfrm>
          <a:prstGeom prst="rect">
            <a:avLst/>
          </a:prstGeom>
          <a:noFill/>
          <a:ln w="7632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STOCKS AT VARIOUS LOCATION UNDER ONE SUM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ookman Old Style"/>
              </a:rPr>
              <a:t>RULINGS</a:t>
            </a:r>
            <a:r>
              <a:rPr b="1" lang="en-US" sz="2400" spc="-1" strike="noStrike">
                <a:solidFill>
                  <a:srgbClr val="cc00ff"/>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UNSPECIFIED LOCATIONS ARE NOT ALLOWED</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HIGHEST RATE PLUS FLOATER EXTRA OF 10%</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RESENCE OF KUTCHA CONST MAY BE              IGNORED</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P in process block can be included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DECLARATION POLICY</a:t>
            </a:r>
            <a:endParaRPr b="0" lang="en-US" sz="3200" spc="-1" strike="noStrike">
              <a:solidFill>
                <a:srgbClr val="000000"/>
              </a:solidFill>
              <a:latin typeface="Times New Roman"/>
            </a:endParaRPr>
          </a:p>
        </p:txBody>
      </p:sp>
      <p:sp>
        <p:nvSpPr>
          <p:cNvPr id="174" name="PlaceHolder 2"/>
          <p:cNvSpPr>
            <a:spLocks noGrp="1"/>
          </p:cNvSpPr>
          <p:nvPr>
            <p:ph type="subTitle"/>
          </p:nvPr>
        </p:nvSpPr>
        <p:spPr>
          <a:xfrm>
            <a:off x="457200" y="1371600"/>
            <a:ext cx="8153280" cy="3276720"/>
          </a:xfrm>
          <a:prstGeom prst="rect">
            <a:avLst/>
          </a:prstGeom>
          <a:noFill/>
          <a:ln w="76320">
            <a:solidFill>
              <a:srgbClr val="0099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ISSUED FOR THE STOCKS WHERE THERE IS FREQUENT FLUCTUATIONS IN QUANDITY/ VALUE OF SUCH ST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Bookman Old Style"/>
              </a:rPr>
              <a:t>DECLARATION POLICY CONDITION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1066320"/>
            <a:ext cx="8534520" cy="5410440"/>
          </a:xfrm>
          <a:prstGeom prst="rect">
            <a:avLst/>
          </a:prstGeom>
          <a:noFill/>
          <a:ln w="76320">
            <a:solidFill>
              <a:srgbClr val="3333cc"/>
            </a:solidFill>
            <a:miter/>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he minimum Sum Insured shall be </a:t>
            </a:r>
            <a:r>
              <a:rPr b="1" lang="en-US" sz="2400" spc="-1" strike="noStrike">
                <a:solidFill>
                  <a:srgbClr val="ff0000"/>
                </a:solidFill>
                <a:latin typeface="Bookman Old Style"/>
              </a:rPr>
              <a:t>Rs.1 Crore</a:t>
            </a:r>
            <a:r>
              <a:rPr b="1" lang="en-US" sz="2400" spc="-1" strike="noStrike">
                <a:solidFill>
                  <a:srgbClr val="3333cc"/>
                </a:solidFill>
                <a:latin typeface="Bookman Old Style"/>
              </a:rPr>
              <a:t> in one or more  location and the SI shall not be less than </a:t>
            </a:r>
            <a:r>
              <a:rPr b="1" lang="en-US" sz="2400" spc="-1" strike="noStrike">
                <a:solidFill>
                  <a:srgbClr val="ff0000"/>
                </a:solidFill>
                <a:latin typeface="Bookman Old Style"/>
              </a:rPr>
              <a:t>Rs.25 lacs</a:t>
            </a:r>
            <a:r>
              <a:rPr b="1" lang="en-US" sz="2400" spc="-1" strike="noStrike">
                <a:solidFill>
                  <a:srgbClr val="3333cc"/>
                </a:solidFill>
                <a:latin typeface="Bookman Old Style"/>
              </a:rPr>
              <a:t> in at least one of these location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Monthly declarations based on </a:t>
            </a:r>
            <a:r>
              <a:rPr b="1" i="1" lang="en-US" sz="2400" spc="-1" strike="noStrike">
                <a:solidFill>
                  <a:srgbClr val="3333cc"/>
                </a:solidFill>
                <a:latin typeface="Bookman Old Style"/>
              </a:rPr>
              <a:t>the average of the values at risk on each day</a:t>
            </a:r>
            <a:r>
              <a:rPr b="1" lang="en-US" sz="2400" spc="-1" strike="noStrike">
                <a:solidFill>
                  <a:srgbClr val="3333cc"/>
                </a:solidFill>
                <a:latin typeface="Bookman Old Style"/>
              </a:rPr>
              <a:t> of </a:t>
            </a:r>
            <a:r>
              <a:rPr b="1" i="1" lang="en-US" sz="2400" spc="-1" strike="noStrike">
                <a:solidFill>
                  <a:srgbClr val="3333cc"/>
                </a:solidFill>
                <a:latin typeface="Bookman Old Style"/>
              </a:rPr>
              <a:t>the month</a:t>
            </a:r>
            <a:r>
              <a:rPr b="1" lang="en-US" sz="2400" spc="-1" strike="noStrike">
                <a:solidFill>
                  <a:srgbClr val="3333cc"/>
                </a:solidFill>
                <a:latin typeface="Bookman Old Style"/>
              </a:rPr>
              <a:t> or the </a:t>
            </a:r>
            <a:r>
              <a:rPr b="1" i="1" lang="en-US" sz="2400" spc="-1" strike="noStrike">
                <a:solidFill>
                  <a:srgbClr val="3333cc"/>
                </a:solidFill>
                <a:latin typeface="Bookman Old Style"/>
              </a:rPr>
              <a:t>highest value at risk during the month</a:t>
            </a:r>
            <a:r>
              <a:rPr b="1" lang="en-US" sz="2400" spc="-1" strike="noStrike">
                <a:solidFill>
                  <a:srgbClr val="3333cc"/>
                </a:solidFill>
                <a:latin typeface="Bookman Old Style"/>
              </a:rPr>
              <a:t> shall be submitted by the insured latest by the last day of the succeeding month. If declarations are not received within the specified period, the full sum insured under the policy shall be deemed to have been declared.</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ookman Old Style"/>
              </a:rPr>
              <a:t>DECLARATION POLICY CONDITIONS</a:t>
            </a:r>
            <a:endParaRPr b="0" lang="en-US" sz="3200" spc="-1" strike="noStrike">
              <a:solidFill>
                <a:srgbClr val="000000"/>
              </a:solidFill>
              <a:latin typeface="Times New Roman"/>
            </a:endParaRPr>
          </a:p>
        </p:txBody>
      </p:sp>
      <p:sp>
        <p:nvSpPr>
          <p:cNvPr id="178" name="PlaceHolder 2"/>
          <p:cNvSpPr>
            <a:spLocks noGrp="1"/>
          </p:cNvSpPr>
          <p:nvPr>
            <p:ph/>
          </p:nvPr>
        </p:nvSpPr>
        <p:spPr>
          <a:xfrm>
            <a:off x="228600" y="990720"/>
            <a:ext cx="8610480" cy="586728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duction in sum insured shall not be allowed under any circumstanc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fund of premium on adjustment based on the declarations / cancellations shall not exceed 50% of the total premium.</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nly on annual policy.</a:t>
            </a:r>
            <a:endParaRPr b="0" lang="en-US" sz="2400" spc="-1" strike="noStrike">
              <a:solidFill>
                <a:srgbClr val="000000"/>
              </a:solidFill>
              <a:latin typeface="Times New Roman"/>
            </a:endParaRPr>
          </a:p>
          <a:p>
            <a:pPr marL="343080" indent="-343080" algn="just">
              <a:lnSpc>
                <a:spcPct val="100000"/>
              </a:lnSpc>
              <a:spcBef>
                <a:spcPts val="601"/>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The basis of value for declaration shall be the Market Value EXCLUDING PROFIT.</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t is not permissible to issue Declaration Policy in respect of</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Insurance required for a short period.</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undergoing process</a:t>
            </a:r>
            <a:endParaRPr b="0" lang="en-US" sz="2400" spc="-1" strike="noStrike">
              <a:solidFill>
                <a:srgbClr val="000000"/>
              </a:solidFill>
              <a:latin typeface="Times New Roman"/>
            </a:endParaRPr>
          </a:p>
          <a:p>
            <a:pPr lvl="1" marL="743040" indent="-285840" algn="just">
              <a:lnSpc>
                <a:spcPct val="100000"/>
              </a:lnSpc>
              <a:spcBef>
                <a:spcPts val="499"/>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at Railway sidings</a:t>
            </a:r>
            <a:r>
              <a:rPr b="0" i="1"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Under declaration will cause reduction in claim payab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Bookman Old Style"/>
              </a:rPr>
              <a:t>FLOATER DECLARATION POLICY</a:t>
            </a:r>
            <a:endParaRPr b="0" lang="en-US" sz="2800" spc="-1" strike="noStrike">
              <a:solidFill>
                <a:srgbClr val="000000"/>
              </a:solidFill>
              <a:latin typeface="Times New Roman"/>
            </a:endParaRPr>
          </a:p>
        </p:txBody>
      </p:sp>
      <p:sp>
        <p:nvSpPr>
          <p:cNvPr id="180" name="PlaceHolder 2"/>
          <p:cNvSpPr>
            <a:spLocks noGrp="1"/>
          </p:cNvSpPr>
          <p:nvPr>
            <p:ph type="subTitle"/>
          </p:nvPr>
        </p:nvSpPr>
        <p:spPr>
          <a:xfrm>
            <a:off x="304560" y="609120"/>
            <a:ext cx="8458200" cy="5867640"/>
          </a:xfrm>
          <a:prstGeom prst="rect">
            <a:avLst/>
          </a:prstGeom>
          <a:noFill/>
          <a:ln w="76320">
            <a:solidFill>
              <a:srgbClr val="ff0000"/>
            </a:solidFill>
            <a:miter/>
          </a:ln>
        </p:spPr>
        <p:txBody>
          <a:bodyPr anchor="t">
            <a:no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ssued for stocks at various locations               under one sum insured anywhere in India with specified locations.</a:t>
            </a:r>
            <a:endParaRPr b="0" lang="en-US" sz="2800" spc="-1" strike="noStrike">
              <a:solidFill>
                <a:srgbClr val="000000"/>
              </a:solidFill>
              <a:latin typeface="Times New Roman"/>
            </a:endParaRPr>
          </a:p>
          <a:p>
            <a:pPr algn="just">
              <a:lnSpc>
                <a:spcPct val="100000"/>
              </a:lnSpc>
              <a:spcBef>
                <a:spcPts val="700"/>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Bookman Old Style"/>
              </a:rPr>
              <a:t>Minimum S.I. Of Rs. 2 crores under the policy.</a:t>
            </a:r>
            <a:endParaRPr b="0" lang="en-US" sz="2800" spc="-1" strike="noStrike">
              <a:solidFill>
                <a:srgbClr val="000000"/>
              </a:solidFill>
              <a:latin typeface="Times New Roman"/>
            </a:endParaRPr>
          </a:p>
          <a:p>
            <a:pPr algn="just">
              <a:lnSpc>
                <a:spcPct val="100000"/>
              </a:lnSpc>
              <a:spcBef>
                <a:spcPts val="700"/>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man Old Style"/>
              </a:rPr>
              <a:t>Minimum retention shall be 80% of the Annual Premium.</a:t>
            </a:r>
            <a:endParaRPr b="0" lang="en-US" sz="2800" spc="-1" strike="noStrike">
              <a:solidFill>
                <a:srgbClr val="000000"/>
              </a:solidFill>
              <a:latin typeface="Times New Roman"/>
            </a:endParaRPr>
          </a:p>
          <a:p>
            <a:pPr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The rate shall be highest rate applicable to insured’s stocks at any locations with the loading of 10%.</a:t>
            </a:r>
            <a:endParaRPr b="0" lang="en-US" sz="2800" spc="-1" strike="noStrike">
              <a:solidFill>
                <a:srgbClr val="000000"/>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6cf8"/>
                </a:solidFill>
                <a:latin typeface="Bookman Old Style"/>
              </a:rPr>
              <a:t>ADD-ON COVER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609480"/>
            <a:ext cx="7772400" cy="6019920"/>
          </a:xfrm>
          <a:prstGeom prst="rect">
            <a:avLst/>
          </a:prstGeom>
          <a:noFill/>
          <a:ln w="57240">
            <a:solidFill>
              <a:srgbClr val="ff00ff"/>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Bookman Old Style"/>
              </a:rPr>
              <a:t>Standard Fire and Special Peril Policy can be extended to include the following cover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rchitects, Surveyors and Consulting Engineer’s Fees (in excess of 3%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bris Removal (in excess of 1%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terioration of Stocks in Cold Storage premises due to power failure following damage due to an insured peril.</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orest Fire.</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mpact Damage due to Insured’s Own Vehicles, Fork lifts and the like and articles dropped therefrom.</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8487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dd on cover conti..</a:t>
            </a:r>
            <a:endParaRPr b="0" lang="en-US" sz="3600" spc="-1" strike="noStrike">
              <a:solidFill>
                <a:srgbClr val="000000"/>
              </a:solidFill>
              <a:latin typeface="Times New Roman"/>
            </a:endParaRPr>
          </a:p>
        </p:txBody>
      </p:sp>
      <p:sp>
        <p:nvSpPr>
          <p:cNvPr id="184" name="PlaceHolder 2"/>
          <p:cNvSpPr>
            <a:spLocks noGrp="1"/>
          </p:cNvSpPr>
          <p:nvPr>
            <p:ph type="subTitle"/>
          </p:nvPr>
        </p:nvSpPr>
        <p:spPr>
          <a:xfrm>
            <a:off x="457200" y="914400"/>
            <a:ext cx="8305920" cy="5562720"/>
          </a:xfrm>
          <a:prstGeom prst="rect">
            <a:avLst/>
          </a:prstGeom>
          <a:noFill/>
          <a:ln w="76320">
            <a:solidFill>
              <a:srgbClr val="ff6600"/>
            </a:solidFill>
            <a:miter/>
          </a:ln>
        </p:spPr>
        <p:txBody>
          <a:bodyPr anchor="t">
            <a:noAutofit/>
          </a:bodyPr>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ntaneous Combus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mission to insured additions, alternations or extens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Earthquake (Fire and Shock).</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ilage Material damage cover </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eakage and Contamination cover where the Tanks are with in the Insured’s own premises and located elsewher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emporary Removal of Stocks Claus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oss of Rent</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lternate accommoda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tart up Expens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Spontaneous Combustion </a:t>
            </a: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228240" y="685800"/>
            <a:ext cx="8915400" cy="5943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ategory I : Low or Non- existan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gasee, Black Pepper, Grains/Seeds, Molasses, Scrap leather, Spices, Sugar, Sulphur, Saw dust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ategogry II : Modera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tton seed oil, Copra Cake, Urea, wheat husk, soyabean oil, Maize o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II: Vari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oaltar, Fire wood, Gunnies or Bardan, Paints and varnish, rags, sodium Nitrate, Yellow Phosphrous,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V: Hig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al, Fish Meal/oil, Nitro Cellulose Lacquers, Synthetic enamels, Varnished Fabrics, oiled clothing / fabrics, Sponge Iron,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696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NDUSTRIAL ALL RISK POLICY</a:t>
            </a:r>
            <a:endParaRPr b="0" lang="en-US" sz="2800" spc="-1" strike="noStrike">
              <a:solidFill>
                <a:srgbClr val="000000"/>
              </a:solidFill>
              <a:latin typeface="Times New Roman"/>
            </a:endParaRPr>
          </a:p>
        </p:txBody>
      </p:sp>
      <p:sp>
        <p:nvSpPr>
          <p:cNvPr id="188" name="PlaceHolder 2"/>
          <p:cNvSpPr>
            <a:spLocks noGrp="1"/>
          </p:cNvSpPr>
          <p:nvPr>
            <p:ph/>
          </p:nvPr>
        </p:nvSpPr>
        <p:spPr>
          <a:xfrm>
            <a:off x="380520" y="837720"/>
            <a:ext cx="8534520" cy="5791320"/>
          </a:xfrm>
          <a:prstGeom prst="rect">
            <a:avLst/>
          </a:prstGeom>
          <a:noFill/>
          <a:ln w="76320">
            <a:solidFill>
              <a:srgbClr val="9900cc"/>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ACKAGE COVER DESIGNED FOR INDUSTRIAL RISK WHOSE SUM INSURED IS Rs. 100 CRORES AND ABOVE IN ONE OR MORE LOCATION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FIRE &amp; SPECIAL PERIL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RGLAR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SINESS INTERRUP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CHINERY BREAKDOWN/BOILER EXPLOSION/ELECTRONIC EQUIPMENTS INSURANCE</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UNDER INSURANCE TO THE EXTENT OF 15% IS WAIV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NO DEPRICIATION IS DEDUCTED IN MB TOTAL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1320"/>
            <a:ext cx="79246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 NOTIFICATION OF SFSP AND ONTRODUCTION OF 3 NEW PRODUCTS IN FIRE LOB</a:t>
            </a:r>
            <a:endParaRPr b="0" lang="en-US" sz="2000" spc="-1" strike="noStrike">
              <a:solidFill>
                <a:srgbClr val="000000"/>
              </a:solidFill>
              <a:latin typeface="Times New Roman"/>
            </a:endParaRPr>
          </a:p>
        </p:txBody>
      </p:sp>
      <p:sp>
        <p:nvSpPr>
          <p:cNvPr id="57" name="PlaceHolder 2"/>
          <p:cNvSpPr>
            <a:spLocks noGrp="1"/>
          </p:cNvSpPr>
          <p:nvPr>
            <p:ph type="subTitle"/>
          </p:nvPr>
        </p:nvSpPr>
        <p:spPr>
          <a:xfrm>
            <a:off x="1447560" y="1218960"/>
            <a:ext cx="6553080" cy="5638680"/>
          </a:xfrm>
          <a:prstGeom prst="rect">
            <a:avLst/>
          </a:prstGeom>
          <a:noFill/>
          <a:ln w="0">
            <a:noFill/>
          </a:ln>
        </p:spPr>
        <p:txBody>
          <a:bodyPr anchor="t">
            <a:noAutofit/>
          </a:bodyPr>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NOTIFICATION DATED 28/12/2020</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ea typeface="Arial"/>
              </a:rPr>
              <a:t>AIFT 2001 TARIFF GR, TERMS,CONDITIONS, CLAUSES WARRANTIES,POLICY,ADD-ONS, ENDORSEMENT WORDINGS AND PROPOSAL FORMAPPLICABLE FOR THE NEW 3 PRODUCTS ARE DENOTIFIED WEF 01.04.2021 FORM THE EXISTING SF&amp;SP POLICY</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RISK RATEABLE SEC III (EXCL DWELLINGS),IV,V,VI AND VII WHERE THE TOTAL VALUE AT RISK NOT EXCEED Rs.50 CRORES ACROSS ALL ASSET CLASSES AT ANY ONE LOCATION</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CLAIM FORM</a:t>
            </a:r>
            <a:endParaRPr b="0" lang="en-US" sz="3200" spc="-1" strike="noStrike">
              <a:solidFill>
                <a:srgbClr val="000000"/>
              </a:solidFill>
              <a:latin typeface="Times New Roman"/>
            </a:endParaRPr>
          </a:p>
        </p:txBody>
      </p:sp>
      <p:sp>
        <p:nvSpPr>
          <p:cNvPr id="190" name="PlaceHolder 2"/>
          <p:cNvSpPr>
            <a:spLocks noGrp="1"/>
          </p:cNvSpPr>
          <p:nvPr>
            <p:ph type="subTitle"/>
          </p:nvPr>
        </p:nvSpPr>
        <p:spPr>
          <a:xfrm>
            <a:off x="457200" y="456840"/>
            <a:ext cx="8229600" cy="6172200"/>
          </a:xfrm>
          <a:prstGeom prst="rect">
            <a:avLst/>
          </a:prstGeom>
          <a:noFill/>
          <a:ln w="76320">
            <a:solidFill>
              <a:srgbClr val="0000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NAME AND ADDRESS OF THE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2. DATE OF LOSS, TIME AND PLACE WHERE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    </a:t>
            </a:r>
            <a:r>
              <a:rPr b="1" lang="en-US" sz="2400" spc="-1" strike="noStrike">
                <a:solidFill>
                  <a:srgbClr val="99cc00"/>
                </a:solidFill>
                <a:latin typeface="Bookman Old Style"/>
              </a:rPr>
              <a:t>FIRE START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3. CAUSE OF 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4. EXTENT OF DAMAGE, VALUE AT THE TIM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LOSS, SALVAGE AND THE AMOU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5. DETAILS OF OTHER POLICIES OF THE SAM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PROPERTY COVERED BY OTHER INSUR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URVEY REPORT</a:t>
            </a:r>
            <a:endParaRPr b="0" lang="en-US" sz="3200" spc="-1" strike="noStrike">
              <a:solidFill>
                <a:srgbClr val="000000"/>
              </a:solidFill>
              <a:latin typeface="Times New Roman"/>
            </a:endParaRPr>
          </a:p>
        </p:txBody>
      </p:sp>
      <p:sp>
        <p:nvSpPr>
          <p:cNvPr id="192" name="PlaceHolder 2"/>
          <p:cNvSpPr>
            <a:spLocks noGrp="1"/>
          </p:cNvSpPr>
          <p:nvPr>
            <p:ph/>
          </p:nvPr>
        </p:nvSpPr>
        <p:spPr>
          <a:xfrm>
            <a:off x="762120" y="761760"/>
            <a:ext cx="8076960" cy="5562360"/>
          </a:xfrm>
          <a:prstGeom prst="rect">
            <a:avLst/>
          </a:prstGeom>
          <a:noFill/>
          <a:ln w="76320">
            <a:solidFill>
              <a:srgbClr val="cc00cc"/>
            </a:solidFill>
            <a:miter/>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ASUE OF LOS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EXTENT OF DAMAGE</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UNDER INSURANCE IF ANY</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ALVAGE DETAIL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DETAILS OF EXPENC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OMPLAINCE OF POLICY CONDITIONS AND WARRANTI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PECIFIC COMENT ON ADMISIBILITY OF THE CLAIM UNDER THE POLICY</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TROCHEMICAL RISK</a:t>
            </a:r>
            <a:endParaRPr b="0" lang="en-US" sz="2400" spc="-1" strike="noStrike">
              <a:solidFill>
                <a:srgbClr val="000000"/>
              </a:solidFill>
              <a:latin typeface="Times New Roman"/>
            </a:endParaRPr>
          </a:p>
        </p:txBody>
      </p:sp>
      <p:sp>
        <p:nvSpPr>
          <p:cNvPr id="194" name=""/>
          <p:cNvSpPr txBox="1"/>
          <p:nvPr/>
        </p:nvSpPr>
        <p:spPr>
          <a:xfrm>
            <a:off x="533520" y="837720"/>
            <a:ext cx="8153280" cy="525780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ASSIFICATION OF INFLAMMABLE MATERIA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A: PRODUCTS ARE THOSE HAVING FLASH POINT BELOW A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 TO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B: PRODUCTS ARE THOSE HAVING FLASH POINT ABOVE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C: PRODUCTS ARE THOSE HAVING FLASH POINT ABOVE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D: PRODUCTS ARE THOSE HAVING FLASH POINT ABOVE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ELIGIBILITY SCOPE FOR PC TARIFF</a:t>
            </a:r>
            <a:endParaRPr b="0" lang="en-US" sz="2400" spc="-1" strike="noStrike">
              <a:solidFill>
                <a:srgbClr val="000000"/>
              </a:solidFill>
              <a:latin typeface="Times New Roman"/>
            </a:endParaRPr>
          </a:p>
        </p:txBody>
      </p:sp>
      <p:sp>
        <p:nvSpPr>
          <p:cNvPr id="196" name=""/>
          <p:cNvSpPr txBox="1"/>
          <p:nvPr/>
        </p:nvSpPr>
        <p:spPr>
          <a:xfrm>
            <a:off x="685800" y="990360"/>
            <a:ext cx="7772400" cy="5105160"/>
          </a:xfrm>
          <a:prstGeom prst="rect">
            <a:avLst/>
          </a:prstGeom>
          <a:noFill/>
          <a:ln w="0">
            <a:noFill/>
          </a:ln>
        </p:spPr>
        <p:txBody>
          <a:bodyPr anchor="t">
            <a:normAutofit fontScale="98000"/>
          </a:bodyPr>
          <a:p>
            <a:pPr marL="447840" indent="-447840">
              <a:lnSpc>
                <a:spcPct val="10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ISKS USING CLASS A AND/OR CLAS B HYDROCARBON / NATURAL GAS AS BASIC RAW MATERIAL AND</a:t>
            </a:r>
            <a:endParaRPr b="0" lang="en-US" sz="2000" spc="-1" strike="noStrike">
              <a:solidFill>
                <a:srgbClr val="000000"/>
              </a:solidFill>
              <a:latin typeface="Times New Roman"/>
            </a:endParaRPr>
          </a:p>
          <a:p>
            <a:pPr marL="447840" indent="-447840">
              <a:lnSpc>
                <a:spcPct val="100000"/>
              </a:lnSpc>
              <a:spcBef>
                <a:spcPts val="499"/>
              </a:spcBef>
              <a:buClr>
                <a:srgbClr val="d600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ea typeface="Arial"/>
              </a:rPr>
              <a:t>RISKS WHERE THE TOTAL SUM INSURED IN ONE COMPOUND/ COMPLEX EXCEEDS Rs. 50 CRORES AND</a:t>
            </a:r>
            <a:endParaRPr b="0" lang="en-US" sz="2000" spc="-1" strike="noStrike">
              <a:solidFill>
                <a:srgbClr val="000000"/>
              </a:solidFill>
              <a:latin typeface="Times New Roman"/>
            </a:endParaRPr>
          </a:p>
          <a:p>
            <a:pPr marL="447840" indent="-447840">
              <a:lnSpc>
                <a:spcPct val="10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RISKS WHERE THE SUM INSURED OF PLANT(S) USING HYDROCARBON (CLASS A/CLASS B)/ NATURAL GAS AS BASIC RAW MATERIAL IS IN EXCESS OF 35% OF THE TOTAL SUM INSURED OF THE RISK.</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WAY FROM PC SCOPE:</a:t>
            </a: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SIC RM ARE NOT HYDROCARBON BUT FINAL PRODUCT IS CLASS A OR B</a:t>
            </a:r>
            <a:endParaRPr b="0" lang="en-US" sz="2000" spc="-1" strike="noStrike">
              <a:solidFill>
                <a:srgbClr val="000000"/>
              </a:solidFill>
              <a:latin typeface="Times New Roman"/>
            </a:endParaRPr>
          </a:p>
          <a:p>
            <a:pPr marL="447840" indent="-447840">
              <a:lnSpc>
                <a:spcPct val="100000"/>
              </a:lnSpc>
              <a:spcBef>
                <a:spcPts val="499"/>
              </a:spcBef>
              <a:buClr>
                <a:srgbClr val="cc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LPG BOTTLING PLANT AND SIMILAR LOCATED OUTSIDE THE REFINERY</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PC RATING FACTORS</a:t>
            </a:r>
            <a:endParaRPr b="0" lang="en-US" sz="3200" spc="-1" strike="noStrike">
              <a:solidFill>
                <a:srgbClr val="000000"/>
              </a:solidFill>
              <a:latin typeface="Times New Roman"/>
            </a:endParaRPr>
          </a:p>
        </p:txBody>
      </p:sp>
      <p:sp>
        <p:nvSpPr>
          <p:cNvPr id="198" name=""/>
          <p:cNvSpPr txBox="1"/>
          <p:nvPr/>
        </p:nvSpPr>
        <p:spPr>
          <a:xfrm>
            <a:off x="304560" y="990360"/>
            <a:ext cx="8305560" cy="5105160"/>
          </a:xfrm>
          <a:prstGeom prst="rect">
            <a:avLst/>
          </a:prstGeom>
          <a:noFill/>
          <a:ln w="0">
            <a:noFill/>
          </a:ln>
        </p:spPr>
        <p:txBody>
          <a:bodyPr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PROCESS UNIT</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OPERATING TEMPRATUREAND PRESSUR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PROPERTIES OF CHEMICAL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QUALITY OF FLAMMABLE MATERIALS HANDLED</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RM, SOLVENTS, INTERMEDIATES FOR FINISHED GOODS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FIRE CONSEQUENTIAL LOSS</a:t>
            </a:r>
            <a:endParaRPr b="0" lang="en-US" sz="2800" spc="-1" strike="noStrike">
              <a:solidFill>
                <a:srgbClr val="000000"/>
              </a:solidFill>
              <a:latin typeface="Times New Roman"/>
            </a:endParaRPr>
          </a:p>
        </p:txBody>
      </p:sp>
      <p:sp>
        <p:nvSpPr>
          <p:cNvPr id="200" name=""/>
          <p:cNvSpPr txBox="1"/>
          <p:nvPr/>
        </p:nvSpPr>
        <p:spPr>
          <a:xfrm>
            <a:off x="152280" y="990360"/>
            <a:ext cx="876312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SCOPE:  CL (FIRE) INDEMNIFIES  LOSS OF GROS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                </a:t>
            </a:r>
            <a:r>
              <a:rPr b="0" lang="en-US" sz="2400" spc="-1" strike="noStrike">
                <a:solidFill>
                  <a:srgbClr val="009900"/>
                </a:solidFill>
                <a:latin typeface="Arial"/>
                <a:ea typeface="Arial"/>
              </a:rPr>
              <a:t>PROFIT (TRADING LOSSES) DUE T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REDUCTION IN TURNOVER DURING INTERRUPTION </a:t>
            </a: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NCREASE IN COST OF WORK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SUM INSURED: NET PROFIT +STANDING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LES = NET PROFIT + STANDING CHARGES + VARIABLE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STANDING CHARGES: FIXED CHARGES. SALARY, RENT ETC</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VARIABLE CHARGES : VARY DEPENDS UPON PRODUCTION . R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MPORTANT TERMS </a:t>
            </a:r>
            <a:endParaRPr b="0" lang="en-US" sz="2800" spc="-1" strike="noStrike">
              <a:solidFill>
                <a:srgbClr val="000000"/>
              </a:solidFill>
              <a:latin typeface="Times New Roman"/>
            </a:endParaRPr>
          </a:p>
        </p:txBody>
      </p:sp>
      <p:sp>
        <p:nvSpPr>
          <p:cNvPr id="202" name="PlaceHolder 2"/>
          <p:cNvSpPr>
            <a:spLocks noGrp="1"/>
          </p:cNvSpPr>
          <p:nvPr>
            <p:ph type="subTitle"/>
          </p:nvPr>
        </p:nvSpPr>
        <p:spPr>
          <a:xfrm>
            <a:off x="228600" y="685440"/>
            <a:ext cx="8686800" cy="6172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TOTAL COST = FIXED COST + SPECIFIED WORKING EXPENC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ROSS PROFIT = TURNOVER  - VARIABLE COST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                               </a:t>
            </a:r>
            <a:r>
              <a:rPr b="1" lang="en-US" sz="2000" spc="-1" strike="noStrike">
                <a:solidFill>
                  <a:srgbClr val="009900"/>
                </a:solidFill>
                <a:latin typeface="Times New Roman"/>
              </a:rPr>
              <a:t>= NET PROFIT + FIXED COS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GROSS PROFIT (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INSURED STANDING CHARGES – {NET LOSS X </a:t>
            </a:r>
            <a:r>
              <a:rPr b="1" lang="en-US" sz="2000" spc="-1" strike="noStrike" u="sng">
                <a:solidFill>
                  <a:srgbClr val="d60093"/>
                </a:solidFill>
                <a:uFillTx/>
                <a:latin typeface="Times New Roman"/>
              </a:rPr>
              <a:t>INSURED SC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                                                                                               </a:t>
            </a:r>
            <a:r>
              <a:rPr b="1" lang="en-US" sz="2000" spc="-1" strike="noStrike">
                <a:solidFill>
                  <a:srgbClr val="d60093"/>
                </a:solidFill>
                <a:latin typeface="Times New Roman"/>
              </a:rPr>
              <a:t>ALL S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ROSS PROFIT (DIFFERENCE BASI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O + CLOSING STOCK]- [OPENING STOCK + SPECIFIED WORKING EXPENC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ATE OF GROSS PROFIT = </a:t>
            </a:r>
            <a:r>
              <a:rPr b="1" lang="en-US" sz="2000" spc="-1" strike="noStrike" u="sng">
                <a:solidFill>
                  <a:srgbClr val="3333cc"/>
                </a:solidFill>
                <a:uFillTx/>
                <a:latin typeface="Times New Roman"/>
              </a:rPr>
              <a:t>PREV YEAR GROSS PROFIT   </a:t>
            </a:r>
            <a:r>
              <a:rPr b="1" lang="en-US" sz="2000" spc="-1" strike="noStrike">
                <a:solidFill>
                  <a:srgbClr val="3333cc"/>
                </a:solidFill>
                <a:latin typeface="Times New Roman"/>
              </a:rPr>
              <a:t>X 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PREV YEAR FIN TURN 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REDUCTION IN TURN OVER = STANDARD  TURN OVER – TURN OVER  DURING INTERRUPTION PERIO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OSS OF GROSS PROFIT = RGP/100 X REDUCTION IN TURN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a:solidFill>
                  <a:srgbClr val="d60093"/>
                </a:solidFill>
                <a:latin typeface="Arial"/>
                <a:ea typeface="Arial"/>
              </a:rPr>
              <a:t>FINANCIAL  YEAR TURN OVER: </a:t>
            </a:r>
            <a:br>
              <a:rPr sz="1800"/>
            </a:br>
            <a:r>
              <a:rPr b="1" lang="en-US" sz="2000" spc="-1" strike="noStrike">
                <a:solidFill>
                  <a:srgbClr val="336600"/>
                </a:solidFill>
                <a:latin typeface="Arial"/>
                <a:ea typeface="Arial"/>
              </a:rPr>
              <a:t>IN LINE WITH INSURD’S ACCOUNTS CLOSING YEAR.</a:t>
            </a:r>
            <a:br>
              <a:rPr sz="1800"/>
            </a:br>
            <a:br>
              <a:rPr sz="1800"/>
            </a:br>
            <a:r>
              <a:rPr b="1" lang="en-US" sz="2400" spc="-1" strike="noStrike">
                <a:solidFill>
                  <a:srgbClr val="ff0000"/>
                </a:solidFill>
                <a:latin typeface="Arial"/>
                <a:ea typeface="Arial"/>
              </a:rPr>
              <a:t>% OF RATE OF GROSS PROFIT:</a:t>
            </a:r>
            <a:br>
              <a:rPr sz="2400"/>
            </a:br>
            <a:r>
              <a:rPr b="1" lang="en-US" sz="2000" spc="-1" strike="noStrike">
                <a:solidFill>
                  <a:srgbClr val="0033cc"/>
                </a:solidFill>
                <a:latin typeface="Arial"/>
                <a:ea typeface="Arial"/>
              </a:rPr>
              <a:t>= </a:t>
            </a:r>
            <a:r>
              <a:rPr b="1" lang="en-US" sz="2000" spc="-1" strike="noStrike" u="sng">
                <a:solidFill>
                  <a:srgbClr val="0033cc"/>
                </a:solidFill>
                <a:uFillTx/>
                <a:latin typeface="Arial"/>
                <a:ea typeface="Arial"/>
              </a:rPr>
              <a:t>GROSS PROFIT (PREVIOUS YEAR)              </a:t>
            </a:r>
            <a:r>
              <a:rPr b="1" lang="en-US" sz="2000" spc="-1" strike="noStrike">
                <a:solidFill>
                  <a:srgbClr val="0033cc"/>
                </a:solidFill>
                <a:latin typeface="Arial"/>
                <a:ea typeface="Arial"/>
              </a:rPr>
              <a:t>X 100</a:t>
            </a:r>
            <a:br>
              <a:rPr sz="2000"/>
            </a:br>
            <a:r>
              <a:rPr b="1" lang="en-US" sz="2000" spc="-1" strike="noStrike">
                <a:solidFill>
                  <a:srgbClr val="0033cc"/>
                </a:solidFill>
                <a:latin typeface="Arial"/>
                <a:ea typeface="Arial"/>
              </a:rPr>
              <a:t>   FINANCIAL YEAR TURNOVER (PREV YEAR)</a:t>
            </a:r>
            <a:br>
              <a:rPr sz="2000"/>
            </a:br>
            <a:br>
              <a:rPr sz="2400"/>
            </a:br>
            <a:r>
              <a:rPr b="1" lang="en-US" sz="2400" spc="-1" strike="noStrike">
                <a:solidFill>
                  <a:srgbClr val="0033cc"/>
                </a:solidFill>
                <a:latin typeface="Arial"/>
                <a:ea typeface="Arial"/>
              </a:rPr>
              <a:t>STANDARD TURNOVER: </a:t>
            </a:r>
            <a:r>
              <a:rPr b="1" lang="en-US" sz="2000" spc="-1" strike="noStrike">
                <a:solidFill>
                  <a:srgbClr val="ff0000"/>
                </a:solidFill>
                <a:latin typeface="Arial"/>
                <a:ea typeface="Arial"/>
              </a:rPr>
              <a:t>TURN OVER DURING THAT PERIOD IN THE 12 MONTHS BEFORE THE DATE OF DAMAGE WHICH CORRESPONDS  WITH THE ACTUAL INDEMNITY PERIOD.</a:t>
            </a:r>
            <a:br>
              <a:rPr sz="2000"/>
            </a:br>
            <a:br>
              <a:rPr sz="2000"/>
            </a:br>
            <a:r>
              <a:rPr b="1" lang="en-US" sz="2400" spc="-1" strike="noStrike">
                <a:solidFill>
                  <a:srgbClr val="00b050"/>
                </a:solidFill>
                <a:latin typeface="Arial"/>
                <a:ea typeface="Arial"/>
              </a:rPr>
              <a:t>ANNUAL TURNOVER:</a:t>
            </a:r>
            <a:r>
              <a:rPr b="1" lang="en-US" sz="2000" spc="-1" strike="noStrike">
                <a:solidFill>
                  <a:srgbClr val="cc0099"/>
                </a:solidFill>
                <a:latin typeface="Arial"/>
                <a:ea typeface="Arial"/>
              </a:rPr>
              <a:t>THE TURNOVER DURING 12 MONTHS IMMEDIATELY BEFORE THE DATE OF DAMAGE.</a:t>
            </a:r>
            <a:br>
              <a:rPr sz="2000"/>
            </a:br>
            <a:br>
              <a:rPr sz="2000"/>
            </a:br>
            <a:r>
              <a:rPr b="1" lang="en-US" sz="2400" spc="-1" strike="noStrike">
                <a:solidFill>
                  <a:srgbClr val="3333cc"/>
                </a:solidFill>
                <a:latin typeface="Arial"/>
                <a:ea typeface="Arial"/>
              </a:rPr>
              <a:t>ACTUAL TURN OVER: </a:t>
            </a:r>
            <a:r>
              <a:rPr b="1" lang="en-US" sz="2000" spc="-1" strike="noStrike">
                <a:solidFill>
                  <a:srgbClr val="009900"/>
                </a:solidFill>
                <a:latin typeface="Arial"/>
                <a:ea typeface="Arial"/>
              </a:rPr>
              <a:t>TURNOVER PRODUCED DURING INTERRUPTION PERIOD</a:t>
            </a:r>
            <a:br>
              <a:rPr sz="2000"/>
            </a:br>
            <a:br>
              <a:rPr sz="2000"/>
            </a:br>
            <a:r>
              <a:rPr b="1" lang="en-US" sz="2400" spc="-1" strike="noStrike">
                <a:solidFill>
                  <a:srgbClr val="ff0000"/>
                </a:solidFill>
                <a:latin typeface="Arial"/>
                <a:ea typeface="Arial"/>
              </a:rPr>
              <a:t>REDUCTION IN TURNOVER:</a:t>
            </a:r>
            <a:r>
              <a:rPr b="1" lang="en-US" sz="2000" spc="-1" strike="noStrike">
                <a:solidFill>
                  <a:srgbClr val="3333cc"/>
                </a:solidFill>
                <a:latin typeface="Arial"/>
                <a:ea typeface="Arial"/>
              </a:rPr>
              <a:t>STANDARD TURNOVER MINUS ACTUAL TURNOVER DURING INTERUPTION PERIOD</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60"/>
            <a:ext cx="8915400" cy="701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33cc"/>
                </a:solidFill>
                <a:latin typeface="Arial"/>
                <a:ea typeface="Arial"/>
              </a:rPr>
              <a:t>DEFINITIONS</a:t>
            </a:r>
            <a:br>
              <a:rPr sz="3200"/>
            </a:br>
            <a:br>
              <a:rPr sz="3200"/>
            </a:br>
            <a:r>
              <a:rPr b="1" lang="en-US" sz="2400" spc="-1" strike="noStrike">
                <a:solidFill>
                  <a:srgbClr val="d60093"/>
                </a:solidFill>
                <a:latin typeface="Arial"/>
                <a:ea typeface="Arial"/>
              </a:rPr>
              <a:t>PERIOD OF INSURANCE:  </a:t>
            </a:r>
            <a:r>
              <a:rPr b="1" lang="en-US" sz="2400" spc="-1" strike="noStrike">
                <a:solidFill>
                  <a:srgbClr val="00b0f0"/>
                </a:solidFill>
                <a:latin typeface="Arial"/>
                <a:ea typeface="Arial"/>
              </a:rPr>
              <a:t>USUALLY ONE YEAR</a:t>
            </a:r>
            <a:br>
              <a:rPr sz="2400"/>
            </a:br>
            <a:br>
              <a:rPr sz="3200"/>
            </a:br>
            <a:r>
              <a:rPr b="1" lang="en-US" sz="2400" spc="-1" strike="noStrike">
                <a:solidFill>
                  <a:srgbClr val="ff0000"/>
                </a:solidFill>
                <a:latin typeface="Arial"/>
                <a:ea typeface="Arial"/>
              </a:rPr>
              <a:t>INDEMNITY PERIOD: </a:t>
            </a:r>
            <a:br>
              <a:rPr sz="2400"/>
            </a:br>
            <a:br>
              <a:rPr sz="2400"/>
            </a:br>
            <a:r>
              <a:rPr b="0" lang="en-US" sz="2400" spc="-1" strike="noStrike">
                <a:solidFill>
                  <a:srgbClr val="009900"/>
                </a:solidFill>
                <a:latin typeface="Arial"/>
                <a:ea typeface="Arial"/>
              </a:rPr>
              <a:t>INSURER’S LIABILITY PERIOD. MINIMIMUM 3 MONTHS AND MAXIMUM OF 36 MONTHS (MULTIPLES OF THREE MONTHS. OPTED BY INSURED). It is</a:t>
            </a:r>
            <a:r>
              <a:rPr b="0" lang="en-AU" sz="2400" spc="-1" strike="noStrike">
                <a:solidFill>
                  <a:srgbClr val="009900"/>
                </a:solidFill>
                <a:latin typeface="Times New Roman"/>
              </a:rPr>
              <a:t> </a:t>
            </a:r>
            <a:r>
              <a:rPr b="0" lang="en-AU" sz="2400" spc="-1" strike="noStrike">
                <a:solidFill>
                  <a:srgbClr val="009900"/>
                </a:solidFill>
                <a:latin typeface="Arial"/>
                <a:ea typeface="Arial"/>
              </a:rPr>
              <a:t>not permissible to alter the indemnity period during the currency of the Policy</a:t>
            </a:r>
            <a:br>
              <a:rPr sz="2400"/>
            </a:br>
            <a:br>
              <a:rPr sz="2400"/>
            </a:br>
            <a:br>
              <a:rPr sz="2400"/>
            </a:br>
            <a:r>
              <a:rPr b="1" lang="en-US" sz="2400" spc="-1" strike="noStrike">
                <a:solidFill>
                  <a:srgbClr val="ff0000"/>
                </a:solidFill>
                <a:latin typeface="Arial"/>
                <a:ea typeface="Arial"/>
              </a:rPr>
              <a:t>INTERRUPTION PERIOD:</a:t>
            </a:r>
            <a:br>
              <a:rPr sz="2400"/>
            </a:br>
            <a:br>
              <a:rPr sz="2400"/>
            </a:br>
            <a:r>
              <a:rPr b="0" lang="en-US" sz="2400" spc="-1" strike="noStrike">
                <a:solidFill>
                  <a:srgbClr val="3333cc"/>
                </a:solidFill>
                <a:latin typeface="Arial"/>
                <a:ea typeface="Arial"/>
              </a:rPr>
              <a:t>INCEPTS FROM THE DATE OF OPERATION OF INSURED PERIL UNDER MD POLICY AND ENDS ON COMPLET PLANT IS BECOMES NORMAL PRODUCTION.  THE INTERRUPTION PERIOD DEPENDS UPON THE SEVEARITY OF THE PERIL OPERATED.</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28240"/>
            <a:ext cx="8915400" cy="6629400"/>
          </a:xfrm>
          <a:prstGeom prst="rect">
            <a:avLst/>
          </a:prstGeom>
          <a:noFill/>
          <a:ln w="0">
            <a:noFill/>
          </a:ln>
        </p:spPr>
        <p:txBody>
          <a:bodyPr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1" lang="en-US" sz="3600" spc="-1" strike="noStrike" u="sng">
                <a:solidFill>
                  <a:srgbClr val="7030a0"/>
                </a:solidFill>
                <a:uFillTx/>
                <a:latin typeface="Arial"/>
                <a:ea typeface="Arial"/>
              </a:rPr>
              <a:t>MATERIAL DAMAGE PROVISO</a:t>
            </a:r>
            <a:br>
              <a:rPr sz="3600"/>
            </a:br>
            <a:r>
              <a:rPr b="0" lang="en-US" sz="2100" spc="-1" strike="noStrike">
                <a:solidFill>
                  <a:srgbClr val="ff0000"/>
                </a:solidFill>
                <a:latin typeface="Arial"/>
                <a:ea typeface="Arial"/>
              </a:rPr>
              <a:t>THERE EXISTS A FIRE POLICY (MATERIAL DAMAGE), THE PROPERTY GOT DAMAGED DUE TO OPERATION OF INSURED PERIL . THE ADMISIBILITY IS ESATBILISHED/ ADMITED, THE CLAIM IS PAID OR PAYABLE.  THE REVENUE LOSS IS IDEMNIFIED UNDER LOP POLICY.THE CLAIM MAY NOT HAVE PAID DUE TO DEDUCTIBLE CLAUSE UNDER MD POLICY IS NOT RELEVANT FOR CLAIM PAYABLE UNDER FIRE CONSEQUENTIAL LOSS  POLICY</a:t>
            </a:r>
            <a:br>
              <a:rPr sz="2100"/>
            </a:br>
            <a:br>
              <a:rPr sz="2400"/>
            </a:br>
            <a:r>
              <a:rPr b="0" lang="en-US" sz="2100" spc="-1" strike="noStrike">
                <a:solidFill>
                  <a:srgbClr val="009900"/>
                </a:solidFill>
                <a:latin typeface="Arial"/>
                <a:ea typeface="Arial"/>
              </a:rPr>
              <a:t>EXISTANCE OF MD POLICY ENSURES SPEEDY RESTORATION OF DAMAGED PREOPERTY ON SETTLEMENT OF CLAIM UNDER MD POLICY. THIS HELPS LIABILITY UNDER  FLOP KEEPS UNDER CONTROL. IN THE ABSENSE OF MD INSURANCE THE RESTORATION OF THE DAMAGED PROPERTY WILL BE DELAYED DUE TO LACK OF CAPITAL AND THE  INTERRUPTION OF THE BUSINESS WILL BE PROLONGED WHICH WILL LEED TO INCREASED CLAIM OUT GO UNDER THE  FLOP POLICY.</a:t>
            </a:r>
            <a:br>
              <a:rPr sz="2100"/>
            </a:br>
            <a:r>
              <a:rPr b="0" lang="en-AU" sz="2400" spc="-1" strike="noStrike">
                <a:solidFill>
                  <a:srgbClr val="000000"/>
                </a:solidFill>
                <a:latin typeface="Times New Roman"/>
              </a:rPr>
              <a:t>The proviso shall not apply to property on which the Insured have no direct insurable interest and which they cannot be reasonably expected to insure.</a:t>
            </a:r>
            <a:br>
              <a:rPr sz="2400"/>
            </a:br>
            <a:br>
              <a:rPr sz="2400"/>
            </a:br>
            <a:br>
              <a:rPr sz="2400"/>
            </a:br>
            <a:br>
              <a:rPr sz="2400"/>
            </a:br>
            <a:br>
              <a:rPr sz="2400"/>
            </a:br>
            <a:br>
              <a:rPr sz="24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7030a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 NEW PRODUCTS IN FIRE LOB</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685440" y="1143000"/>
            <a:ext cx="7543800" cy="4137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1. BHARAT GRIHA RAKSHA : </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	</a:t>
            </a:r>
            <a:r>
              <a:rPr b="1" lang="en-US" sz="1600" spc="-1" strike="noStrike">
                <a:solidFill>
                  <a:srgbClr val="191966"/>
                </a:solidFill>
                <a:latin typeface="Arial"/>
                <a:ea typeface="Arial"/>
              </a:rPr>
              <a:t>MEANT FOR HOME BUILDING AND HOME CONT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2. BHARAT SOOKSHMA UDYAM SURAKSHA:</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ea typeface="Arial"/>
              </a:rPr>
              <a:t>	</a:t>
            </a:r>
            <a:r>
              <a:rPr b="1" lang="en-US" sz="1600" spc="-1" strike="noStrike">
                <a:solidFill>
                  <a:srgbClr val="d60093"/>
                </a:solidFill>
                <a:latin typeface="Arial"/>
                <a:ea typeface="Arial"/>
              </a:rPr>
              <a:t>MEANT FOR ENTERPRISES WHERE THE TOTAL VALUE AT </a:t>
            </a:r>
            <a:r>
              <a:rPr b="1" lang="en-US" sz="1600" spc="-1" strike="noStrike">
                <a:solidFill>
                  <a:srgbClr val="d60093"/>
                </a:solidFill>
                <a:latin typeface="Arial"/>
                <a:ea typeface="Arial"/>
              </a:rPr>
              <a:t>	</a:t>
            </a:r>
            <a:r>
              <a:rPr b="1" lang="en-US" sz="1600" spc="-1" strike="noStrike">
                <a:solidFill>
                  <a:srgbClr val="d60093"/>
                </a:solidFill>
                <a:latin typeface="Arial"/>
                <a:ea typeface="Arial"/>
              </a:rPr>
              <a:t>RISK IS UP TO Rs. 5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3. BHARAT LAGHU UDYAM SURAKSH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	</a:t>
            </a:r>
            <a:r>
              <a:rPr b="1" lang="en-US" sz="1600" spc="-1" strike="noStrike">
                <a:solidFill>
                  <a:srgbClr val="009900"/>
                </a:solidFill>
                <a:latin typeface="Arial"/>
                <a:ea typeface="Arial"/>
              </a:rPr>
              <a:t>MEMEANT FOR ENTERPRISES WHERE THE TOTAL VALUE AT </a:t>
            </a:r>
            <a:r>
              <a:rPr b="1" lang="en-US" sz="1600" spc="-1" strike="noStrike">
                <a:solidFill>
                  <a:srgbClr val="009900"/>
                </a:solidFill>
                <a:latin typeface="Arial"/>
                <a:ea typeface="Arial"/>
              </a:rPr>
              <a:t>	</a:t>
            </a:r>
            <a:r>
              <a:rPr b="1" lang="en-US" sz="1600" spc="-1" strike="noStrike">
                <a:solidFill>
                  <a:srgbClr val="009900"/>
                </a:solidFill>
                <a:latin typeface="Arial"/>
                <a:ea typeface="Arial"/>
              </a:rPr>
              <a:t>RISK IS MORE THAN Rs 5 CRORES AND UP TO Rs. 50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33cc"/>
                </a:solidFill>
                <a:latin typeface="Arial"/>
                <a:ea typeface="Arial"/>
              </a:rPr>
              <a:t>NUMERICAL - I</a:t>
            </a:r>
            <a:endParaRPr b="0" lang="en-US" sz="2400" spc="-1" strike="noStrike">
              <a:solidFill>
                <a:srgbClr val="000000"/>
              </a:solidFill>
              <a:latin typeface="Times New Roman"/>
            </a:endParaRPr>
          </a:p>
        </p:txBody>
      </p:sp>
      <p:graphicFrame>
        <p:nvGraphicFramePr>
          <p:cNvPr id="207" name=""/>
          <p:cNvGraphicFramePr/>
          <p:nvPr/>
        </p:nvGraphicFramePr>
        <p:xfrm>
          <a:off x="304920" y="990720"/>
          <a:ext cx="8686800" cy="4410000"/>
        </p:xfrm>
        <a:graphic>
          <a:graphicData uri="http://schemas.openxmlformats.org/drawingml/2006/table">
            <a:tbl>
              <a:tblPr/>
              <a:tblGrid>
                <a:gridCol w="449568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INSURED F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IOD OF INDEMN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12 MONTH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TANDARD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ERIOD OF INTERUP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4,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NCREASED COST OF WORK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7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DUCTION IN TURNOVER SAVED BY THE ABOVE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NUAL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6,0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a:t>
            </a:r>
            <a:endParaRPr b="0" lang="en-US" sz="2400" spc="-1" strike="noStrike">
              <a:solidFill>
                <a:srgbClr val="000000"/>
              </a:solidFill>
              <a:latin typeface="Times New Roman"/>
            </a:endParaRPr>
          </a:p>
        </p:txBody>
      </p:sp>
      <p:sp>
        <p:nvSpPr>
          <p:cNvPr id="209" name=""/>
          <p:cNvSpPr txBox="1"/>
          <p:nvPr/>
        </p:nvSpPr>
        <p:spPr>
          <a:xfrm>
            <a:off x="151920" y="762120"/>
            <a:ext cx="8991720" cy="586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 OF RATE OF GROSS PROFIT (RG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GP = </a:t>
            </a:r>
            <a:r>
              <a:rPr b="0" lang="en-US" sz="2000" spc="-1" strike="noStrike" u="sng">
                <a:solidFill>
                  <a:srgbClr val="000000"/>
                </a:solidFill>
                <a:uFillTx/>
                <a:latin typeface="Arial"/>
                <a:ea typeface="Arial"/>
              </a:rPr>
              <a:t>GROSS PROFIT PREVIOUS YEAR X </a:t>
            </a: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ANCIAL TURNOVER PREV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a:t>
            </a:r>
            <a:r>
              <a:rPr b="0" lang="en-US" sz="2000" spc="-1" strike="noStrike">
                <a:solidFill>
                  <a:srgbClr val="000000"/>
                </a:solidFill>
                <a:latin typeface="Arial"/>
                <a:ea typeface="Arial"/>
              </a:rPr>
              <a:t>X100 = 2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STEP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REDUCTION IN TURNOVER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TO = STANDARD TURNOVER – ACTUAL TURNOVER DUR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RUPTIO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00,000 – 4,00,000 = 6,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3.</a:t>
            </a:r>
            <a:r>
              <a:rPr b="0" lang="en-US" sz="2000" spc="-1" strike="noStrike">
                <a:solidFill>
                  <a:srgbClr val="000000"/>
                </a:solidFill>
                <a:latin typeface="Arial"/>
                <a:ea typeface="Arial"/>
              </a:rPr>
              <a:t> TO FIND LOSS OF GROSS PROFITAPPLY % OF RGP ON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5% OF 6,00,000 = 1,5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 CONTI…..</a:t>
            </a:r>
            <a:endParaRPr b="0" lang="en-US" sz="2400" spc="-1" strike="noStrike">
              <a:solidFill>
                <a:srgbClr val="000000"/>
              </a:solidFill>
              <a:latin typeface="Times New Roman"/>
            </a:endParaRPr>
          </a:p>
        </p:txBody>
      </p:sp>
      <p:sp>
        <p:nvSpPr>
          <p:cNvPr id="211" name=""/>
          <p:cNvSpPr txBox="1"/>
          <p:nvPr/>
        </p:nvSpPr>
        <p:spPr>
          <a:xfrm>
            <a:off x="152280" y="533160"/>
            <a:ext cx="8839440" cy="609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EP 3. </a:t>
            </a:r>
            <a:r>
              <a:rPr b="0" lang="en-US" sz="2000" spc="-1" strike="noStrike">
                <a:solidFill>
                  <a:srgbClr val="000000"/>
                </a:solidFill>
                <a:latin typeface="Arial"/>
                <a:ea typeface="Arial"/>
              </a:rPr>
              <a:t>TO FIND INCREASED COST OF WORKING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HECK THE ECONOMIC LIMIT APPLY % OF RGP ON TURNOVER SAVED DURING INTERRUPTION PERIOD TO DECIDE THE PAYABLE ICW AMOU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OUNT SPENT IS Rs 70,000 AND TURNOVER SAVED IS Rs. 3,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TURNOVER SAVED = 25% OF Rs 3,00,000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7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ELEGIBLE TO CLAIM ICW IS Rs 75,000. HENCE ACTUAL INCURRED AMOUNT OF Rs 70,000 IS PAYABL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4.</a:t>
            </a:r>
            <a:r>
              <a:rPr b="0" lang="en-US" sz="2000" spc="-1" strike="noStrike">
                <a:solidFill>
                  <a:srgbClr val="000000"/>
                </a:solidFill>
                <a:latin typeface="Arial"/>
                <a:ea typeface="Arial"/>
              </a:rPr>
              <a:t>TO FIND GROSS LOSS ADD LOSS OF GROSS PROFIT AND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1,50,000 + Rs. 70,000 = Rs 2,2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5.</a:t>
            </a:r>
            <a:r>
              <a:rPr b="0" lang="en-US" sz="2000" spc="-1" strike="noStrike">
                <a:solidFill>
                  <a:srgbClr val="000000"/>
                </a:solidFill>
                <a:latin typeface="Arial"/>
                <a:ea typeface="Arial"/>
              </a:rPr>
              <a:t> TO ACERTAIN ADEQUACY OF SUM INSUR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ATO AND COMPARE WITH SUM INSURED UNDER THE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TION CONTI….</a:t>
            </a:r>
            <a:endParaRPr b="0" lang="en-US" sz="2400" spc="-1" strike="noStrike">
              <a:solidFill>
                <a:srgbClr val="000000"/>
              </a:solidFill>
              <a:latin typeface="Times New Roman"/>
            </a:endParaRPr>
          </a:p>
        </p:txBody>
      </p:sp>
      <p:sp>
        <p:nvSpPr>
          <p:cNvPr id="213" name=""/>
          <p:cNvSpPr txBox="1"/>
          <p:nvPr/>
        </p:nvSpPr>
        <p:spPr>
          <a:xfrm>
            <a:off x="228600" y="685800"/>
            <a:ext cx="876312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OF Rs.16,00,000 = 4,00,000/- BUT THE SUM INSURED UNDER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IS Rs 3,00,000. HENCE THERE IS A UNDERINSURA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SS PAYABLE = </a:t>
            </a:r>
            <a:r>
              <a:rPr b="0" lang="en-US" sz="2000" spc="-1" strike="noStrike" u="sng">
                <a:solidFill>
                  <a:srgbClr val="000000"/>
                </a:solidFill>
                <a:uFillTx/>
                <a:latin typeface="Arial"/>
                <a:ea typeface="Arial"/>
              </a:rPr>
              <a:t>SUM INSURED X GROSS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VALUE AT RISK ON DATE OF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X 2,20,000  </a:t>
            </a:r>
            <a:r>
              <a:rPr b="0" lang="en-US" sz="2000" spc="-1" strike="noStrike">
                <a:solidFill>
                  <a:srgbClr val="000000"/>
                </a:solidFill>
                <a:latin typeface="Arial"/>
                <a:ea typeface="Arial"/>
              </a:rPr>
              <a:t>= 1,6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E: </a:t>
            </a:r>
            <a:r>
              <a:rPr b="0" i="1" lang="en-US" sz="2000" spc="-1" strike="noStrike">
                <a:solidFill>
                  <a:srgbClr val="0033cc"/>
                </a:solidFill>
                <a:latin typeface="Arial"/>
                <a:ea typeface="Arial"/>
              </a:rPr>
              <a:t>Assumed that all standing charges were insured. Hence und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insurance and average  which is applicable to such charges separately ha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Not been included. Similarly, it is assumed that no standing charges we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saved as a result of the damag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NUMERICAL- II</a:t>
            </a:r>
            <a:endParaRPr b="0" lang="en-US" sz="2400" spc="-1" strike="noStrike">
              <a:solidFill>
                <a:srgbClr val="000000"/>
              </a:solidFill>
              <a:latin typeface="Times New Roman"/>
            </a:endParaRPr>
          </a:p>
        </p:txBody>
      </p:sp>
      <p:sp>
        <p:nvSpPr>
          <p:cNvPr id="215" name=""/>
          <p:cNvSpPr txBox="1"/>
          <p:nvPr/>
        </p:nvSpPr>
        <p:spPr>
          <a:xfrm>
            <a:off x="0" y="456840"/>
            <a:ext cx="9144000" cy="617220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Period : 01.04.2015 31.03.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 Insured : Rs 80,000/-</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mnity Period : 6 month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e of Loss :  01.01. 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 of Interruption : 01.01.2016 to 30.04.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unts for the Financial year end 31.03.2015</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 Profit : Rs 25,000/- (inclusive of Non Trading income of Rs 5,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ing Charges : Rs 1,00,000/- (including un insurd charges of Rs. 2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Rs 4,0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urnover for period 01.01.2016 to 30.04.2016 = Rs 5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this, turnover of Rs 20,000/- was received from other premises hired for the period of interruption @rent of Rs 900/- per month</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Period 01.01.2015 to 30.04.2015 Rs 1,1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vings in insured charges during period of insurance Rs.9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nual Turnover Rs 4,8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UTION</a:t>
            </a:r>
            <a:endParaRPr b="0" lang="en-US" sz="2000" spc="-1" strike="noStrike">
              <a:solidFill>
                <a:srgbClr val="000000"/>
              </a:solidFill>
              <a:latin typeface="Times New Roman"/>
            </a:endParaRPr>
          </a:p>
        </p:txBody>
      </p:sp>
      <p:sp>
        <p:nvSpPr>
          <p:cNvPr id="217" name=""/>
          <p:cNvSpPr txBox="1"/>
          <p:nvPr/>
        </p:nvSpPr>
        <p:spPr>
          <a:xfrm>
            <a:off x="685800" y="597960"/>
            <a:ext cx="7772400" cy="6248520"/>
          </a:xfrm>
          <a:prstGeom prst="rect">
            <a:avLst/>
          </a:prstGeom>
          <a:noFill/>
          <a:ln w="0">
            <a:noFill/>
          </a:ln>
        </p:spPr>
        <p:txBody>
          <a:bodyPr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1: TO FIND GROSS PROFIT (PREVIOUS YEAR)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 PROFIT: Rs 25,000/- LESS NON TRADING INCOME OF Rs 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5,000-5000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ING CHARGES: Rs 1,00,000/- LESS UN INSURED STANDING CHARGES OF Rs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00 – 20,000 = 8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PROFIT = NET PROFIT + STANDING CHARG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80,000 = 1,0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2: TO FIND % OF RATE OF GROSS PROFIT (R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F RGP =            </a:t>
            </a:r>
            <a:r>
              <a:rPr b="0" lang="en-US" sz="1600" spc="-1" strike="noStrike" u="sng">
                <a:solidFill>
                  <a:srgbClr val="000000"/>
                </a:solidFill>
                <a:uFillTx/>
                <a:latin typeface="Arial"/>
                <a:ea typeface="Arial"/>
              </a:rPr>
              <a:t>PREVIOUS YEAR GP </a:t>
            </a:r>
            <a:r>
              <a:rPr b="0" lang="en-US" sz="1600" spc="-1" strike="noStrike">
                <a:solidFill>
                  <a:srgbClr val="000000"/>
                </a:solidFill>
                <a:latin typeface="Arial"/>
                <a:ea typeface="Arial"/>
              </a:rPr>
              <a:t> X 1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VIUOS FINANCIAL YEAR TURN O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1,00,000 </a:t>
            </a:r>
            <a:r>
              <a:rPr b="0" lang="en-US" sz="1600" spc="-1" strike="noStrike">
                <a:solidFill>
                  <a:srgbClr val="000000"/>
                </a:solidFill>
                <a:latin typeface="Arial"/>
                <a:ea typeface="Arial"/>
              </a:rPr>
              <a:t> X 100  = 2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000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3: TO FIND REDUCTION TURN OVER (RTO)</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TO = STANDARD TURN OVER – ACTUAL TURN OVER DURING INTERRUPTION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10,000 – 50,000 = 6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4: TO FIND GROSS LOSS OF 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GP ON R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LOSS OF GP = 25% OF 60,000 = 1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19" name=""/>
          <p:cNvSpPr txBox="1"/>
          <p:nvPr/>
        </p:nvSpPr>
        <p:spPr>
          <a:xfrm>
            <a:off x="228600" y="685440"/>
            <a:ext cx="8686800" cy="6172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5: TO FIND INCREASED COST OF WORKING (ICW)</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IS SUBJECT TO </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STSNDING CHARGES ARE INSUR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 TURN OVER SAVED DURING INTERRUPTION  PERIOD IS Rs 20,000/- BY SPENDING Rs 3,600/- (4 MONTHS RENT X Rs 9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ARRIVE ECCONOMIC LIMT  APPLY % OF RGP ON TURN OVER SAVED AND COMPARE THE ACTUAL AMOUNT SP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 X 20,000 = 5,000/- IS THROSHOLD LIMIT. HENCE Rs 3,600/- IS PAY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REGARD TO SC THE INSURED HAS OMITED CERTAIN SC AND NOT INSURED ALL SC. HENCE THE ICW PAYABLE SHALL BE PROPORTIONATELY REDUC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 </a:t>
            </a:r>
            <a:r>
              <a:rPr b="0" lang="en-US" sz="1600" spc="-1" strike="noStrike" u="sng">
                <a:solidFill>
                  <a:srgbClr val="000000"/>
                </a:solidFill>
                <a:uFillTx/>
                <a:latin typeface="Arial"/>
                <a:ea typeface="Arial"/>
              </a:rPr>
              <a:t>NP + INSURED SC </a:t>
            </a:r>
            <a:r>
              <a:rPr b="0" lang="en-US" sz="1600" spc="-1" strike="noStrike">
                <a:solidFill>
                  <a:srgbClr val="000000"/>
                </a:solidFill>
                <a:latin typeface="Arial"/>
                <a:ea typeface="Arial"/>
              </a:rPr>
              <a:t> X IC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P + ALL S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20,000 + 80,000</a:t>
            </a:r>
            <a:r>
              <a:rPr b="0" lang="en-US" sz="1600" spc="-1" strike="noStrike">
                <a:solidFill>
                  <a:srgbClr val="000000"/>
                </a:solidFill>
                <a:latin typeface="Arial"/>
                <a:ea typeface="Arial"/>
              </a:rPr>
              <a:t>  X 3600  = 3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1,0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ea typeface="Arial"/>
              </a:rPr>
              <a:t>STEP 6: TO FIND GROSS LOS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 GROSS LOSS OF GP AND ICW = 15,000 + 3,000 = 18,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SAVINGS IN INSURED SC DURING PERIOD OF INSURANCE (DATA AS GIVE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8,000 – 900 = 17,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7: TO FIND ADEQUACY OF SUM INSU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RGP ON ANNUAL TO AND COMPARE THE SUM INSURED UNDER THE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5% OF Rs 4,80,000 = 1,20,000 WHERE AS THE SUM INSURED IS Rs 80,000 HENCE THER IS A UNDER INSURANC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T LOSS PAYABLE BEFORE EXCESS I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 </a:t>
            </a:r>
            <a:r>
              <a:rPr b="0" lang="en-US" sz="1600" spc="-1" strike="noStrike" u="sng">
                <a:solidFill>
                  <a:srgbClr val="000000"/>
                </a:solidFill>
                <a:uFillTx/>
                <a:latin typeface="Arial"/>
                <a:ea typeface="Arial"/>
              </a:rPr>
              <a:t>80,000  </a:t>
            </a:r>
            <a:r>
              <a:rPr b="0" lang="en-US" sz="1600" spc="-1" strike="noStrike">
                <a:solidFill>
                  <a:srgbClr val="000000"/>
                </a:solidFill>
                <a:latin typeface="Arial"/>
                <a:ea typeface="Arial"/>
              </a:rPr>
              <a:t> X 17,100 = 11,4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ADD ON / CLAUSES</a:t>
            </a:r>
            <a:endParaRPr b="0" lang="en-US" sz="2000" spc="-1" strike="noStrike">
              <a:solidFill>
                <a:srgbClr val="000000"/>
              </a:solidFill>
              <a:latin typeface="Times New Roman"/>
            </a:endParaRPr>
          </a:p>
        </p:txBody>
      </p:sp>
      <p:sp>
        <p:nvSpPr>
          <p:cNvPr id="223" name=""/>
          <p:cNvSpPr txBox="1"/>
          <p:nvPr/>
        </p:nvSpPr>
        <p:spPr>
          <a:xfrm>
            <a:off x="685440" y="1981080"/>
            <a:ext cx="8077320" cy="41148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UPPLI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USTOMER PREMISES </a:t>
            </a:r>
            <a:r>
              <a:rPr b="0" lang="en-AU" sz="1600" spc="-1" strike="noStrike">
                <a:solidFill>
                  <a:srgbClr val="000000"/>
                </a:solidFill>
                <a:latin typeface="Times New Roman"/>
              </a:rPr>
              <a:t>The cover is against consequential loss to the insureds arising out of their customers not taking delivery of the products, exclusively manufactured for them, as a result of the operation of the insured perils at the custom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 indemnity period under the Suppliers/Customers extension shall be identical to that under the main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FAILURE OF UTILITY SERVICES (FOUS) </a:t>
            </a:r>
            <a:r>
              <a:rPr b="1" lang="en-AU" sz="1600" spc="-1" strike="noStrike">
                <a:solidFill>
                  <a:srgbClr val="000000"/>
                </a:solidFill>
                <a:latin typeface="Arial"/>
                <a:ea typeface="Arial"/>
              </a:rPr>
              <a:t>electricity/gas/water supply</a:t>
            </a:r>
            <a:r>
              <a:rPr b="0" lang="en-AU" sz="1600" spc="-1" strike="noStrike">
                <a:solidFill>
                  <a:srgbClr val="000000"/>
                </a:solidFill>
                <a:latin typeface="Arial"/>
                <a:ea typeface="Arial"/>
              </a:rPr>
              <a:t>: IP 60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TURN OF PREMIUM CLA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CCUMULATED STOC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artmental Clau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600200"/>
            <a:ext cx="8001000" cy="2209680"/>
          </a:xfrm>
          <a:prstGeom prst="rect">
            <a:avLst/>
          </a:prstGeom>
          <a:noFill/>
          <a:ln w="76320">
            <a:solidFill>
              <a:srgbClr val="3399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rPr>
              <a:t>FIRE CLAIMS MANAGEMENT</a:t>
            </a:r>
            <a:endParaRPr b="0" lang="en-US" sz="5400" spc="-1" strike="noStrike">
              <a:solidFill>
                <a:srgbClr val="000000"/>
              </a:solidFill>
              <a:latin typeface="Times New Roman"/>
            </a:endParaRPr>
          </a:p>
        </p:txBody>
      </p:sp>
      <p:sp>
        <p:nvSpPr>
          <p:cNvPr id="225" name="PlaceHolder 2"/>
          <p:cNvSpPr>
            <a:spLocks noGrp="1"/>
          </p:cNvSpPr>
          <p:nvPr>
            <p:ph type="subTitle"/>
          </p:nvPr>
        </p:nvSpPr>
        <p:spPr>
          <a:xfrm>
            <a:off x="1600200" y="688104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PROVISIONS</a:t>
            </a:r>
            <a:endParaRPr b="0" lang="en-US" sz="2400" spc="-1" strike="noStrike">
              <a:solidFill>
                <a:srgbClr val="000000"/>
              </a:solidFill>
              <a:latin typeface="Times New Roman"/>
            </a:endParaRPr>
          </a:p>
        </p:txBody>
      </p:sp>
      <p:sp>
        <p:nvSpPr>
          <p:cNvPr id="61" name=""/>
          <p:cNvSpPr txBox="1"/>
          <p:nvPr/>
        </p:nvSpPr>
        <p:spPr>
          <a:xfrm>
            <a:off x="228600" y="1066680"/>
            <a:ext cx="8229600" cy="5562720"/>
          </a:xfrm>
          <a:prstGeom prst="rect">
            <a:avLst/>
          </a:prstGeom>
          <a:noFill/>
          <a:ln w="0">
            <a:noFill/>
          </a:ln>
        </p:spPr>
        <p:txBody>
          <a:bodyPr anchor="t">
            <a:normAutofit/>
          </a:bodyPr>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EXISTING SF&amp;SP, FIRE FLOATER, FIRE DECLARATION , FIRE FLOATER DECLARATION, FIRE SIMPLE RISK,FIRE PETROCHEMICAL ARE DISCONTINUED AND SHOULD NOT ISSUED FROM 01.04.2021 FOR THE SUM INSURED BAND AS STATED IN THE PREVIOUS SL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Arial"/>
              </a:rPr>
              <a:t>HOWEVER FOR ALL RISKS (OTHERTHAN DWELLINGS), WHERE THE VAR AT ONE LOCATION IS MORE THAN Rs 50 CRORE THE EXISITING SF&amp;SP SHALL CONTINU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IN CASE OF MULTIPLE LOCATION FIRE POLICIES WHERE THE SUM INSURED OF AT LEAST ONE OF THE LOCATIONIS MORE THAN Rs 50 CRORE CAN BE UNDERWRITTEN UNDER SF&amp;SP POLIC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F SEPARATE POLICIES ARE ISSUED THEN POLICY RELEVANT TO THE INDIVIDUAL SUM INSURED TO BE ISSUED. ALL EXISITING FIRE POLICIESWHICH FALLS UNDER NEW PRODUCTS SHALL CONTINUE TILL ITS EXPIRY AND SHALL BE RENEWED AS PER THE NEW PROV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INTRODUCTION</a:t>
            </a:r>
            <a:endParaRPr b="0" lang="en-US" sz="4400" spc="-1" strike="noStrike">
              <a:solidFill>
                <a:srgbClr val="000000"/>
              </a:solidFill>
              <a:latin typeface="Times New Roman"/>
            </a:endParaRPr>
          </a:p>
        </p:txBody>
      </p:sp>
      <p:sp>
        <p:nvSpPr>
          <p:cNvPr id="227" name="PlaceHolder 2"/>
          <p:cNvSpPr>
            <a:spLocks noGrp="1"/>
          </p:cNvSpPr>
          <p:nvPr>
            <p:ph type="subTitle"/>
          </p:nvPr>
        </p:nvSpPr>
        <p:spPr>
          <a:xfrm>
            <a:off x="228600" y="990360"/>
            <a:ext cx="8610480" cy="52578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ETTELMENT OF CLAIM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3333cc"/>
                </a:solidFill>
                <a:latin typeface="Comic Sans MS"/>
              </a:rPr>
              <a:t>PRIMARY SERVI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996633"/>
                </a:solidFill>
                <a:latin typeface="Comic Sans MS"/>
              </a:rPr>
              <a:t>PROMPTLY AND FAIRL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9900"/>
                </a:solidFill>
                <a:latin typeface="Comic Sans MS"/>
              </a:rPr>
              <a:t>BASED ON CONSIDERATIONS OF </a:t>
            </a:r>
            <a:r>
              <a:rPr b="1" lang="en-US" sz="2400" spc="-1" strike="noStrike">
                <a:solidFill>
                  <a:srgbClr val="00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	</a:t>
            </a:r>
            <a:r>
              <a:rPr b="1" lang="en-US" sz="2400" spc="-1" strike="noStrike">
                <a:solidFill>
                  <a:srgbClr val="009900"/>
                </a:solidFill>
                <a:latin typeface="Comic Sans MS"/>
              </a:rPr>
              <a:t>FAIRNESS AND EQ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9900"/>
                </a:solidFill>
                <a:latin typeface="Comic Sans MS"/>
              </a:rPr>
              <a:t>OFFICIALS TO OBSERVE TACT,DIPLOMACY, </a:t>
            </a:r>
            <a:r>
              <a:rPr b="1" lang="en-US" sz="2400" spc="-1" strike="noStrike">
                <a:solidFill>
                  <a:srgbClr val="ff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       </a:t>
            </a:r>
            <a:r>
              <a:rPr b="1" lang="en-US" sz="2400" spc="-1" strike="noStrike">
                <a:solidFill>
                  <a:srgbClr val="ff9900"/>
                </a:solidFill>
                <a:latin typeface="Comic Sans MS"/>
              </a:rPr>
              <a:t>COURTECY</a:t>
            </a:r>
            <a:r>
              <a:rPr b="1" lang="en-US" sz="2400" spc="-1" strike="noStrike">
                <a:solidFill>
                  <a:srgbClr val="ff9900"/>
                </a:solidFill>
                <a:latin typeface="Comic Sans MS"/>
              </a:rPr>
              <a:t>	</a:t>
            </a:r>
            <a:r>
              <a:rPr b="1" lang="en-US" sz="2400" spc="-1" strike="noStrike">
                <a:solidFill>
                  <a:srgbClr val="ff9900"/>
                </a:solidFill>
                <a:latin typeface="Comic Sans MS"/>
              </a:rPr>
              <a:t>AND PAT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51" dur="500"/>
                                        <p:tgtEl>
                                          <p:spTgt spid="227">
                                            <p:txEl>
                                              <p:pRg st="2" end="2"/>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54" dur="500"/>
                                        <p:tgtEl>
                                          <p:spTgt spid="227">
                                            <p:txEl>
                                              <p:pRg st="4" end="4"/>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57" dur="500"/>
                                        <p:tgtEl>
                                          <p:spTgt spid="227">
                                            <p:txEl>
                                              <p:pRg st="6" end="6"/>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60" dur="500"/>
                                        <p:tgtEl>
                                          <p:spTgt spid="227">
                                            <p:txEl>
                                              <p:pRg st="7" end="7"/>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227">
                                            <p:txEl>
                                              <p:pRg st="9" end="9"/>
                                            </p:txEl>
                                          </p:spTgt>
                                        </p:tgtEl>
                                        <p:attrNameLst>
                                          <p:attrName>style.visibility</p:attrName>
                                        </p:attrNameLst>
                                      </p:cBhvr>
                                      <p:to>
                                        <p:strVal val="visible"/>
                                      </p:to>
                                    </p:set>
                                    <p:animEffect filter="checkerboard(across)" transition="in">
                                      <p:cBhvr additive="repl">
                                        <p:cTn id="63" dur="500"/>
                                        <p:tgtEl>
                                          <p:spTgt spid="227">
                                            <p:txEl>
                                              <p:pRg st="9" end="9"/>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27">
                                            <p:txEl>
                                              <p:pRg st="10" end="10"/>
                                            </p:txEl>
                                          </p:spTgt>
                                        </p:tgtEl>
                                        <p:attrNameLst>
                                          <p:attrName>style.visibility</p:attrName>
                                        </p:attrNameLst>
                                      </p:cBhvr>
                                      <p:to>
                                        <p:strVal val="visible"/>
                                      </p:to>
                                    </p:set>
                                    <p:animEffect filter="checkerboard(across)" transition="in">
                                      <p:cBhvr additive="repl">
                                        <p:cTn id="66" dur="500"/>
                                        <p:tgtEl>
                                          <p:spTgt spid="227">
                                            <p:txEl>
                                              <p:pRg st="10" end="1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71" dur="500"/>
                                        <p:tgtEl>
                                          <p:spTgt spid="227">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74" dur="500"/>
                                        <p:tgtEl>
                                          <p:spTgt spid="227">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77" dur="500"/>
                                        <p:tgtEl>
                                          <p:spTgt spid="227">
                                            <p:txEl>
                                              <p:pRg st="6" end="6"/>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80" dur="500"/>
                                        <p:tgtEl>
                                          <p:spTgt spid="227">
                                            <p:txEl>
                                              <p:pRg st="7" end="7"/>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9" end="9"/>
                                            </p:txEl>
                                          </p:spTgt>
                                        </p:tgtEl>
                                        <p:attrNameLst>
                                          <p:attrName>style.visibility</p:attrName>
                                        </p:attrNameLst>
                                      </p:cBhvr>
                                      <p:to>
                                        <p:strVal val="visible"/>
                                      </p:to>
                                    </p:set>
                                    <p:animEffect filter="blinds(horizontal)" transition="in">
                                      <p:cBhvr additive="repl">
                                        <p:cTn id="83" dur="500"/>
                                        <p:tgtEl>
                                          <p:spTgt spid="227">
                                            <p:txEl>
                                              <p:pRg st="9" end="9"/>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86"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WHEN A CLAIM IS REPORTED</a:t>
            </a:r>
            <a:endParaRPr b="0" lang="en-US" sz="3200" spc="-1" strike="noStrike">
              <a:solidFill>
                <a:srgbClr val="000000"/>
              </a:solidFill>
              <a:latin typeface="Times New Roman"/>
            </a:endParaRPr>
          </a:p>
        </p:txBody>
      </p:sp>
      <p:sp>
        <p:nvSpPr>
          <p:cNvPr id="229" name="PlaceHolder 2"/>
          <p:cNvSpPr>
            <a:spLocks noGrp="1"/>
          </p:cNvSpPr>
          <p:nvPr>
            <p:ph type="subTitle"/>
          </p:nvPr>
        </p:nvSpPr>
        <p:spPr>
          <a:xfrm>
            <a:off x="380880" y="609480"/>
            <a:ext cx="8382240" cy="6019920"/>
          </a:xfrm>
          <a:prstGeom prst="rect">
            <a:avLst/>
          </a:prstGeom>
          <a:noFill/>
          <a:ln w="76320">
            <a:solidFill>
              <a:srgbClr val="ff00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ECK </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3300"/>
                </a:solidFill>
                <a:latin typeface="Times New Roman"/>
              </a:rPr>
              <a:t>THE POLICY IN FORCE</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ERILS COVERED</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LOCATION OF THE RISK</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ROPERTY COVERED</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CTION</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6600cc"/>
                </a:solidFill>
                <a:latin typeface="Times New Roman"/>
              </a:rPr>
              <a:t>APPOINT RIGHT SERVEYOR FOR T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RVEY &amp; ASSESSMENT OF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GGEST MEASURES TO MINIMSE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PRELIMINARY SURVEY REPORT</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INFORM RI ABOUT THE LO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9900"/>
                </a:solidFill>
                <a:latin typeface="Times New Roman"/>
              </a:rPr>
              <a:t>ARRANGE FOR COMPANY OFFICIAL’S INSP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93" dur="500"/>
                                        <p:tgtEl>
                                          <p:spTgt spid="229">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96" dur="500"/>
                                        <p:tgtEl>
                                          <p:spTgt spid="229">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99" dur="500"/>
                                        <p:tgtEl>
                                          <p:spTgt spid="229">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02" dur="500"/>
                                        <p:tgtEl>
                                          <p:spTgt spid="22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animEffect filter="box(in)" transition="in">
                                      <p:cBhvr additive="repl">
                                        <p:cTn id="107" dur="500"/>
                                        <p:tgtEl>
                                          <p:spTgt spid="229">
                                            <p:txEl>
                                              <p:pRg st="6" end="6"/>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229">
                                            <p:txEl>
                                              <p:pRg st="7" end="7"/>
                                            </p:txEl>
                                          </p:spTgt>
                                        </p:tgtEl>
                                        <p:attrNameLst>
                                          <p:attrName>style.visibility</p:attrName>
                                        </p:attrNameLst>
                                      </p:cBhvr>
                                      <p:to>
                                        <p:strVal val="visible"/>
                                      </p:to>
                                    </p:set>
                                    <p:animEffect filter="box(in)" transition="in">
                                      <p:cBhvr additive="repl">
                                        <p:cTn id="110" dur="500"/>
                                        <p:tgtEl>
                                          <p:spTgt spid="229">
                                            <p:txEl>
                                              <p:pRg st="7" end="7"/>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229">
                                            <p:txEl>
                                              <p:pRg st="8" end="8"/>
                                            </p:txEl>
                                          </p:spTgt>
                                        </p:tgtEl>
                                        <p:attrNameLst>
                                          <p:attrName>style.visibility</p:attrName>
                                        </p:attrNameLst>
                                      </p:cBhvr>
                                      <p:to>
                                        <p:strVal val="visible"/>
                                      </p:to>
                                    </p:set>
                                    <p:animEffect filter="box(in)" transition="in">
                                      <p:cBhvr additive="repl">
                                        <p:cTn id="113" dur="500"/>
                                        <p:tgtEl>
                                          <p:spTgt spid="229">
                                            <p:txEl>
                                              <p:pRg st="8" end="8"/>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229">
                                            <p:txEl>
                                              <p:pRg st="9" end="9"/>
                                            </p:txEl>
                                          </p:spTgt>
                                        </p:tgtEl>
                                        <p:attrNameLst>
                                          <p:attrName>style.visibility</p:attrName>
                                        </p:attrNameLst>
                                      </p:cBhvr>
                                      <p:to>
                                        <p:strVal val="visible"/>
                                      </p:to>
                                    </p:set>
                                    <p:animEffect filter="box(in)" transition="in">
                                      <p:cBhvr additive="repl">
                                        <p:cTn id="116" dur="500"/>
                                        <p:tgtEl>
                                          <p:spTgt spid="229">
                                            <p:txEl>
                                              <p:pRg st="9" end="9"/>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229">
                                            <p:txEl>
                                              <p:pRg st="10" end="10"/>
                                            </p:txEl>
                                          </p:spTgt>
                                        </p:tgtEl>
                                        <p:attrNameLst>
                                          <p:attrName>style.visibility</p:attrName>
                                        </p:attrNameLst>
                                      </p:cBhvr>
                                      <p:to>
                                        <p:strVal val="visible"/>
                                      </p:to>
                                    </p:set>
                                    <p:animEffect filter="box(in)" transition="in">
                                      <p:cBhvr additive="repl">
                                        <p:cTn id="119" dur="500"/>
                                        <p:tgtEl>
                                          <p:spTgt spid="229">
                                            <p:txEl>
                                              <p:pRg st="10" end="1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229">
                                            <p:txEl>
                                              <p:pRg st="11" end="11"/>
                                            </p:txEl>
                                          </p:spTgt>
                                        </p:tgtEl>
                                        <p:attrNameLst>
                                          <p:attrName>style.visibility</p:attrName>
                                        </p:attrNameLst>
                                      </p:cBhvr>
                                      <p:to>
                                        <p:strVal val="visible"/>
                                      </p:to>
                                    </p:set>
                                    <p:animEffect filter="box(in)" transition="in">
                                      <p:cBhvr additive="repl">
                                        <p:cTn id="122" dur="500"/>
                                        <p:tgtEl>
                                          <p:spTgt spid="2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60"/>
            <a:ext cx="7924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Important Conditions</a:t>
            </a:r>
            <a:endParaRPr b="0" lang="en-US" sz="3200" spc="-1" strike="noStrike">
              <a:solidFill>
                <a:srgbClr val="000000"/>
              </a:solidFill>
              <a:latin typeface="Times New Roman"/>
            </a:endParaRPr>
          </a:p>
        </p:txBody>
      </p:sp>
      <p:sp>
        <p:nvSpPr>
          <p:cNvPr id="231" name="PlaceHolder 2"/>
          <p:cNvSpPr>
            <a:spLocks noGrp="1"/>
          </p:cNvSpPr>
          <p:nvPr>
            <p:ph type="subTitle"/>
          </p:nvPr>
        </p:nvSpPr>
        <p:spPr>
          <a:xfrm>
            <a:off x="456840" y="685800"/>
            <a:ext cx="8381880" cy="5486400"/>
          </a:xfrm>
          <a:prstGeom prst="rect">
            <a:avLst/>
          </a:prstGeom>
          <a:noFill/>
          <a:ln w="76320">
            <a:solidFill>
              <a:srgbClr val="9933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 </a:t>
            </a:r>
            <a:r>
              <a:rPr b="1" lang="en-US" sz="2400" spc="-1" strike="noStrike">
                <a:solidFill>
                  <a:srgbClr val="ff3300"/>
                </a:solidFill>
                <a:latin typeface="Bookman Old Style"/>
              </a:rPr>
              <a:t>Misrepresentation, Misdescription or Non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Disclosure of any Material Particula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Change of trade/manufacturing activ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3. </a:t>
            </a:r>
            <a:r>
              <a:rPr b="1" lang="en-US" sz="2400" spc="-1" strike="noStrike">
                <a:solidFill>
                  <a:srgbClr val="996633"/>
                </a:solidFill>
                <a:latin typeface="Bookman Old Style"/>
              </a:rPr>
              <a:t> Claim be in respect fraudulent or if any fal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declaration</a:t>
            </a:r>
            <a:r>
              <a:rPr b="1" lang="en-US" sz="2400" spc="-1" strike="noStrike">
                <a:solidFill>
                  <a:srgbClr val="ff33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4.  Reinstatement val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5.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6.  Contribution, subrogation, Reinstatemen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     </a:t>
            </a:r>
            <a:r>
              <a:rPr b="1" lang="en-US" sz="2400" spc="-1" strike="noStrike">
                <a:solidFill>
                  <a:srgbClr val="6600cc"/>
                </a:solidFill>
                <a:latin typeface="Bookman Old Style"/>
              </a:rPr>
              <a:t>premium</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DOCUMENTS REQUIRED FOR SETTLEMENT OF A CLAIM</a:t>
            </a:r>
            <a:endParaRPr b="0" lang="en-US" sz="2800" spc="-1" strike="noStrike">
              <a:solidFill>
                <a:srgbClr val="000000"/>
              </a:solidFill>
              <a:latin typeface="Times New Roman"/>
            </a:endParaRPr>
          </a:p>
        </p:txBody>
      </p:sp>
      <p:sp>
        <p:nvSpPr>
          <p:cNvPr id="233" name="PlaceHolder 2"/>
          <p:cNvSpPr>
            <a:spLocks noGrp="1"/>
          </p:cNvSpPr>
          <p:nvPr>
            <p:ph type="subTitle"/>
          </p:nvPr>
        </p:nvSpPr>
        <p:spPr>
          <a:xfrm>
            <a:off x="228240" y="1143000"/>
            <a:ext cx="8458200" cy="5486400"/>
          </a:xfrm>
          <a:prstGeom prst="rect">
            <a:avLst/>
          </a:prstGeom>
          <a:noFill/>
          <a:ln w="76320">
            <a:solidFill>
              <a:srgbClr val="339966"/>
            </a:solidFill>
            <a:miter/>
          </a:ln>
        </p:spPr>
        <p:txBody>
          <a:bodyPr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Copy of Policy with complete term, condi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warranties and endorsements if any .</a:t>
            </a:r>
            <a:endParaRPr b="0" lang="en-US" sz="2400" spc="-1" strike="noStrike">
              <a:solidFill>
                <a:srgbClr val="000000"/>
              </a:solidFill>
              <a:latin typeface="Times New Roman"/>
            </a:endParaRPr>
          </a:p>
          <a:p>
            <a:pPr>
              <a:lnSpc>
                <a:spcPct val="90000"/>
              </a:lnSpc>
              <a:spcBef>
                <a:spcPts val="601"/>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Survey report (Preliminary and final)</a:t>
            </a:r>
            <a:endParaRPr b="0" lang="en-US" sz="2400" spc="-1" strike="noStrike">
              <a:solidFill>
                <a:srgbClr val="000000"/>
              </a:solidFill>
              <a:latin typeface="Times New Roman"/>
            </a:endParaRPr>
          </a:p>
          <a:p>
            <a:pPr>
              <a:lnSpc>
                <a:spcPct val="90000"/>
              </a:lnSpc>
              <a:spcBef>
                <a:spcPts val="601"/>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Claim form duly completed by the insured.</a:t>
            </a:r>
            <a:endParaRPr b="0" lang="en-US" sz="2400" spc="-1" strike="noStrike">
              <a:solidFill>
                <a:srgbClr val="000000"/>
              </a:solidFill>
              <a:latin typeface="Times New Roman"/>
            </a:endParaRPr>
          </a:p>
          <a:p>
            <a:pPr>
              <a:lnSpc>
                <a:spcPct val="90000"/>
              </a:lnSpc>
              <a:spcBef>
                <a:spcPts val="601"/>
              </a:spcBef>
              <a:buClr>
                <a:srgbClr val="66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Police Report (For RSMD &amp; terrorism claims)</a:t>
            </a:r>
            <a:endParaRPr b="0" lang="en-US" sz="2400" spc="-1" strike="noStrike">
              <a:solidFill>
                <a:srgbClr val="000000"/>
              </a:solidFill>
              <a:latin typeface="Times New Roman"/>
            </a:endParaRPr>
          </a:p>
          <a:p>
            <a:pPr>
              <a:lnSpc>
                <a:spcPct val="90000"/>
              </a:lnSpc>
              <a:spcBef>
                <a:spcPts val="601"/>
              </a:spcBef>
              <a:buClr>
                <a:srgbClr val="ff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Fire Brigade Report for fire claims</a:t>
            </a:r>
            <a:endParaRPr b="0" lang="en-US" sz="2400" spc="-1" strike="noStrike">
              <a:solidFill>
                <a:srgbClr val="000000"/>
              </a:solidFill>
              <a:latin typeface="Times New Roman"/>
            </a:endParaRPr>
          </a:p>
          <a:p>
            <a:pPr>
              <a:lnSpc>
                <a:spcPct val="90000"/>
              </a:lnSpc>
              <a:spcBef>
                <a:spcPts val="601"/>
              </a:spcBef>
              <a:buClr>
                <a:srgbClr val="9966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Meteorological Report (in case of Act of God Peril claim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Photographs/video clips,</a:t>
            </a:r>
            <a:endParaRPr b="0" lang="en-US" sz="2400" spc="-1" strike="noStrike">
              <a:solidFill>
                <a:srgbClr val="000000"/>
              </a:solidFill>
              <a:latin typeface="Times New Roman"/>
            </a:endParaRPr>
          </a:p>
          <a:p>
            <a:pPr>
              <a:lnSpc>
                <a:spcPct val="90000"/>
              </a:lnSpc>
              <a:spcBef>
                <a:spcPts val="601"/>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Actual bills in case of RIV policies ,Removal of Debris, Architects fees etc.</a:t>
            </a:r>
            <a:endParaRPr b="0" lang="en-US" sz="2400" spc="-1" strike="noStrike">
              <a:solidFill>
                <a:srgbClr val="000000"/>
              </a:solidFill>
              <a:latin typeface="Times New Roman"/>
            </a:endParaRPr>
          </a:p>
          <a:p>
            <a:pPr>
              <a:lnSpc>
                <a:spcPct val="9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News paper cutting.</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xit" presetID="3" presetSubtype="10">
                                  <p:stCondLst>
                                    <p:cond delay="0"/>
                                  </p:stCondLst>
                                  <p:childTnLst>
                                    <p:animEffect filter="blinds(horizontal)" transition="out">
                                      <p:cBhvr additive="repl">
                                        <p:cTn id="128" dur="500"/>
                                        <p:tgtEl>
                                          <p:spTgt spid="233">
                                            <p:txEl>
                                              <p:pRg st="1" end="1"/>
                                            </p:txEl>
                                          </p:spTgt>
                                        </p:tgtEl>
                                      </p:cBhvr>
                                    </p:animEffect>
                                    <p:set>
                                      <p:cBhvr>
                                        <p:cTn id="129" dur="1" fill="hold">
                                          <p:stCondLst>
                                            <p:cond delay="499"/>
                                          </p:stCondLst>
                                        </p:cTn>
                                        <p:tgtEl>
                                          <p:spTgt spid="233">
                                            <p:txEl>
                                              <p:pRg st="1" end="1"/>
                                            </p:txEl>
                                          </p:spTgt>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233">
                                            <p:txEl>
                                              <p:pRg st="2" end="2"/>
                                            </p:txEl>
                                          </p:spTgt>
                                        </p:tgtEl>
                                      </p:cBhvr>
                                    </p:animEffect>
                                    <p:set>
                                      <p:cBhvr>
                                        <p:cTn id="134" dur="1" fill="hold">
                                          <p:stCondLst>
                                            <p:cond delay="499"/>
                                          </p:stCondLst>
                                        </p:cTn>
                                        <p:tgtEl>
                                          <p:spTgt spid="233">
                                            <p:txEl>
                                              <p:pRg st="2" end="2"/>
                                            </p:txEl>
                                          </p:spTgt>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33">
                                            <p:txEl>
                                              <p:pRg st="3" end="3"/>
                                            </p:txEl>
                                          </p:spTgt>
                                        </p:tgtEl>
                                      </p:cBhvr>
                                    </p:animEffect>
                                    <p:set>
                                      <p:cBhvr>
                                        <p:cTn id="139" dur="1" fill="hold">
                                          <p:stCondLst>
                                            <p:cond delay="499"/>
                                          </p:stCondLst>
                                        </p:cTn>
                                        <p:tgtEl>
                                          <p:spTgt spid="233">
                                            <p:txEl>
                                              <p:pRg st="3" end="3"/>
                                            </p:txEl>
                                          </p:spTgt>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233">
                                            <p:txEl>
                                              <p:pRg st="4" end="4"/>
                                            </p:txEl>
                                          </p:spTgt>
                                        </p:tgtEl>
                                      </p:cBhvr>
                                    </p:animEffect>
                                    <p:set>
                                      <p:cBhvr>
                                        <p:cTn id="142" dur="1" fill="hold">
                                          <p:stCondLst>
                                            <p:cond delay="499"/>
                                          </p:stCondLst>
                                        </p:cTn>
                                        <p:tgtEl>
                                          <p:spTgt spid="233">
                                            <p:txEl>
                                              <p:pRg st="4" end="4"/>
                                            </p:txEl>
                                          </p:spTgt>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233">
                                            <p:txEl>
                                              <p:pRg st="5" end="5"/>
                                            </p:txEl>
                                          </p:spTgt>
                                        </p:tgtEl>
                                      </p:cBhvr>
                                    </p:animEffect>
                                    <p:set>
                                      <p:cBhvr>
                                        <p:cTn id="145" dur="1" fill="hold">
                                          <p:stCondLst>
                                            <p:cond delay="499"/>
                                          </p:stCondLst>
                                        </p:cTn>
                                        <p:tgtEl>
                                          <p:spTgt spid="233">
                                            <p:txEl>
                                              <p:pRg st="5" end="5"/>
                                            </p:txEl>
                                          </p:spTgt>
                                        </p:tgtEl>
                                        <p:attrNameLst>
                                          <p:attrName>style.visibility</p:attrName>
                                        </p:attrNameLst>
                                      </p:cBhvr>
                                      <p:to>
                                        <p:strVal val="hidden"/>
                                      </p:to>
                                    </p:set>
                                  </p:childTnLst>
                                </p:cTn>
                              </p:par>
                              <p:par>
                                <p:cTn id="146" nodeType="withEffect" fill="hold" presetClass="exit" presetID="3" presetSubtype="10">
                                  <p:stCondLst>
                                    <p:cond delay="0"/>
                                  </p:stCondLst>
                                  <p:childTnLst>
                                    <p:animEffect filter="blinds(horizontal)" transition="out">
                                      <p:cBhvr additive="repl">
                                        <p:cTn id="147" dur="500"/>
                                        <p:tgtEl>
                                          <p:spTgt spid="233">
                                            <p:txEl>
                                              <p:pRg st="6" end="6"/>
                                            </p:txEl>
                                          </p:spTgt>
                                        </p:tgtEl>
                                      </p:cBhvr>
                                    </p:animEffect>
                                    <p:set>
                                      <p:cBhvr>
                                        <p:cTn id="148" dur="1" fill="hold">
                                          <p:stCondLst>
                                            <p:cond delay="499"/>
                                          </p:stCondLst>
                                        </p:cTn>
                                        <p:tgtEl>
                                          <p:spTgt spid="233">
                                            <p:txEl>
                                              <p:pRg st="6" end="6"/>
                                            </p:txEl>
                                          </p:spTgt>
                                        </p:tgtEl>
                                        <p:attrNameLst>
                                          <p:attrName>style.visibility</p:attrName>
                                        </p:attrNameLst>
                                      </p:cBhvr>
                                      <p:to>
                                        <p:strVal val="hidden"/>
                                      </p:to>
                                    </p:set>
                                  </p:childTnLst>
                                </p:cTn>
                              </p:par>
                              <p:par>
                                <p:cTn id="149" nodeType="withEffect" fill="hold" presetClass="exit" presetID="3" presetSubtype="10">
                                  <p:stCondLst>
                                    <p:cond delay="0"/>
                                  </p:stCondLst>
                                  <p:childTnLst>
                                    <p:animEffect filter="blinds(horizontal)" transition="out">
                                      <p:cBhvr additive="repl">
                                        <p:cTn id="150" dur="500"/>
                                        <p:tgtEl>
                                          <p:spTgt spid="233">
                                            <p:txEl>
                                              <p:pRg st="7" end="7"/>
                                            </p:txEl>
                                          </p:spTgt>
                                        </p:tgtEl>
                                      </p:cBhvr>
                                    </p:animEffect>
                                    <p:set>
                                      <p:cBhvr>
                                        <p:cTn id="151" dur="1" fill="hold">
                                          <p:stCondLst>
                                            <p:cond delay="499"/>
                                          </p:stCondLst>
                                        </p:cTn>
                                        <p:tgtEl>
                                          <p:spTgt spid="233">
                                            <p:txEl>
                                              <p:pRg st="7" end="7"/>
                                            </p:txEl>
                                          </p:spTgt>
                                        </p:tgtEl>
                                        <p:attrNameLst>
                                          <p:attrName>style.visibility</p:attrName>
                                        </p:attrNameLst>
                                      </p:cBhvr>
                                      <p:to>
                                        <p:strVal val="hidden"/>
                                      </p:to>
                                    </p:set>
                                  </p:childTnLst>
                                </p:cTn>
                              </p:par>
                              <p:par>
                                <p:cTn id="152" nodeType="withEffect" fill="hold" presetClass="exit" presetID="3" presetSubtype="10">
                                  <p:stCondLst>
                                    <p:cond delay="0"/>
                                  </p:stCondLst>
                                  <p:childTnLst>
                                    <p:animEffect filter="blinds(horizontal)" transition="out">
                                      <p:cBhvr additive="repl">
                                        <p:cTn id="153" dur="500"/>
                                        <p:tgtEl>
                                          <p:spTgt spid="233">
                                            <p:txEl>
                                              <p:pRg st="8" end="8"/>
                                            </p:txEl>
                                          </p:spTgt>
                                        </p:tgtEl>
                                      </p:cBhvr>
                                    </p:animEffect>
                                    <p:set>
                                      <p:cBhvr>
                                        <p:cTn id="154" dur="1" fill="hold">
                                          <p:stCondLst>
                                            <p:cond delay="499"/>
                                          </p:stCondLst>
                                        </p:cTn>
                                        <p:tgtEl>
                                          <p:spTgt spid="233">
                                            <p:txEl>
                                              <p:pRg st="8" end="8"/>
                                            </p:txEl>
                                          </p:spTgt>
                                        </p:tgtEl>
                                        <p:attrNameLst>
                                          <p:attrName>style.visibility</p:attrName>
                                        </p:attrNameLst>
                                      </p:cBhvr>
                                      <p:to>
                                        <p:strVal val="hidden"/>
                                      </p:to>
                                    </p:set>
                                  </p:childTnLst>
                                </p:cTn>
                              </p:par>
                              <p:par>
                                <p:cTn id="155" nodeType="withEffect" fill="hold" presetClass="exit" presetID="3" presetSubtype="10">
                                  <p:stCondLst>
                                    <p:cond delay="0"/>
                                  </p:stCondLst>
                                  <p:childTnLst>
                                    <p:animEffect filter="blinds(horizontal)" transition="out">
                                      <p:cBhvr additive="repl">
                                        <p:cTn id="156" dur="500"/>
                                        <p:tgtEl>
                                          <p:spTgt spid="233">
                                            <p:txEl>
                                              <p:pRg st="9" end="9"/>
                                            </p:txEl>
                                          </p:spTgt>
                                        </p:tgtEl>
                                      </p:cBhvr>
                                    </p:animEffect>
                                    <p:set>
                                      <p:cBhvr>
                                        <p:cTn id="157" dur="1" fill="hold">
                                          <p:stCondLst>
                                            <p:cond delay="499"/>
                                          </p:stCondLst>
                                        </p:cTn>
                                        <p:tgtEl>
                                          <p:spTgt spid="233">
                                            <p:txEl>
                                              <p:pRg st="9" end="9"/>
                                            </p:txEl>
                                          </p:spTgt>
                                        </p:tgtEl>
                                        <p:attrNameLst>
                                          <p:attrName>style.visibility</p:attrName>
                                        </p:attrNameLst>
                                      </p:cBhvr>
                                      <p:to>
                                        <p:strVal val="hidden"/>
                                      </p:to>
                                    </p:set>
                                  </p:childTnLst>
                                </p:cTn>
                              </p:par>
                              <p:par>
                                <p:cTn id="158" nodeType="withEffect" fill="hold" presetClass="exit" presetID="3" presetSubtype="10">
                                  <p:stCondLst>
                                    <p:cond delay="0"/>
                                  </p:stCondLst>
                                  <p:childTnLst>
                                    <p:animEffect filter="blinds(horizontal)" transition="out">
                                      <p:cBhvr additive="repl">
                                        <p:cTn id="159" dur="500"/>
                                        <p:tgtEl>
                                          <p:spTgt spid="233">
                                            <p:txEl>
                                              <p:pRg st="10" end="10"/>
                                            </p:txEl>
                                          </p:spTgt>
                                        </p:tgtEl>
                                      </p:cBhvr>
                                    </p:animEffect>
                                    <p:set>
                                      <p:cBhvr>
                                        <p:cTn id="160" dur="1" fill="hold">
                                          <p:stCondLst>
                                            <p:cond delay="499"/>
                                          </p:stCondLst>
                                        </p:cTn>
                                        <p:tgtEl>
                                          <p:spTgt spid="233">
                                            <p:txEl>
                                              <p:pRg st="10" end="10"/>
                                            </p:txEl>
                                          </p:spTgt>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165" dur="2000"/>
                                        <p:tgtEl>
                                          <p:spTgt spid="23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170" dur="2000"/>
                                        <p:tgtEl>
                                          <p:spTgt spid="23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6" presetSubtype="16">
                                  <p:stCondLst>
                                    <p:cond delay="0"/>
                                  </p:stCondLst>
                                  <p:childTnLst>
                                    <p:set>
                                      <p:cBhvr>
                                        <p:cTn id="174"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175" dur="2000"/>
                                        <p:tgtEl>
                                          <p:spTgt spid="233">
                                            <p:txEl>
                                              <p:pRg st="3" end="3"/>
                                            </p:txEl>
                                          </p:spTgt>
                                        </p:tgtEl>
                                      </p:cBhvr>
                                    </p:animEffect>
                                  </p:childTnLst>
                                </p:cTn>
                              </p:par>
                              <p:par>
                                <p:cTn id="176" nodeType="withEffect" fill="hold" presetClass="entr" presetID="6" presetSubtype="16">
                                  <p:stCondLst>
                                    <p:cond delay="0"/>
                                  </p:stCondLst>
                                  <p:childTnLst>
                                    <p:set>
                                      <p:cBhvr>
                                        <p:cTn id="177"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178" dur="2000"/>
                                        <p:tgtEl>
                                          <p:spTgt spid="233">
                                            <p:txEl>
                                              <p:pRg st="4" end="4"/>
                                            </p:txEl>
                                          </p:spTgt>
                                        </p:tgtEl>
                                      </p:cBhvr>
                                    </p:animEffect>
                                  </p:childTnLst>
                                </p:cTn>
                              </p:par>
                              <p:par>
                                <p:cTn id="179" nodeType="withEffect" fill="hold" presetClass="entr" presetID="6" presetSubtype="16">
                                  <p:stCondLst>
                                    <p:cond delay="0"/>
                                  </p:stCondLst>
                                  <p:childTnLst>
                                    <p:set>
                                      <p:cBhvr>
                                        <p:cTn id="180"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181" dur="2000"/>
                                        <p:tgtEl>
                                          <p:spTgt spid="233">
                                            <p:txEl>
                                              <p:pRg st="5" end="5"/>
                                            </p:txEl>
                                          </p:spTgt>
                                        </p:tgtEl>
                                      </p:cBhvr>
                                    </p:animEffect>
                                  </p:childTnLst>
                                </p:cTn>
                              </p:par>
                              <p:par>
                                <p:cTn id="182" nodeType="withEffect" fill="hold" presetClass="entr" presetID="6" presetSubtype="16">
                                  <p:stCondLst>
                                    <p:cond delay="0"/>
                                  </p:stCondLst>
                                  <p:childTnLst>
                                    <p:set>
                                      <p:cBhvr>
                                        <p:cTn id="183"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184" dur="2000"/>
                                        <p:tgtEl>
                                          <p:spTgt spid="233">
                                            <p:txEl>
                                              <p:pRg st="6" end="6"/>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33">
                                            <p:txEl>
                                              <p:pRg st="7" end="7"/>
                                            </p:txEl>
                                          </p:spTgt>
                                        </p:tgtEl>
                                        <p:attrNameLst>
                                          <p:attrName>style.visibility</p:attrName>
                                        </p:attrNameLst>
                                      </p:cBhvr>
                                      <p:to>
                                        <p:strVal val="visible"/>
                                      </p:to>
                                    </p:set>
                                    <p:animEffect filter="circle(in)" transition="in">
                                      <p:cBhvr additive="repl">
                                        <p:cTn id="187" dur="2000"/>
                                        <p:tgtEl>
                                          <p:spTgt spid="233">
                                            <p:txEl>
                                              <p:pRg st="7" end="7"/>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33">
                                            <p:txEl>
                                              <p:pRg st="8" end="8"/>
                                            </p:txEl>
                                          </p:spTgt>
                                        </p:tgtEl>
                                        <p:attrNameLst>
                                          <p:attrName>style.visibility</p:attrName>
                                        </p:attrNameLst>
                                      </p:cBhvr>
                                      <p:to>
                                        <p:strVal val="visible"/>
                                      </p:to>
                                    </p:set>
                                    <p:animEffect filter="circle(in)" transition="in">
                                      <p:cBhvr additive="repl">
                                        <p:cTn id="190" dur="2000"/>
                                        <p:tgtEl>
                                          <p:spTgt spid="233">
                                            <p:txEl>
                                              <p:pRg st="8" end="8"/>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33">
                                            <p:txEl>
                                              <p:pRg st="9" end="9"/>
                                            </p:txEl>
                                          </p:spTgt>
                                        </p:tgtEl>
                                        <p:attrNameLst>
                                          <p:attrName>style.visibility</p:attrName>
                                        </p:attrNameLst>
                                      </p:cBhvr>
                                      <p:to>
                                        <p:strVal val="visible"/>
                                      </p:to>
                                    </p:set>
                                    <p:animEffect filter="circle(in)" transition="in">
                                      <p:cBhvr additive="repl">
                                        <p:cTn id="193" dur="2000"/>
                                        <p:tgtEl>
                                          <p:spTgt spid="233">
                                            <p:txEl>
                                              <p:pRg st="9" end="9"/>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33">
                                            <p:txEl>
                                              <p:pRg st="10" end="10"/>
                                            </p:txEl>
                                          </p:spTgt>
                                        </p:tgtEl>
                                        <p:attrNameLst>
                                          <p:attrName>style.visibility</p:attrName>
                                        </p:attrNameLst>
                                      </p:cBhvr>
                                      <p:to>
                                        <p:strVal val="visible"/>
                                      </p:to>
                                    </p:set>
                                    <p:animEffect filter="circle(in)" transition="in">
                                      <p:cBhvr additive="repl">
                                        <p:cTn id="196" dur="2000"/>
                                        <p:tgtEl>
                                          <p:spTgt spid="23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Bookman Old Style"/>
              </a:rPr>
              <a:t>Duties of Surveyor</a:t>
            </a:r>
            <a:endParaRPr b="0" lang="en-US" sz="3200" spc="-1" strike="noStrike">
              <a:solidFill>
                <a:srgbClr val="000000"/>
              </a:solidFill>
              <a:latin typeface="Times New Roman"/>
            </a:endParaRPr>
          </a:p>
        </p:txBody>
      </p:sp>
      <p:sp>
        <p:nvSpPr>
          <p:cNvPr id="235" name="PlaceHolder 2"/>
          <p:cNvSpPr>
            <a:spLocks noGrp="1"/>
          </p:cNvSpPr>
          <p:nvPr>
            <p:ph type="subTitle"/>
          </p:nvPr>
        </p:nvSpPr>
        <p:spPr>
          <a:xfrm>
            <a:off x="304560" y="685440"/>
            <a:ext cx="8458200" cy="61722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To examine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To investigate into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3.  To ascertain extent of loss and assess i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o advise loss minimisation measures and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protection of salv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5.  Disposal of salvage as per guidelin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6.  To submit detailed report mentioning absolu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ownership, cause of loss, extent of damag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under insurance, salvage and excess withou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any ambig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7. Confirmation of net liability, property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reinstatement and policy terms and condition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8. To suggest the insured for avoidanc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reoccurrence of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203" dur="500"/>
                                        <p:tgtEl>
                                          <p:spTgt spid="235">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208" dur="500"/>
                                        <p:tgtEl>
                                          <p:spTgt spid="23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animEffect filter="circle(in)" transition="in">
                                      <p:cBhvr additive="repl">
                                        <p:cTn id="213" dur="2000"/>
                                        <p:tgtEl>
                                          <p:spTgt spid="23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218" dur="2000"/>
                                        <p:tgtEl>
                                          <p:spTgt spid="235">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235">
                                            <p:txEl>
                                              <p:pRg st="4" end="4"/>
                                            </p:txEl>
                                          </p:spTgt>
                                        </p:tgtEl>
                                        <p:attrNameLst>
                                          <p:attrName>style.visibility</p:attrName>
                                        </p:attrNameLst>
                                      </p:cBhvr>
                                      <p:to>
                                        <p:strVal val="visible"/>
                                      </p:to>
                                    </p:set>
                                    <p:animEffect filter="diamond(in)" transition="in">
                                      <p:cBhvr additive="repl">
                                        <p:cTn id="221" dur="2000"/>
                                        <p:tgtEl>
                                          <p:spTgt spid="235">
                                            <p:txEl>
                                              <p:pRg st="4" end="4"/>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35">
                                            <p:txEl>
                                              <p:pRg st="5" end="5"/>
                                            </p:txEl>
                                          </p:spTgt>
                                        </p:tgtEl>
                                        <p:attrNameLst>
                                          <p:attrName>style.visibility</p:attrName>
                                        </p:attrNameLst>
                                      </p:cBhvr>
                                      <p:to>
                                        <p:strVal val="visible"/>
                                      </p:to>
                                    </p:set>
                                    <p:anim calcmode="lin" valueType="num">
                                      <p:cBhvr additive="base">
                                        <p:cTn id="22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35">
                                            <p:txEl>
                                              <p:pRg st="6" end="6"/>
                                            </p:txEl>
                                          </p:spTgt>
                                        </p:tgtEl>
                                        <p:attrNameLst>
                                          <p:attrName>style.visibility</p:attrName>
                                        </p:attrNameLst>
                                      </p:cBhvr>
                                      <p:to>
                                        <p:strVal val="visible"/>
                                      </p:to>
                                    </p:set>
                                    <p:animEffect filter="strips(downLeft)" transition="in">
                                      <p:cBhvr additive="repl">
                                        <p:cTn id="232" dur="500"/>
                                        <p:tgtEl>
                                          <p:spTgt spid="235">
                                            <p:txEl>
                                              <p:pRg st="6" end="6"/>
                                            </p:txEl>
                                          </p:spTgt>
                                        </p:tgtEl>
                                      </p:cBhvr>
                                    </p:animEffect>
                                  </p:childTnLst>
                                </p:cTn>
                              </p:par>
                              <p:par>
                                <p:cTn id="233" nodeType="withEffect" fill="hold" presetClass="entr" presetID="18" presetSubtype="12">
                                  <p:stCondLst>
                                    <p:cond delay="0"/>
                                  </p:stCondLst>
                                  <p:childTnLst>
                                    <p:set>
                                      <p:cBhvr>
                                        <p:cTn id="234" dur="1" fill="hold">
                                          <p:stCondLst>
                                            <p:cond delay="0"/>
                                          </p:stCondLst>
                                        </p:cTn>
                                        <p:tgtEl>
                                          <p:spTgt spid="235">
                                            <p:txEl>
                                              <p:pRg st="7" end="7"/>
                                            </p:txEl>
                                          </p:spTgt>
                                        </p:tgtEl>
                                        <p:attrNameLst>
                                          <p:attrName>style.visibility</p:attrName>
                                        </p:attrNameLst>
                                      </p:cBhvr>
                                      <p:to>
                                        <p:strVal val="visible"/>
                                      </p:to>
                                    </p:set>
                                    <p:animEffect filter="strips(downLeft)" transition="in">
                                      <p:cBhvr additive="repl">
                                        <p:cTn id="235" dur="500"/>
                                        <p:tgtEl>
                                          <p:spTgt spid="235">
                                            <p:txEl>
                                              <p:pRg st="7" end="7"/>
                                            </p:txEl>
                                          </p:spTgt>
                                        </p:tgtEl>
                                      </p:cBhvr>
                                    </p:animEffect>
                                  </p:childTnLst>
                                </p:cTn>
                              </p:par>
                              <p:par>
                                <p:cTn id="236" nodeType="withEffect" fill="hold" presetClass="entr" presetID="18" presetSubtype="12">
                                  <p:stCondLst>
                                    <p:cond delay="0"/>
                                  </p:stCondLst>
                                  <p:childTnLst>
                                    <p:set>
                                      <p:cBhvr>
                                        <p:cTn id="237" dur="1" fill="hold">
                                          <p:stCondLst>
                                            <p:cond delay="0"/>
                                          </p:stCondLst>
                                        </p:cTn>
                                        <p:tgtEl>
                                          <p:spTgt spid="235">
                                            <p:txEl>
                                              <p:pRg st="8" end="8"/>
                                            </p:txEl>
                                          </p:spTgt>
                                        </p:tgtEl>
                                        <p:attrNameLst>
                                          <p:attrName>style.visibility</p:attrName>
                                        </p:attrNameLst>
                                      </p:cBhvr>
                                      <p:to>
                                        <p:strVal val="visible"/>
                                      </p:to>
                                    </p:set>
                                    <p:animEffect filter="strips(downLeft)" transition="in">
                                      <p:cBhvr additive="repl">
                                        <p:cTn id="238" dur="500"/>
                                        <p:tgtEl>
                                          <p:spTgt spid="235">
                                            <p:txEl>
                                              <p:pRg st="8" end="8"/>
                                            </p:txEl>
                                          </p:spTgt>
                                        </p:tgtEl>
                                      </p:cBhvr>
                                    </p:animEffect>
                                  </p:childTnLst>
                                </p:cTn>
                              </p:par>
                              <p:par>
                                <p:cTn id="239" nodeType="withEffect" fill="hold" presetClass="entr" presetID="18" presetSubtype="12">
                                  <p:stCondLst>
                                    <p:cond delay="0"/>
                                  </p:stCondLst>
                                  <p:childTnLst>
                                    <p:set>
                                      <p:cBhvr>
                                        <p:cTn id="240" dur="1" fill="hold">
                                          <p:stCondLst>
                                            <p:cond delay="0"/>
                                          </p:stCondLst>
                                        </p:cTn>
                                        <p:tgtEl>
                                          <p:spTgt spid="235">
                                            <p:txEl>
                                              <p:pRg st="9" end="9"/>
                                            </p:txEl>
                                          </p:spTgt>
                                        </p:tgtEl>
                                        <p:attrNameLst>
                                          <p:attrName>style.visibility</p:attrName>
                                        </p:attrNameLst>
                                      </p:cBhvr>
                                      <p:to>
                                        <p:strVal val="visible"/>
                                      </p:to>
                                    </p:set>
                                    <p:animEffect filter="strips(downLeft)" transition="in">
                                      <p:cBhvr additive="repl">
                                        <p:cTn id="241" dur="500"/>
                                        <p:tgtEl>
                                          <p:spTgt spid="235">
                                            <p:txEl>
                                              <p:pRg st="9" end="9"/>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9" presetSubtype="10">
                                  <p:stCondLst>
                                    <p:cond delay="0"/>
                                  </p:stCondLst>
                                  <p:childTnLst>
                                    <p:set>
                                      <p:cBhvr>
                                        <p:cTn id="245" dur="1" fill="hold">
                                          <p:stCondLst>
                                            <p:cond delay="0"/>
                                          </p:stCondLst>
                                        </p:cTn>
                                        <p:tgtEl>
                                          <p:spTgt spid="235">
                                            <p:txEl>
                                              <p:pRg st="10" end="10"/>
                                            </p:txEl>
                                          </p:spTgt>
                                        </p:tgtEl>
                                        <p:attrNameLst>
                                          <p:attrName>style.visibility</p:attrName>
                                        </p:attrNameLst>
                                      </p:cBhvr>
                                      <p:to>
                                        <p:strVal val="visible"/>
                                      </p:to>
                                    </p:set>
                                    <p:anim calcmode="lin" valueType="num">
                                      <p:cBhvr additive="repl">
                                        <p:cTn id="246" dur="5000" fill="hold"/>
                                        <p:tgtEl>
                                          <p:spTgt spid="235">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235">
                                            <p:txEl>
                                              <p:pRg st="10" end="10"/>
                                            </p:txEl>
                                          </p:spTgt>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p:stCondLst>
                                    <p:cond delay="0"/>
                                  </p:stCondLst>
                                  <p:childTnLst>
                                    <p:set>
                                      <p:cBhvr>
                                        <p:cTn id="249" dur="1" fill="hold">
                                          <p:stCondLst>
                                            <p:cond delay="0"/>
                                          </p:stCondLst>
                                        </p:cTn>
                                        <p:tgtEl>
                                          <p:spTgt spid="235">
                                            <p:txEl>
                                              <p:pRg st="11" end="11"/>
                                            </p:txEl>
                                          </p:spTgt>
                                        </p:tgtEl>
                                        <p:attrNameLst>
                                          <p:attrName>style.visibility</p:attrName>
                                        </p:attrNameLst>
                                      </p:cBhvr>
                                      <p:to>
                                        <p:strVal val="visible"/>
                                      </p:to>
                                    </p:set>
                                    <p:anim calcmode="lin" valueType="num">
                                      <p:cBhvr additive="repl">
                                        <p:cTn id="250" dur="5000" fill="hold"/>
                                        <p:tgtEl>
                                          <p:spTgt spid="235">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23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35">
                                            <p:txEl>
                                              <p:pRg st="12" end="12"/>
                                            </p:txEl>
                                          </p:spTgt>
                                        </p:tgtEl>
                                        <p:attrNameLst>
                                          <p:attrName>style.visibility</p:attrName>
                                        </p:attrNameLst>
                                      </p:cBhvr>
                                      <p:to>
                                        <p:strVal val="visible"/>
                                      </p:to>
                                    </p:set>
                                    <p:animEffect filter="dissolve" transition="in">
                                      <p:cBhvr additive="repl">
                                        <p:cTn id="256" dur="500"/>
                                        <p:tgtEl>
                                          <p:spTgt spid="235">
                                            <p:txEl>
                                              <p:pRg st="12" end="1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235">
                                            <p:txEl>
                                              <p:pRg st="13" end="13"/>
                                            </p:txEl>
                                          </p:spTgt>
                                        </p:tgtEl>
                                        <p:attrNameLst>
                                          <p:attrName>style.visibility</p:attrName>
                                        </p:attrNameLst>
                                      </p:cBhvr>
                                      <p:to>
                                        <p:strVal val="visible"/>
                                      </p:to>
                                    </p:set>
                                    <p:animEffect filter="dissolve" transition="in">
                                      <p:cBhvr additive="repl">
                                        <p:cTn id="261" dur="500"/>
                                        <p:tgtEl>
                                          <p:spTgt spid="2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Bookman Old Style"/>
              </a:rPr>
              <a:t>Contents of Survey Report</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228600" y="456840"/>
            <a:ext cx="8610480" cy="6172200"/>
          </a:xfrm>
          <a:prstGeom prst="rect">
            <a:avLst/>
          </a:prstGeom>
          <a:noFill/>
          <a:ln w="76320">
            <a:solidFill>
              <a:srgbClr val="0099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1</a:t>
            </a:r>
            <a:r>
              <a:rPr b="1" lang="en-US" sz="2800" spc="-1" strike="noStrike">
                <a:solidFill>
                  <a:srgbClr val="6600cc"/>
                </a:solidFill>
                <a:latin typeface="Times New Roman"/>
              </a:rPr>
              <a:t>.  </a:t>
            </a:r>
            <a:r>
              <a:rPr b="1" lang="en-US" sz="2400" spc="-1" strike="noStrike">
                <a:solidFill>
                  <a:srgbClr val="6600cc"/>
                </a:solidFill>
                <a:latin typeface="Bookman Old Style"/>
              </a:rPr>
              <a:t>Name &amp; address of the insured, name of the bank interested, name of the other financial institutions or other mortgag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2.  Description of the risk</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3.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4.  Circumstances and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Bookman Old Style"/>
              </a:rPr>
              <a:t>5.  Description of the dam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6.  Loss 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7.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8.  Breach of warranty if an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9.  Recovery from third part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10. Final Assessment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11.  Apportionme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12.  General observations and th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0"/>
            <a:ext cx="76201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Bookman Old Style"/>
              </a:rPr>
              <a:t>Duties of the Insured</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228600" y="533160"/>
            <a:ext cx="8686800" cy="6095880"/>
          </a:xfrm>
          <a:prstGeom prst="rect">
            <a:avLst/>
          </a:prstGeom>
          <a:noFill/>
          <a:ln w="76320">
            <a:solidFill>
              <a:srgbClr val="6600cc"/>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1.  Notification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2.  Maintenance of good faith and taking off los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     </a:t>
            </a:r>
            <a:r>
              <a:rPr b="1" lang="en-US" sz="2400" spc="-1" strike="noStrike">
                <a:solidFill>
                  <a:srgbClr val="ff33cc"/>
                </a:solidFill>
                <a:latin typeface="Bookman Old Style"/>
              </a:rPr>
              <a:t>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3.  Submission of proof and particulars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     </a:t>
            </a:r>
            <a:r>
              <a:rPr b="1" lang="en-US" sz="2400" spc="-1" strike="noStrike">
                <a:solidFill>
                  <a:srgbClr val="3366cc"/>
                </a:solidFill>
                <a:latin typeface="Bookman Old Style"/>
              </a:rPr>
              <a:t>Insured must establish the following fac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hat the loss took place during the currency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5.  The loss caused by perils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     </a:t>
            </a:r>
            <a:r>
              <a:rPr b="1" lang="en-US" sz="2400" spc="-1" strike="noStrike">
                <a:solidFill>
                  <a:srgbClr val="669900"/>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6.  The perils operated in circumstances which fall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     </a:t>
            </a:r>
            <a:r>
              <a:rPr b="1" lang="en-US" sz="2400" spc="-1" strike="noStrike">
                <a:solidFill>
                  <a:srgbClr val="ff9900"/>
                </a:solidFill>
                <a:latin typeface="Bookman Old Style"/>
              </a:rPr>
              <a:t>in the scope of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7.  Damaged subject matter held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8.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okman Old Style"/>
              </a:rPr>
              <a:t>Basis of Indemnity</a:t>
            </a:r>
            <a:endParaRPr b="0" lang="en-US" sz="3600" spc="-1" strike="noStrike">
              <a:solidFill>
                <a:srgbClr val="000000"/>
              </a:solidFill>
              <a:latin typeface="Times New Roman"/>
            </a:endParaRPr>
          </a:p>
        </p:txBody>
      </p:sp>
      <p:sp>
        <p:nvSpPr>
          <p:cNvPr id="241" name="PlaceHolder 2"/>
          <p:cNvSpPr>
            <a:spLocks noGrp="1"/>
          </p:cNvSpPr>
          <p:nvPr>
            <p:ph type="subTitle"/>
          </p:nvPr>
        </p:nvSpPr>
        <p:spPr>
          <a:xfrm>
            <a:off x="380520" y="838080"/>
            <a:ext cx="8458200" cy="5639040"/>
          </a:xfrm>
          <a:prstGeom prst="rect">
            <a:avLst/>
          </a:prstGeom>
          <a:noFill/>
          <a:ln w="76320">
            <a:solidFill>
              <a:srgbClr val="339966"/>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Raw Mate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Landed cost at the place of fire and tim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Stock in proce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ff3300"/>
                </a:solidFill>
                <a:latin typeface="Bookman Old Style"/>
              </a:rPr>
              <a:t>Landed cost + all direct cost of process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upto that st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Finished Goo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66ff"/>
                </a:solidFill>
                <a:latin typeface="Bookman Old Style"/>
              </a:rPr>
              <a:t>Manufacturers ex Factory price less Ne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rofi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Fixed Asse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cc0099"/>
                </a:solidFill>
                <a:latin typeface="Bookman Old Style"/>
              </a:rPr>
              <a:t>Cost of repairs/replacement/reinstat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         </a:t>
            </a:r>
            <a:r>
              <a:rPr b="1" lang="en-US" sz="2400" spc="-1" strike="noStrike">
                <a:solidFill>
                  <a:srgbClr val="cc0099"/>
                </a:solidFill>
                <a:latin typeface="Bookman Old Style"/>
              </a:rPr>
              <a:t>in case of RIV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41">
                                            <p:txEl>
                                              <p:pRg st="1" end="1"/>
                                            </p:txEl>
                                          </p:spTgt>
                                        </p:tgtEl>
                                        <p:attrNameLst>
                                          <p:attrName>style.visibility</p:attrName>
                                        </p:attrNameLst>
                                      </p:cBhvr>
                                      <p:to>
                                        <p:strVal val="visible"/>
                                      </p:to>
                                    </p:set>
                                    <p:animEffect filter="checkerboard(across)" transition="in">
                                      <p:cBhvr additive="repl">
                                        <p:cTn id="268" dur="500"/>
                                        <p:tgtEl>
                                          <p:spTgt spid="241">
                                            <p:txEl>
                                              <p:pRg st="1" end="1"/>
                                            </p:txEl>
                                          </p:spTgt>
                                        </p:tgtEl>
                                      </p:cBhvr>
                                    </p:animEffect>
                                  </p:childTnLst>
                                </p:cTn>
                              </p:par>
                              <p:par>
                                <p:cTn id="269" nodeType="withEffect" fill="hold" presetClass="entr" presetID="5" presetSubtype="10">
                                  <p:stCondLst>
                                    <p:cond delay="0"/>
                                  </p:stCondLst>
                                  <p:childTnLst>
                                    <p:set>
                                      <p:cBhvr>
                                        <p:cTn id="270"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271" dur="500"/>
                                        <p:tgtEl>
                                          <p:spTgt spid="241">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276" dur="500"/>
                                        <p:tgtEl>
                                          <p:spTgt spid="241">
                                            <p:txEl>
                                              <p:pRg st="4" end="4"/>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279" dur="500"/>
                                        <p:tgtEl>
                                          <p:spTgt spid="241">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284" dur="2000"/>
                                        <p:tgtEl>
                                          <p:spTgt spid="241">
                                            <p:txEl>
                                              <p:pRg st="7" end="7"/>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241">
                                            <p:txEl>
                                              <p:pRg st="8" end="8"/>
                                            </p:txEl>
                                          </p:spTgt>
                                        </p:tgtEl>
                                        <p:attrNameLst>
                                          <p:attrName>style.visibility</p:attrName>
                                        </p:attrNameLst>
                                      </p:cBhvr>
                                      <p:to>
                                        <p:strVal val="visible"/>
                                      </p:to>
                                    </p:set>
                                    <p:animEffect filter="diamond(in)" transition="in">
                                      <p:cBhvr additive="repl">
                                        <p:cTn id="287" dur="2000"/>
                                        <p:tgtEl>
                                          <p:spTgt spid="241">
                                            <p:txEl>
                                              <p:pRg st="8" end="8"/>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10" end="10"/>
                                            </p:txEl>
                                          </p:spTgt>
                                        </p:tgtEl>
                                        <p:attrNameLst>
                                          <p:attrName>style.visibility</p:attrName>
                                        </p:attrNameLst>
                                      </p:cBhvr>
                                      <p:to>
                                        <p:strVal val="visible"/>
                                      </p:to>
                                    </p:set>
                                    <p:anim calcmode="lin" valueType="num">
                                      <p:cBhvr additive="base">
                                        <p:cTn id="292"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41">
                                            <p:txEl>
                                              <p:pRg st="11" end="11"/>
                                            </p:txEl>
                                          </p:spTgt>
                                        </p:tgtEl>
                                        <p:attrNameLst>
                                          <p:attrName>style.visibility</p:attrName>
                                        </p:attrNameLst>
                                      </p:cBhvr>
                                      <p:to>
                                        <p:strVal val="visible"/>
                                      </p:to>
                                    </p:set>
                                    <p:anim calcmode="lin" valueType="num">
                                      <p:cBhvr additive="base">
                                        <p:cTn id="296" dur="500" fill="hold"/>
                                        <p:tgtEl>
                                          <p:spTgt spid="241">
                                            <p:txEl>
                                              <p:pRg st="11" end="1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LOSS ASSESSMENT</a:t>
            </a:r>
            <a:endParaRPr b="0" lang="en-US" sz="3600" spc="-1" strike="noStrike">
              <a:solidFill>
                <a:srgbClr val="000000"/>
              </a:solidFill>
              <a:latin typeface="Times New Roman"/>
            </a:endParaRPr>
          </a:p>
        </p:txBody>
      </p:sp>
      <p:sp>
        <p:nvSpPr>
          <p:cNvPr id="243" name="PlaceHolder 2"/>
          <p:cNvSpPr>
            <a:spLocks noGrp="1"/>
          </p:cNvSpPr>
          <p:nvPr>
            <p:ph type="subTitle"/>
          </p:nvPr>
        </p:nvSpPr>
        <p:spPr>
          <a:xfrm>
            <a:off x="457200" y="837720"/>
            <a:ext cx="8305920" cy="5791320"/>
          </a:xfrm>
          <a:prstGeom prst="rect">
            <a:avLst/>
          </a:prstGeom>
          <a:noFill/>
          <a:ln w="5724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BUILDING:</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Class of construction, age,measurement and estimate for reconstruction.</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Bookman Old Style"/>
              </a:rPr>
              <a:t>STOCK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Quantity of damaged stock by count,weight or measurement and cost at the time and place of loss assessed by Market/ Government pric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MACHINERY:</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Bookman Old Style"/>
              </a:rPr>
              <a:t>Replacement cost, age and use,extent of damage estimate of repai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3">
                                            <p:txEl>
                                              <p:pRg st="2" end="2"/>
                                            </p:txEl>
                                          </p:spTgt>
                                        </p:tgtEl>
                                        <p:attrNameLst>
                                          <p:attrName>style.visibility</p:attrName>
                                        </p:attrNameLst>
                                      </p:cBhvr>
                                      <p:to>
                                        <p:strVal val="visible"/>
                                      </p:to>
                                    </p:set>
                                    <p:anim calcmode="lin" valueType="num">
                                      <p:cBhvr additive="base">
                                        <p:cTn id="30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3">
                                            <p:txEl>
                                              <p:pRg st="5" end="5"/>
                                            </p:txEl>
                                          </p:spTgt>
                                        </p:tgtEl>
                                        <p:attrNameLst>
                                          <p:attrName>style.visibility</p:attrName>
                                        </p:attrNameLst>
                                      </p:cBhvr>
                                      <p:to>
                                        <p:strVal val="visible"/>
                                      </p:to>
                                    </p:set>
                                    <p:anim calcmode="lin" valueType="num">
                                      <p:cBhvr additive="base">
                                        <p:cTn id="31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43">
                                            <p:txEl>
                                              <p:pRg st="8" end="8"/>
                                            </p:txEl>
                                          </p:spTgt>
                                        </p:tgtEl>
                                        <p:attrNameLst>
                                          <p:attrName>style.visibility</p:attrName>
                                        </p:attrNameLst>
                                      </p:cBhvr>
                                      <p:to>
                                        <p:strVal val="visible"/>
                                      </p:to>
                                    </p:set>
                                    <p:anim calcmode="lin" valueType="num">
                                      <p:cBhvr additive="base">
                                        <p:cTn id="31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Bookman Old Style"/>
              </a:rPr>
              <a:t>On-Account Payment</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990360"/>
            <a:ext cx="8534160" cy="5105160"/>
          </a:xfrm>
          <a:prstGeom prst="rect">
            <a:avLst/>
          </a:prstGeom>
          <a:noFill/>
          <a:ln w="76320">
            <a:solidFill>
              <a:srgbClr val="0000ff"/>
            </a:solidFill>
            <a:miter/>
          </a:ln>
        </p:spPr>
        <p:txBody>
          <a:bodyPr anchor="t">
            <a:normAutofit/>
          </a:bodyPr>
          <a:p>
            <a:pPr marL="343080" indent="-343080" algn="just">
              <a:lnSpc>
                <a:spcPct val="100000"/>
              </a:lnSpc>
              <a:spcBef>
                <a:spcPts val="700"/>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Bookman Old Style"/>
              </a:rPr>
              <a:t>Establishment of Absolute liability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Loss is Admitted but yet to Quantified</a:t>
            </a:r>
            <a:endParaRPr b="0" lang="en-US" sz="2800" spc="-1" strike="noStrike">
              <a:solidFill>
                <a:srgbClr val="000000"/>
              </a:solidFill>
              <a:latin typeface="Times New Roman"/>
            </a:endParaRPr>
          </a:p>
          <a:p>
            <a:pPr marL="343080" indent="-343080" algn="just">
              <a:lnSpc>
                <a:spcPct val="100000"/>
              </a:lnSpc>
              <a:spcBef>
                <a:spcPts val="700"/>
              </a:spcBef>
              <a:buClr>
                <a:srgbClr val="ff66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Bookman Old Style"/>
              </a:rPr>
              <a:t>Pending final Assessment</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Insured has commenced repair/replacement of affected property</a:t>
            </a:r>
            <a:endParaRPr b="0" lang="en-US" sz="2800" spc="-1" strike="noStrike">
              <a:solidFill>
                <a:srgbClr val="000000"/>
              </a:solidFill>
              <a:latin typeface="Times New Roman"/>
            </a:endParaRPr>
          </a:p>
          <a:p>
            <a:pPr marL="343080" indent="-343080"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Intermediary Payment made out of Minimum liability.</a:t>
            </a:r>
            <a:endParaRPr b="0" lang="en-US" sz="28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Balance amount paid after submission of Final Survey repor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324" dur="500"/>
                                        <p:tgtEl>
                                          <p:spTgt spid="24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329" dur="500"/>
                                        <p:tgtEl>
                                          <p:spTgt spid="245">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334" dur="500"/>
                                        <p:tgtEl>
                                          <p:spTgt spid="245">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245">
                                            <p:txEl>
                                              <p:pRg st="3" end="3"/>
                                            </p:txEl>
                                          </p:spTgt>
                                        </p:tgtEl>
                                        <p:attrNameLst>
                                          <p:attrName>style.visibility</p:attrName>
                                        </p:attrNameLst>
                                      </p:cBhvr>
                                      <p:to>
                                        <p:strVal val="visible"/>
                                      </p:to>
                                    </p:set>
                                    <p:animEffect filter="circle(in)" transition="in">
                                      <p:cBhvr additive="repl">
                                        <p:cTn id="339" dur="2000"/>
                                        <p:tgtEl>
                                          <p:spTgt spid="245">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45">
                                            <p:txEl>
                                              <p:pRg st="4" end="4"/>
                                            </p:txEl>
                                          </p:spTgt>
                                        </p:tgtEl>
                                        <p:attrNameLst>
                                          <p:attrName>style.visibility</p:attrName>
                                        </p:attrNameLst>
                                      </p:cBhvr>
                                      <p:to>
                                        <p:strVal val="visible"/>
                                      </p:to>
                                    </p:set>
                                    <p:animEffect filter="strips(downLeft)" transition="in">
                                      <p:cBhvr additive="repl">
                                        <p:cTn id="344" dur="500"/>
                                        <p:tgtEl>
                                          <p:spTgt spid="245">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45">
                                            <p:txEl>
                                              <p:pRg st="5" end="5"/>
                                            </p:txEl>
                                          </p:spTgt>
                                        </p:tgtEl>
                                        <p:attrNameLst>
                                          <p:attrName>style.visibility</p:attrName>
                                        </p:attrNameLst>
                                      </p:cBhvr>
                                      <p:to>
                                        <p:strVal val="visible"/>
                                      </p:to>
                                    </p:set>
                                    <p:animEffect filter="checkerboard(across)" transition="in">
                                      <p:cBhvr additive="repl">
                                        <p:cTn id="349"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object 2"/>
          <p:cNvGrpSpPr/>
          <p:nvPr/>
        </p:nvGrpSpPr>
        <p:grpSpPr>
          <a:xfrm>
            <a:off x="0" y="1150920"/>
            <a:ext cx="9144000" cy="4648320"/>
            <a:chOff x="0" y="1150920"/>
            <a:chExt cx="9144000" cy="4648320"/>
          </a:xfrm>
        </p:grpSpPr>
        <p:pic>
          <p:nvPicPr>
            <p:cNvPr id="63" name="object 3" descr=""/>
            <p:cNvPicPr/>
            <p:nvPr/>
          </p:nvPicPr>
          <p:blipFill>
            <a:blip r:embed="rId1"/>
            <a:stretch/>
          </p:blipFill>
          <p:spPr>
            <a:xfrm>
              <a:off x="0" y="1150920"/>
              <a:ext cx="9144000" cy="4648320"/>
            </a:xfrm>
            <a:prstGeom prst="rect">
              <a:avLst/>
            </a:prstGeom>
            <a:ln w="0">
              <a:noFill/>
            </a:ln>
          </p:spPr>
        </p:pic>
        <p:pic>
          <p:nvPicPr>
            <p:cNvPr id="64" name="object 5" descr=""/>
            <p:cNvPicPr/>
            <p:nvPr/>
          </p:nvPicPr>
          <p:blipFill>
            <a:blip r:embed="rId2"/>
            <a:stretch/>
          </p:blipFill>
          <p:spPr>
            <a:xfrm>
              <a:off x="5245200" y="1743120"/>
              <a:ext cx="366840" cy="469440"/>
            </a:xfrm>
            <a:prstGeom prst="rect">
              <a:avLst/>
            </a:prstGeom>
            <a:ln w="0">
              <a:noFill/>
            </a:ln>
          </p:spPr>
        </p:pic>
        <p:pic>
          <p:nvPicPr>
            <p:cNvPr id="65" name="object 6" descr=""/>
            <p:cNvPicPr/>
            <p:nvPr/>
          </p:nvPicPr>
          <p:blipFill>
            <a:blip r:embed="rId3"/>
            <a:stretch/>
          </p:blipFill>
          <p:spPr>
            <a:xfrm>
              <a:off x="5372280" y="1852560"/>
              <a:ext cx="160920" cy="207000"/>
            </a:xfrm>
            <a:prstGeom prst="rect">
              <a:avLst/>
            </a:prstGeom>
            <a:ln w="0">
              <a:noFill/>
            </a:ln>
          </p:spPr>
        </p:pic>
        <p:pic>
          <p:nvPicPr>
            <p:cNvPr id="66" name="object 7" descr=""/>
            <p:cNvPicPr/>
            <p:nvPr/>
          </p:nvPicPr>
          <p:blipFill>
            <a:blip r:embed="rId4"/>
            <a:stretch/>
          </p:blipFill>
          <p:spPr>
            <a:xfrm>
              <a:off x="5591520" y="2834640"/>
              <a:ext cx="366840" cy="469440"/>
            </a:xfrm>
            <a:prstGeom prst="rect">
              <a:avLst/>
            </a:prstGeom>
            <a:ln w="0">
              <a:noFill/>
            </a:ln>
          </p:spPr>
        </p:pic>
        <p:pic>
          <p:nvPicPr>
            <p:cNvPr id="67" name="object 8" descr=""/>
            <p:cNvPicPr/>
            <p:nvPr/>
          </p:nvPicPr>
          <p:blipFill>
            <a:blip r:embed="rId5"/>
            <a:stretch/>
          </p:blipFill>
          <p:spPr>
            <a:xfrm>
              <a:off x="5718600" y="2944080"/>
              <a:ext cx="160920" cy="207000"/>
            </a:xfrm>
            <a:prstGeom prst="rect">
              <a:avLst/>
            </a:prstGeom>
            <a:ln w="0">
              <a:noFill/>
            </a:ln>
          </p:spPr>
        </p:pic>
        <p:pic>
          <p:nvPicPr>
            <p:cNvPr id="68" name="object 9" descr=""/>
            <p:cNvPicPr/>
            <p:nvPr/>
          </p:nvPicPr>
          <p:blipFill>
            <a:blip r:embed="rId6"/>
            <a:stretch/>
          </p:blipFill>
          <p:spPr>
            <a:xfrm>
              <a:off x="5268240" y="3951000"/>
              <a:ext cx="366840" cy="468000"/>
            </a:xfrm>
            <a:prstGeom prst="rect">
              <a:avLst/>
            </a:prstGeom>
            <a:ln w="0">
              <a:noFill/>
            </a:ln>
          </p:spPr>
        </p:pic>
        <p:pic>
          <p:nvPicPr>
            <p:cNvPr id="69" name="object 10" descr=""/>
            <p:cNvPicPr/>
            <p:nvPr/>
          </p:nvPicPr>
          <p:blipFill>
            <a:blip r:embed="rId7"/>
            <a:stretch/>
          </p:blipFill>
          <p:spPr>
            <a:xfrm>
              <a:off x="5394960" y="4060440"/>
              <a:ext cx="160920" cy="205920"/>
            </a:xfrm>
            <a:prstGeom prst="rect">
              <a:avLst/>
            </a:prstGeom>
            <a:ln w="0">
              <a:noFill/>
            </a:ln>
          </p:spPr>
        </p:pic>
        <p:pic>
          <p:nvPicPr>
            <p:cNvPr id="70" name="object 11" descr=""/>
            <p:cNvPicPr/>
            <p:nvPr/>
          </p:nvPicPr>
          <p:blipFill>
            <a:blip r:embed="rId8"/>
            <a:stretch/>
          </p:blipFill>
          <p:spPr>
            <a:xfrm>
              <a:off x="3459960" y="3902760"/>
              <a:ext cx="366840" cy="468000"/>
            </a:xfrm>
            <a:prstGeom prst="rect">
              <a:avLst/>
            </a:prstGeom>
            <a:ln w="0">
              <a:noFill/>
            </a:ln>
          </p:spPr>
        </p:pic>
        <p:pic>
          <p:nvPicPr>
            <p:cNvPr id="71" name="object 12" descr=""/>
            <p:cNvPicPr/>
            <p:nvPr/>
          </p:nvPicPr>
          <p:blipFill>
            <a:blip r:embed="rId9"/>
            <a:stretch/>
          </p:blipFill>
          <p:spPr>
            <a:xfrm>
              <a:off x="3585960" y="4013280"/>
              <a:ext cx="161640" cy="205560"/>
            </a:xfrm>
            <a:prstGeom prst="rect">
              <a:avLst/>
            </a:prstGeom>
            <a:ln w="0">
              <a:noFill/>
            </a:ln>
          </p:spPr>
        </p:pic>
        <p:pic>
          <p:nvPicPr>
            <p:cNvPr id="72" name="object 13" descr=""/>
            <p:cNvPicPr/>
            <p:nvPr/>
          </p:nvPicPr>
          <p:blipFill>
            <a:blip r:embed="rId10"/>
            <a:stretch/>
          </p:blipFill>
          <p:spPr>
            <a:xfrm>
              <a:off x="3155760" y="2834640"/>
              <a:ext cx="366840" cy="468000"/>
            </a:xfrm>
            <a:prstGeom prst="rect">
              <a:avLst/>
            </a:prstGeom>
            <a:ln w="0">
              <a:noFill/>
            </a:ln>
          </p:spPr>
        </p:pic>
        <p:pic>
          <p:nvPicPr>
            <p:cNvPr id="73" name="object 14" descr=""/>
            <p:cNvPicPr/>
            <p:nvPr/>
          </p:nvPicPr>
          <p:blipFill>
            <a:blip r:embed="rId11"/>
            <a:stretch/>
          </p:blipFill>
          <p:spPr>
            <a:xfrm>
              <a:off x="3282120" y="2944440"/>
              <a:ext cx="160920" cy="206280"/>
            </a:xfrm>
            <a:prstGeom prst="rect">
              <a:avLst/>
            </a:prstGeom>
            <a:ln w="0">
              <a:noFill/>
            </a:ln>
          </p:spPr>
        </p:pic>
        <p:pic>
          <p:nvPicPr>
            <p:cNvPr id="74" name="object 15" descr=""/>
            <p:cNvPicPr/>
            <p:nvPr/>
          </p:nvPicPr>
          <p:blipFill>
            <a:blip r:embed="rId12"/>
            <a:stretch/>
          </p:blipFill>
          <p:spPr>
            <a:xfrm>
              <a:off x="3449520" y="1784160"/>
              <a:ext cx="366840" cy="469440"/>
            </a:xfrm>
            <a:prstGeom prst="rect">
              <a:avLst/>
            </a:prstGeom>
            <a:ln w="0">
              <a:noFill/>
            </a:ln>
          </p:spPr>
        </p:pic>
        <p:pic>
          <p:nvPicPr>
            <p:cNvPr id="75" name="object 16" descr=""/>
            <p:cNvPicPr/>
            <p:nvPr/>
          </p:nvPicPr>
          <p:blipFill>
            <a:blip r:embed="rId13"/>
            <a:stretch/>
          </p:blipFill>
          <p:spPr>
            <a:xfrm>
              <a:off x="3575880" y="1894680"/>
              <a:ext cx="160920" cy="206280"/>
            </a:xfrm>
            <a:prstGeom prst="rect">
              <a:avLst/>
            </a:prstGeom>
            <a:ln w="0">
              <a:noFill/>
            </a:ln>
          </p:spPr>
        </p:pic>
        <p:sp>
          <p:nvSpPr>
            <p:cNvPr id="76" name="object 17"/>
            <p:cNvSpPr/>
            <p:nvPr/>
          </p:nvSpPr>
          <p:spPr>
            <a:xfrm>
              <a:off x="446040" y="1447560"/>
              <a:ext cx="2739960" cy="927000"/>
            </a:xfrm>
            <a:custGeom>
              <a:avLst/>
              <a:gdLst/>
              <a:ahLst/>
              <a:rect l="l" t="t" r="r" b="b"/>
              <a:pathLst>
                <a:path w="3653154" h="967739">
                  <a:moveTo>
                    <a:pt x="3491738" y="0"/>
                  </a:moveTo>
                  <a:lnTo>
                    <a:pt x="161290" y="0"/>
                  </a:lnTo>
                  <a:lnTo>
                    <a:pt x="118412" y="5764"/>
                  </a:lnTo>
                  <a:lnTo>
                    <a:pt x="79883" y="22032"/>
                  </a:lnTo>
                  <a:lnTo>
                    <a:pt x="47240" y="47259"/>
                  </a:lnTo>
                  <a:lnTo>
                    <a:pt x="22020" y="79906"/>
                  </a:lnTo>
                  <a:lnTo>
                    <a:pt x="5761" y="118430"/>
                  </a:lnTo>
                  <a:lnTo>
                    <a:pt x="0" y="161289"/>
                  </a:lnTo>
                  <a:lnTo>
                    <a:pt x="0" y="806450"/>
                  </a:lnTo>
                  <a:lnTo>
                    <a:pt x="5761" y="849309"/>
                  </a:lnTo>
                  <a:lnTo>
                    <a:pt x="22020" y="887833"/>
                  </a:lnTo>
                  <a:lnTo>
                    <a:pt x="47240" y="920480"/>
                  </a:lnTo>
                  <a:lnTo>
                    <a:pt x="79883" y="945707"/>
                  </a:lnTo>
                  <a:lnTo>
                    <a:pt x="118412" y="961975"/>
                  </a:lnTo>
                  <a:lnTo>
                    <a:pt x="161290" y="967739"/>
                  </a:lnTo>
                  <a:lnTo>
                    <a:pt x="3491738" y="967739"/>
                  </a:lnTo>
                  <a:lnTo>
                    <a:pt x="3534597" y="961975"/>
                  </a:lnTo>
                  <a:lnTo>
                    <a:pt x="3573121" y="945707"/>
                  </a:lnTo>
                  <a:lnTo>
                    <a:pt x="3605768" y="920480"/>
                  </a:lnTo>
                  <a:lnTo>
                    <a:pt x="3630995" y="887833"/>
                  </a:lnTo>
                  <a:lnTo>
                    <a:pt x="3647263" y="849309"/>
                  </a:lnTo>
                  <a:lnTo>
                    <a:pt x="3653028" y="806450"/>
                  </a:lnTo>
                  <a:lnTo>
                    <a:pt x="3653028" y="161289"/>
                  </a:lnTo>
                  <a:lnTo>
                    <a:pt x="3647263" y="118430"/>
                  </a:lnTo>
                  <a:lnTo>
                    <a:pt x="3630995" y="79906"/>
                  </a:lnTo>
                  <a:lnTo>
                    <a:pt x="3605768" y="47259"/>
                  </a:lnTo>
                  <a:lnTo>
                    <a:pt x="3573121" y="22032"/>
                  </a:lnTo>
                  <a:lnTo>
                    <a:pt x="3534597" y="5764"/>
                  </a:lnTo>
                  <a:lnTo>
                    <a:pt x="3491738"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 name="object 19"/>
          <p:cNvSpPr/>
          <p:nvPr/>
        </p:nvSpPr>
        <p:spPr>
          <a:xfrm>
            <a:off x="2778120" y="582480"/>
            <a:ext cx="3760920" cy="741960"/>
          </a:xfrm>
          <a:prstGeom prst="rect">
            <a:avLst/>
          </a:prstGeom>
          <a:noFill/>
          <a:ln w="0">
            <a:noFill/>
          </a:ln>
        </p:spPr>
        <p:style>
          <a:lnRef idx="0"/>
          <a:fillRef idx="0"/>
          <a:effectRef idx="0"/>
          <a:fontRef idx="minor"/>
        </p:style>
        <p:txBody>
          <a:bodyPr lIns="0" rIns="0" tIns="10080" bIns="0" anchor="t">
            <a:spAutoFit/>
          </a:bodyPr>
          <a:p>
            <a:pPr marL="7920" algn="ctr">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BHARAT GRIHA  RAKSHA  POLICY</a:t>
            </a:r>
            <a:endParaRPr b="0" lang="en-US" sz="2400" spc="-1" strike="noStrike">
              <a:solidFill>
                <a:srgbClr val="000000"/>
              </a:solidFill>
              <a:latin typeface="Times New Roman"/>
            </a:endParaRPr>
          </a:p>
        </p:txBody>
      </p:sp>
      <p:grpSp>
        <p:nvGrpSpPr>
          <p:cNvPr id="78" name="object 20"/>
          <p:cNvGrpSpPr/>
          <p:nvPr/>
        </p:nvGrpSpPr>
        <p:grpSpPr>
          <a:xfrm>
            <a:off x="201600" y="2517840"/>
            <a:ext cx="3105000" cy="2293920"/>
            <a:chOff x="201600" y="2517840"/>
            <a:chExt cx="3105000" cy="2293920"/>
          </a:xfrm>
        </p:grpSpPr>
        <p:sp>
          <p:nvSpPr>
            <p:cNvPr id="79" name="object 21"/>
            <p:cNvSpPr/>
            <p:nvPr/>
          </p:nvSpPr>
          <p:spPr>
            <a:xfrm>
              <a:off x="201600" y="3191040"/>
              <a:ext cx="2984400" cy="1620720"/>
            </a:xfrm>
            <a:custGeom>
              <a:avLst/>
              <a:gdLst/>
              <a:ahLst/>
              <a:rect l="l" t="t" r="r" b="b"/>
              <a:pathLst>
                <a:path w="3979545" h="2161540">
                  <a:moveTo>
                    <a:pt x="3653028" y="161036"/>
                  </a:moveTo>
                  <a:lnTo>
                    <a:pt x="3647262" y="118249"/>
                  </a:lnTo>
                  <a:lnTo>
                    <a:pt x="3631031" y="79781"/>
                  </a:lnTo>
                  <a:lnTo>
                    <a:pt x="3605834" y="47180"/>
                  </a:lnTo>
                  <a:lnTo>
                    <a:pt x="3573246" y="21996"/>
                  </a:lnTo>
                  <a:lnTo>
                    <a:pt x="3534778" y="5765"/>
                  </a:lnTo>
                  <a:lnTo>
                    <a:pt x="3491992" y="0"/>
                  </a:lnTo>
                  <a:lnTo>
                    <a:pt x="161036" y="0"/>
                  </a:lnTo>
                  <a:lnTo>
                    <a:pt x="118224" y="5765"/>
                  </a:lnTo>
                  <a:lnTo>
                    <a:pt x="79756" y="21996"/>
                  </a:lnTo>
                  <a:lnTo>
                    <a:pt x="47155" y="47193"/>
                  </a:lnTo>
                  <a:lnTo>
                    <a:pt x="21983" y="79781"/>
                  </a:lnTo>
                  <a:lnTo>
                    <a:pt x="5740" y="118249"/>
                  </a:lnTo>
                  <a:lnTo>
                    <a:pt x="0" y="161036"/>
                  </a:lnTo>
                  <a:lnTo>
                    <a:pt x="0" y="805180"/>
                  </a:lnTo>
                  <a:lnTo>
                    <a:pt x="5740" y="847979"/>
                  </a:lnTo>
                  <a:lnTo>
                    <a:pt x="21983" y="886447"/>
                  </a:lnTo>
                  <a:lnTo>
                    <a:pt x="47155" y="919035"/>
                  </a:lnTo>
                  <a:lnTo>
                    <a:pt x="79756" y="944232"/>
                  </a:lnTo>
                  <a:lnTo>
                    <a:pt x="118224"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2161540">
                  <a:moveTo>
                    <a:pt x="3979164" y="1355852"/>
                  </a:moveTo>
                  <a:lnTo>
                    <a:pt x="3973398" y="1313065"/>
                  </a:lnTo>
                  <a:lnTo>
                    <a:pt x="3957167" y="1274597"/>
                  </a:lnTo>
                  <a:lnTo>
                    <a:pt x="3931970" y="1242009"/>
                  </a:lnTo>
                  <a:lnTo>
                    <a:pt x="3899382" y="1216812"/>
                  </a:lnTo>
                  <a:lnTo>
                    <a:pt x="3860914" y="1200581"/>
                  </a:lnTo>
                  <a:lnTo>
                    <a:pt x="3818128" y="1194816"/>
                  </a:lnTo>
                  <a:lnTo>
                    <a:pt x="485648" y="1194816"/>
                  </a:lnTo>
                  <a:lnTo>
                    <a:pt x="442836" y="1200581"/>
                  </a:lnTo>
                  <a:lnTo>
                    <a:pt x="404368" y="1216812"/>
                  </a:lnTo>
                  <a:lnTo>
                    <a:pt x="371767" y="1241996"/>
                  </a:lnTo>
                  <a:lnTo>
                    <a:pt x="346595" y="1274597"/>
                  </a:lnTo>
                  <a:lnTo>
                    <a:pt x="330352" y="1313065"/>
                  </a:lnTo>
                  <a:lnTo>
                    <a:pt x="324612" y="1355852"/>
                  </a:lnTo>
                  <a:lnTo>
                    <a:pt x="324612" y="1999996"/>
                  </a:lnTo>
                  <a:lnTo>
                    <a:pt x="330352" y="2042795"/>
                  </a:lnTo>
                  <a:lnTo>
                    <a:pt x="346595" y="2081263"/>
                  </a:lnTo>
                  <a:lnTo>
                    <a:pt x="371767" y="2113864"/>
                  </a:lnTo>
                  <a:lnTo>
                    <a:pt x="404368" y="2139048"/>
                  </a:lnTo>
                  <a:lnTo>
                    <a:pt x="442836" y="2155279"/>
                  </a:lnTo>
                  <a:lnTo>
                    <a:pt x="485648" y="2161032"/>
                  </a:lnTo>
                  <a:lnTo>
                    <a:pt x="3818128" y="2161032"/>
                  </a:lnTo>
                  <a:lnTo>
                    <a:pt x="3860914" y="2155279"/>
                  </a:lnTo>
                  <a:lnTo>
                    <a:pt x="3899382" y="2139048"/>
                  </a:lnTo>
                  <a:lnTo>
                    <a:pt x="3931983" y="2113864"/>
                  </a:lnTo>
                  <a:lnTo>
                    <a:pt x="3957167" y="2081263"/>
                  </a:lnTo>
                  <a:lnTo>
                    <a:pt x="3973398" y="2042795"/>
                  </a:lnTo>
                  <a:lnTo>
                    <a:pt x="3979164" y="1999996"/>
                  </a:lnTo>
                  <a:lnTo>
                    <a:pt x="3979164" y="135585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object 22"/>
            <p:cNvSpPr/>
            <p:nvPr/>
          </p:nvSpPr>
          <p:spPr>
            <a:xfrm>
              <a:off x="2811600" y="2517840"/>
              <a:ext cx="495000" cy="2044800"/>
            </a:xfrm>
            <a:custGeom>
              <a:avLst/>
              <a:gdLst/>
              <a:ahLst/>
              <a:rect l="l" t="t" r="r" b="b"/>
              <a:pathLst>
                <a:path w="661670" h="2726690">
                  <a:moveTo>
                    <a:pt x="283718" y="1334389"/>
                  </a:moveTo>
                  <a:lnTo>
                    <a:pt x="263144" y="1334389"/>
                  </a:lnTo>
                  <a:lnTo>
                    <a:pt x="263144" y="1381899"/>
                  </a:lnTo>
                  <a:lnTo>
                    <a:pt x="283718" y="1381899"/>
                  </a:lnTo>
                  <a:lnTo>
                    <a:pt x="283718" y="1334389"/>
                  </a:lnTo>
                  <a:close/>
                </a:path>
                <a:path w="661670" h="2726690">
                  <a:moveTo>
                    <a:pt x="348996" y="1214628"/>
                  </a:moveTo>
                  <a:lnTo>
                    <a:pt x="175387" y="1214628"/>
                  </a:lnTo>
                  <a:lnTo>
                    <a:pt x="175387" y="1187958"/>
                  </a:lnTo>
                  <a:lnTo>
                    <a:pt x="46609" y="1187958"/>
                  </a:lnTo>
                  <a:lnTo>
                    <a:pt x="46609" y="1165098"/>
                  </a:lnTo>
                  <a:lnTo>
                    <a:pt x="154940" y="1165098"/>
                  </a:lnTo>
                  <a:lnTo>
                    <a:pt x="154940" y="1187831"/>
                  </a:lnTo>
                  <a:lnTo>
                    <a:pt x="175387" y="1187831"/>
                  </a:lnTo>
                  <a:lnTo>
                    <a:pt x="175387" y="1165098"/>
                  </a:lnTo>
                  <a:lnTo>
                    <a:pt x="175387" y="1115568"/>
                  </a:lnTo>
                  <a:lnTo>
                    <a:pt x="22352" y="1115568"/>
                  </a:lnTo>
                  <a:lnTo>
                    <a:pt x="22352" y="1478788"/>
                  </a:lnTo>
                  <a:lnTo>
                    <a:pt x="0" y="1478788"/>
                  </a:lnTo>
                  <a:lnTo>
                    <a:pt x="0" y="1505458"/>
                  </a:lnTo>
                  <a:lnTo>
                    <a:pt x="348996" y="1505458"/>
                  </a:lnTo>
                  <a:lnTo>
                    <a:pt x="348996" y="1478788"/>
                  </a:lnTo>
                  <a:lnTo>
                    <a:pt x="348996" y="1454658"/>
                  </a:lnTo>
                  <a:lnTo>
                    <a:pt x="220218" y="1454658"/>
                  </a:lnTo>
                  <a:lnTo>
                    <a:pt x="220218" y="1431798"/>
                  </a:lnTo>
                  <a:lnTo>
                    <a:pt x="220218" y="1408938"/>
                  </a:lnTo>
                  <a:lnTo>
                    <a:pt x="263144" y="1408938"/>
                  </a:lnTo>
                  <a:lnTo>
                    <a:pt x="263144" y="1454150"/>
                  </a:lnTo>
                  <a:lnTo>
                    <a:pt x="283718" y="1454150"/>
                  </a:lnTo>
                  <a:lnTo>
                    <a:pt x="283718" y="1408938"/>
                  </a:lnTo>
                  <a:lnTo>
                    <a:pt x="328422" y="1408938"/>
                  </a:lnTo>
                  <a:lnTo>
                    <a:pt x="328422" y="1454150"/>
                  </a:lnTo>
                  <a:lnTo>
                    <a:pt x="348996" y="1454150"/>
                  </a:lnTo>
                  <a:lnTo>
                    <a:pt x="348996" y="1237488"/>
                  </a:lnTo>
                  <a:lnTo>
                    <a:pt x="328422" y="1237488"/>
                  </a:lnTo>
                  <a:lnTo>
                    <a:pt x="328422" y="1261618"/>
                  </a:lnTo>
                  <a:lnTo>
                    <a:pt x="328422" y="1311148"/>
                  </a:lnTo>
                  <a:lnTo>
                    <a:pt x="328422" y="1334008"/>
                  </a:lnTo>
                  <a:lnTo>
                    <a:pt x="328422" y="1382268"/>
                  </a:lnTo>
                  <a:lnTo>
                    <a:pt x="132461" y="1382268"/>
                  </a:lnTo>
                  <a:lnTo>
                    <a:pt x="132461" y="1431798"/>
                  </a:lnTo>
                  <a:lnTo>
                    <a:pt x="132461" y="1454658"/>
                  </a:lnTo>
                  <a:lnTo>
                    <a:pt x="132461" y="1478788"/>
                  </a:lnTo>
                  <a:lnTo>
                    <a:pt x="67183" y="1478788"/>
                  </a:lnTo>
                  <a:lnTo>
                    <a:pt x="67183" y="1431798"/>
                  </a:lnTo>
                  <a:lnTo>
                    <a:pt x="132461" y="1431798"/>
                  </a:lnTo>
                  <a:lnTo>
                    <a:pt x="132461" y="1382268"/>
                  </a:lnTo>
                  <a:lnTo>
                    <a:pt x="46609" y="1382268"/>
                  </a:lnTo>
                  <a:lnTo>
                    <a:pt x="46609" y="1359408"/>
                  </a:lnTo>
                  <a:lnTo>
                    <a:pt x="154940" y="1359408"/>
                  </a:lnTo>
                  <a:lnTo>
                    <a:pt x="154940" y="1381899"/>
                  </a:lnTo>
                  <a:lnTo>
                    <a:pt x="220218" y="1381899"/>
                  </a:lnTo>
                  <a:lnTo>
                    <a:pt x="220218" y="1359408"/>
                  </a:lnTo>
                  <a:lnTo>
                    <a:pt x="220218" y="1359154"/>
                  </a:lnTo>
                  <a:lnTo>
                    <a:pt x="220218" y="1334008"/>
                  </a:lnTo>
                  <a:lnTo>
                    <a:pt x="328422" y="1334008"/>
                  </a:lnTo>
                  <a:lnTo>
                    <a:pt x="328422" y="1311148"/>
                  </a:lnTo>
                  <a:lnTo>
                    <a:pt x="283718" y="1311148"/>
                  </a:lnTo>
                  <a:lnTo>
                    <a:pt x="283718" y="1262126"/>
                  </a:lnTo>
                  <a:lnTo>
                    <a:pt x="263144" y="1262126"/>
                  </a:lnTo>
                  <a:lnTo>
                    <a:pt x="263144" y="1311148"/>
                  </a:lnTo>
                  <a:lnTo>
                    <a:pt x="220218" y="1311148"/>
                  </a:lnTo>
                  <a:lnTo>
                    <a:pt x="220218" y="1284859"/>
                  </a:lnTo>
                  <a:lnTo>
                    <a:pt x="220218" y="1284478"/>
                  </a:lnTo>
                  <a:lnTo>
                    <a:pt x="220218" y="1262126"/>
                  </a:lnTo>
                  <a:lnTo>
                    <a:pt x="154940" y="1262126"/>
                  </a:lnTo>
                  <a:lnTo>
                    <a:pt x="154940" y="1284478"/>
                  </a:lnTo>
                  <a:lnTo>
                    <a:pt x="154940" y="1311148"/>
                  </a:lnTo>
                  <a:lnTo>
                    <a:pt x="154940" y="1334008"/>
                  </a:lnTo>
                  <a:lnTo>
                    <a:pt x="46609" y="1334008"/>
                  </a:lnTo>
                  <a:lnTo>
                    <a:pt x="46609" y="1311148"/>
                  </a:lnTo>
                  <a:lnTo>
                    <a:pt x="154940" y="1311148"/>
                  </a:lnTo>
                  <a:lnTo>
                    <a:pt x="154940" y="1284478"/>
                  </a:lnTo>
                  <a:lnTo>
                    <a:pt x="46609" y="1284478"/>
                  </a:lnTo>
                  <a:lnTo>
                    <a:pt x="46609" y="1261618"/>
                  </a:lnTo>
                  <a:lnTo>
                    <a:pt x="328422" y="1261618"/>
                  </a:lnTo>
                  <a:lnTo>
                    <a:pt x="328422" y="1237488"/>
                  </a:lnTo>
                  <a:lnTo>
                    <a:pt x="46609" y="1237488"/>
                  </a:lnTo>
                  <a:lnTo>
                    <a:pt x="46609" y="1214628"/>
                  </a:lnTo>
                  <a:lnTo>
                    <a:pt x="154940" y="1214628"/>
                  </a:lnTo>
                  <a:lnTo>
                    <a:pt x="154940" y="1237361"/>
                  </a:lnTo>
                  <a:lnTo>
                    <a:pt x="348996" y="1237361"/>
                  </a:lnTo>
                  <a:lnTo>
                    <a:pt x="348996" y="1214628"/>
                  </a:lnTo>
                  <a:close/>
                </a:path>
                <a:path w="661670" h="2726690">
                  <a:moveTo>
                    <a:pt x="364236" y="2653284"/>
                  </a:moveTo>
                  <a:lnTo>
                    <a:pt x="292608" y="2653284"/>
                  </a:lnTo>
                  <a:lnTo>
                    <a:pt x="292608" y="2726436"/>
                  </a:lnTo>
                  <a:lnTo>
                    <a:pt x="364236" y="2726436"/>
                  </a:lnTo>
                  <a:lnTo>
                    <a:pt x="364236" y="2653284"/>
                  </a:lnTo>
                  <a:close/>
                </a:path>
                <a:path w="661670" h="2726690">
                  <a:moveTo>
                    <a:pt x="460248" y="2604516"/>
                  </a:moveTo>
                  <a:lnTo>
                    <a:pt x="388620" y="2604516"/>
                  </a:lnTo>
                  <a:lnTo>
                    <a:pt x="388620" y="2726436"/>
                  </a:lnTo>
                  <a:lnTo>
                    <a:pt x="460248" y="2726436"/>
                  </a:lnTo>
                  <a:lnTo>
                    <a:pt x="460248" y="2604516"/>
                  </a:lnTo>
                  <a:close/>
                </a:path>
                <a:path w="661670" h="2726690">
                  <a:moveTo>
                    <a:pt x="556260" y="2557272"/>
                  </a:moveTo>
                  <a:lnTo>
                    <a:pt x="481584" y="2557272"/>
                  </a:lnTo>
                  <a:lnTo>
                    <a:pt x="481584" y="2726436"/>
                  </a:lnTo>
                  <a:lnTo>
                    <a:pt x="556260" y="2726436"/>
                  </a:lnTo>
                  <a:lnTo>
                    <a:pt x="556260" y="2557272"/>
                  </a:lnTo>
                  <a:close/>
                </a:path>
                <a:path w="661670" h="2726690">
                  <a:moveTo>
                    <a:pt x="571500" y="42926"/>
                  </a:moveTo>
                  <a:lnTo>
                    <a:pt x="567334" y="27165"/>
                  </a:lnTo>
                  <a:lnTo>
                    <a:pt x="556552" y="13423"/>
                  </a:lnTo>
                  <a:lnTo>
                    <a:pt x="541756" y="3695"/>
                  </a:lnTo>
                  <a:lnTo>
                    <a:pt x="525526" y="0"/>
                  </a:lnTo>
                  <a:lnTo>
                    <a:pt x="347726" y="0"/>
                  </a:lnTo>
                  <a:lnTo>
                    <a:pt x="331952" y="3695"/>
                  </a:lnTo>
                  <a:lnTo>
                    <a:pt x="318211" y="13423"/>
                  </a:lnTo>
                  <a:lnTo>
                    <a:pt x="308483" y="27165"/>
                  </a:lnTo>
                  <a:lnTo>
                    <a:pt x="304800" y="42926"/>
                  </a:lnTo>
                  <a:lnTo>
                    <a:pt x="304800" y="131826"/>
                  </a:lnTo>
                  <a:lnTo>
                    <a:pt x="308483" y="149428"/>
                  </a:lnTo>
                  <a:lnTo>
                    <a:pt x="318211" y="164122"/>
                  </a:lnTo>
                  <a:lnTo>
                    <a:pt x="331952" y="174193"/>
                  </a:lnTo>
                  <a:lnTo>
                    <a:pt x="347726" y="177927"/>
                  </a:lnTo>
                  <a:lnTo>
                    <a:pt x="347726" y="245364"/>
                  </a:lnTo>
                  <a:lnTo>
                    <a:pt x="415163" y="177927"/>
                  </a:lnTo>
                  <a:lnTo>
                    <a:pt x="525526" y="177927"/>
                  </a:lnTo>
                  <a:lnTo>
                    <a:pt x="541756" y="174193"/>
                  </a:lnTo>
                  <a:lnTo>
                    <a:pt x="556552" y="164122"/>
                  </a:lnTo>
                  <a:lnTo>
                    <a:pt x="567334" y="149428"/>
                  </a:lnTo>
                  <a:lnTo>
                    <a:pt x="571500" y="131826"/>
                  </a:lnTo>
                  <a:lnTo>
                    <a:pt x="571500" y="42926"/>
                  </a:lnTo>
                  <a:close/>
                </a:path>
                <a:path w="661670" h="2726690">
                  <a:moveTo>
                    <a:pt x="650748" y="2508504"/>
                  </a:moveTo>
                  <a:lnTo>
                    <a:pt x="579120" y="2508504"/>
                  </a:lnTo>
                  <a:lnTo>
                    <a:pt x="579120" y="2726436"/>
                  </a:lnTo>
                  <a:lnTo>
                    <a:pt x="650748" y="2726436"/>
                  </a:lnTo>
                  <a:lnTo>
                    <a:pt x="650748" y="2508504"/>
                  </a:lnTo>
                  <a:close/>
                </a:path>
                <a:path w="661670" h="2726690">
                  <a:moveTo>
                    <a:pt x="650748" y="2377440"/>
                  </a:moveTo>
                  <a:lnTo>
                    <a:pt x="599567" y="2428621"/>
                  </a:lnTo>
                  <a:lnTo>
                    <a:pt x="525907" y="2428621"/>
                  </a:lnTo>
                  <a:lnTo>
                    <a:pt x="433959" y="2498090"/>
                  </a:lnTo>
                  <a:lnTo>
                    <a:pt x="388874" y="2475611"/>
                  </a:lnTo>
                  <a:lnTo>
                    <a:pt x="268224" y="2573782"/>
                  </a:lnTo>
                  <a:lnTo>
                    <a:pt x="268224" y="2604516"/>
                  </a:lnTo>
                  <a:lnTo>
                    <a:pt x="390906" y="2504313"/>
                  </a:lnTo>
                  <a:lnTo>
                    <a:pt x="438023" y="2528824"/>
                  </a:lnTo>
                  <a:lnTo>
                    <a:pt x="536194" y="2453132"/>
                  </a:lnTo>
                  <a:lnTo>
                    <a:pt x="607822" y="2453132"/>
                  </a:lnTo>
                  <a:lnTo>
                    <a:pt x="650748" y="2410206"/>
                  </a:lnTo>
                  <a:lnTo>
                    <a:pt x="650748" y="2377440"/>
                  </a:lnTo>
                  <a:close/>
                </a:path>
                <a:path w="661670" h="2726690">
                  <a:moveTo>
                    <a:pt x="661416" y="157226"/>
                  </a:moveTo>
                  <a:lnTo>
                    <a:pt x="657250" y="139712"/>
                  </a:lnTo>
                  <a:lnTo>
                    <a:pt x="646468" y="125056"/>
                  </a:lnTo>
                  <a:lnTo>
                    <a:pt x="631672" y="114998"/>
                  </a:lnTo>
                  <a:lnTo>
                    <a:pt x="615442" y="111252"/>
                  </a:lnTo>
                  <a:lnTo>
                    <a:pt x="593979" y="111252"/>
                  </a:lnTo>
                  <a:lnTo>
                    <a:pt x="593979" y="132715"/>
                  </a:lnTo>
                  <a:lnTo>
                    <a:pt x="588162" y="158800"/>
                  </a:lnTo>
                  <a:lnTo>
                    <a:pt x="572871" y="180251"/>
                  </a:lnTo>
                  <a:lnTo>
                    <a:pt x="551268" y="194805"/>
                  </a:lnTo>
                  <a:lnTo>
                    <a:pt x="526542" y="200152"/>
                  </a:lnTo>
                  <a:lnTo>
                    <a:pt x="425323" y="200152"/>
                  </a:lnTo>
                  <a:lnTo>
                    <a:pt x="394716" y="230886"/>
                  </a:lnTo>
                  <a:lnTo>
                    <a:pt x="394716" y="246253"/>
                  </a:lnTo>
                  <a:lnTo>
                    <a:pt x="398399" y="262026"/>
                  </a:lnTo>
                  <a:lnTo>
                    <a:pt x="408127" y="275767"/>
                  </a:lnTo>
                  <a:lnTo>
                    <a:pt x="421868" y="285496"/>
                  </a:lnTo>
                  <a:lnTo>
                    <a:pt x="437642" y="289179"/>
                  </a:lnTo>
                  <a:lnTo>
                    <a:pt x="548005" y="289179"/>
                  </a:lnTo>
                  <a:lnTo>
                    <a:pt x="615442" y="356616"/>
                  </a:lnTo>
                  <a:lnTo>
                    <a:pt x="615442" y="289179"/>
                  </a:lnTo>
                  <a:lnTo>
                    <a:pt x="631672" y="285496"/>
                  </a:lnTo>
                  <a:lnTo>
                    <a:pt x="646468" y="275767"/>
                  </a:lnTo>
                  <a:lnTo>
                    <a:pt x="657250" y="262026"/>
                  </a:lnTo>
                  <a:lnTo>
                    <a:pt x="661416" y="246253"/>
                  </a:lnTo>
                  <a:lnTo>
                    <a:pt x="661416" y="157226"/>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1" name="object 23"/>
          <p:cNvSpPr/>
          <p:nvPr/>
        </p:nvSpPr>
        <p:spPr>
          <a:xfrm>
            <a:off x="260280" y="2282760"/>
            <a:ext cx="255420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Standard policy developed by</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IRDAI. For Home building and</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or Home Contents</a:t>
            </a:r>
            <a:endParaRPr b="0" lang="en-US" sz="1300" spc="-1" strike="noStrike">
              <a:solidFill>
                <a:srgbClr val="000000"/>
              </a:solidFill>
              <a:latin typeface="Times New Roman"/>
            </a:endParaRPr>
          </a:p>
        </p:txBody>
      </p:sp>
      <p:sp>
        <p:nvSpPr>
          <p:cNvPr id="82" name="object 24"/>
          <p:cNvSpPr/>
          <p:nvPr/>
        </p:nvSpPr>
        <p:spPr>
          <a:xfrm>
            <a:off x="220680" y="3201840"/>
            <a:ext cx="245412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To be effective from 1.4.2021-  </a:t>
            </a:r>
            <a:r>
              <a:rPr b="1" lang="en-US" sz="1300" spc="-1" strike="noStrike">
                <a:solidFill>
                  <a:srgbClr val="000000"/>
                </a:solidFill>
                <a:latin typeface="Arial"/>
                <a:ea typeface="Arial"/>
              </a:rPr>
              <a:t>and</a:t>
            </a:r>
            <a:r>
              <a:rPr b="1" lang="en-US" sz="1300" spc="-1" strike="noStrike">
                <a:solidFill>
                  <a:srgbClr val="000000"/>
                </a:solidFill>
                <a:latin typeface="Century Gothic"/>
                <a:ea typeface="Century Gothic"/>
              </a:rPr>
              <a:t> will fall under Retail  category of products</a:t>
            </a:r>
            <a:endParaRPr b="0" lang="en-US" sz="1300" spc="-1" strike="noStrike">
              <a:solidFill>
                <a:srgbClr val="000000"/>
              </a:solidFill>
              <a:latin typeface="Times New Roman"/>
            </a:endParaRPr>
          </a:p>
        </p:txBody>
      </p:sp>
      <p:grpSp>
        <p:nvGrpSpPr>
          <p:cNvPr id="83" name="object 25"/>
          <p:cNvGrpSpPr/>
          <p:nvPr/>
        </p:nvGrpSpPr>
        <p:grpSpPr>
          <a:xfrm>
            <a:off x="5765760" y="2260440"/>
            <a:ext cx="3049560" cy="2527560"/>
            <a:chOff x="5765760" y="2260440"/>
            <a:chExt cx="3049560" cy="2527560"/>
          </a:xfrm>
        </p:grpSpPr>
        <p:sp>
          <p:nvSpPr>
            <p:cNvPr id="84" name="object 26"/>
            <p:cNvSpPr/>
            <p:nvPr/>
          </p:nvSpPr>
          <p:spPr>
            <a:xfrm>
              <a:off x="5829120" y="2260440"/>
              <a:ext cx="2986200" cy="2527560"/>
            </a:xfrm>
            <a:custGeom>
              <a:avLst/>
              <a:gdLst/>
              <a:ahLst/>
              <a:rect l="l" t="t" r="r" b="b"/>
              <a:pathLst>
                <a:path w="3979545" h="3369945">
                  <a:moveTo>
                    <a:pt x="3653028" y="161036"/>
                  </a:moveTo>
                  <a:lnTo>
                    <a:pt x="3647262" y="118249"/>
                  </a:lnTo>
                  <a:lnTo>
                    <a:pt x="3631031" y="79781"/>
                  </a:lnTo>
                  <a:lnTo>
                    <a:pt x="3605847" y="47180"/>
                  </a:lnTo>
                  <a:lnTo>
                    <a:pt x="3573246" y="21996"/>
                  </a:lnTo>
                  <a:lnTo>
                    <a:pt x="3534778" y="5765"/>
                  </a:lnTo>
                  <a:lnTo>
                    <a:pt x="3491992" y="0"/>
                  </a:lnTo>
                  <a:lnTo>
                    <a:pt x="161036" y="0"/>
                  </a:lnTo>
                  <a:lnTo>
                    <a:pt x="118237" y="5765"/>
                  </a:lnTo>
                  <a:lnTo>
                    <a:pt x="79768" y="21996"/>
                  </a:lnTo>
                  <a:lnTo>
                    <a:pt x="47180" y="47193"/>
                  </a:lnTo>
                  <a:lnTo>
                    <a:pt x="21983" y="79781"/>
                  </a:lnTo>
                  <a:lnTo>
                    <a:pt x="5753" y="118249"/>
                  </a:lnTo>
                  <a:lnTo>
                    <a:pt x="0" y="161036"/>
                  </a:lnTo>
                  <a:lnTo>
                    <a:pt x="0" y="805180"/>
                  </a:lnTo>
                  <a:lnTo>
                    <a:pt x="5753" y="847979"/>
                  </a:lnTo>
                  <a:lnTo>
                    <a:pt x="21983" y="886447"/>
                  </a:lnTo>
                  <a:lnTo>
                    <a:pt x="47167" y="919035"/>
                  </a:lnTo>
                  <a:lnTo>
                    <a:pt x="79768" y="944232"/>
                  </a:lnTo>
                  <a:lnTo>
                    <a:pt x="118237"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3369945">
                  <a:moveTo>
                    <a:pt x="3654552" y="2564384"/>
                  </a:moveTo>
                  <a:lnTo>
                    <a:pt x="3648786" y="2521597"/>
                  </a:lnTo>
                  <a:lnTo>
                    <a:pt x="3632555" y="2483129"/>
                  </a:lnTo>
                  <a:lnTo>
                    <a:pt x="3607371" y="2450541"/>
                  </a:lnTo>
                  <a:lnTo>
                    <a:pt x="3574770" y="2425344"/>
                  </a:lnTo>
                  <a:lnTo>
                    <a:pt x="3536302" y="2409113"/>
                  </a:lnTo>
                  <a:lnTo>
                    <a:pt x="3493516" y="2403348"/>
                  </a:lnTo>
                  <a:lnTo>
                    <a:pt x="161036" y="2403348"/>
                  </a:lnTo>
                  <a:lnTo>
                    <a:pt x="118237" y="2409113"/>
                  </a:lnTo>
                  <a:lnTo>
                    <a:pt x="79768" y="2425344"/>
                  </a:lnTo>
                  <a:lnTo>
                    <a:pt x="47180" y="2450528"/>
                  </a:lnTo>
                  <a:lnTo>
                    <a:pt x="21983" y="2483129"/>
                  </a:lnTo>
                  <a:lnTo>
                    <a:pt x="5753" y="2521597"/>
                  </a:lnTo>
                  <a:lnTo>
                    <a:pt x="0" y="2564384"/>
                  </a:lnTo>
                  <a:lnTo>
                    <a:pt x="0" y="3208528"/>
                  </a:lnTo>
                  <a:lnTo>
                    <a:pt x="5753" y="3251327"/>
                  </a:lnTo>
                  <a:lnTo>
                    <a:pt x="21983" y="3289795"/>
                  </a:lnTo>
                  <a:lnTo>
                    <a:pt x="47167" y="3322383"/>
                  </a:lnTo>
                  <a:lnTo>
                    <a:pt x="79768" y="3347580"/>
                  </a:lnTo>
                  <a:lnTo>
                    <a:pt x="118237" y="3363811"/>
                  </a:lnTo>
                  <a:lnTo>
                    <a:pt x="161036" y="3369564"/>
                  </a:lnTo>
                  <a:lnTo>
                    <a:pt x="3493516" y="3369564"/>
                  </a:lnTo>
                  <a:lnTo>
                    <a:pt x="3536302" y="3363811"/>
                  </a:lnTo>
                  <a:lnTo>
                    <a:pt x="3574770" y="3347580"/>
                  </a:lnTo>
                  <a:lnTo>
                    <a:pt x="3607371" y="3322383"/>
                  </a:lnTo>
                  <a:lnTo>
                    <a:pt x="3632555" y="3289795"/>
                  </a:lnTo>
                  <a:lnTo>
                    <a:pt x="3648786" y="3251327"/>
                  </a:lnTo>
                  <a:lnTo>
                    <a:pt x="3654552" y="3208528"/>
                  </a:lnTo>
                  <a:lnTo>
                    <a:pt x="3654552" y="2564384"/>
                  </a:lnTo>
                  <a:close/>
                </a:path>
                <a:path w="3979545" h="3369945">
                  <a:moveTo>
                    <a:pt x="3979164" y="1371092"/>
                  </a:moveTo>
                  <a:lnTo>
                    <a:pt x="3973398" y="1328305"/>
                  </a:lnTo>
                  <a:lnTo>
                    <a:pt x="3957167" y="1289837"/>
                  </a:lnTo>
                  <a:lnTo>
                    <a:pt x="3931983" y="1257236"/>
                  </a:lnTo>
                  <a:lnTo>
                    <a:pt x="3899382" y="1232052"/>
                  </a:lnTo>
                  <a:lnTo>
                    <a:pt x="3860914" y="1215821"/>
                  </a:lnTo>
                  <a:lnTo>
                    <a:pt x="3818128" y="1210056"/>
                  </a:lnTo>
                  <a:lnTo>
                    <a:pt x="487172" y="1210056"/>
                  </a:lnTo>
                  <a:lnTo>
                    <a:pt x="444373" y="1215821"/>
                  </a:lnTo>
                  <a:lnTo>
                    <a:pt x="405904" y="1232052"/>
                  </a:lnTo>
                  <a:lnTo>
                    <a:pt x="373316" y="1257236"/>
                  </a:lnTo>
                  <a:lnTo>
                    <a:pt x="348119" y="1289837"/>
                  </a:lnTo>
                  <a:lnTo>
                    <a:pt x="331889" y="1328305"/>
                  </a:lnTo>
                  <a:lnTo>
                    <a:pt x="326136" y="1371092"/>
                  </a:lnTo>
                  <a:lnTo>
                    <a:pt x="326136" y="2015236"/>
                  </a:lnTo>
                  <a:lnTo>
                    <a:pt x="331889" y="2058035"/>
                  </a:lnTo>
                  <a:lnTo>
                    <a:pt x="348119" y="2096503"/>
                  </a:lnTo>
                  <a:lnTo>
                    <a:pt x="373316" y="2129091"/>
                  </a:lnTo>
                  <a:lnTo>
                    <a:pt x="405904" y="2154288"/>
                  </a:lnTo>
                  <a:lnTo>
                    <a:pt x="444373" y="2170519"/>
                  </a:lnTo>
                  <a:lnTo>
                    <a:pt x="487172" y="2176272"/>
                  </a:lnTo>
                  <a:lnTo>
                    <a:pt x="3818128" y="2176272"/>
                  </a:lnTo>
                  <a:lnTo>
                    <a:pt x="3860914" y="2170519"/>
                  </a:lnTo>
                  <a:lnTo>
                    <a:pt x="3899382" y="2154288"/>
                  </a:lnTo>
                  <a:lnTo>
                    <a:pt x="3931983" y="2129091"/>
                  </a:lnTo>
                  <a:lnTo>
                    <a:pt x="3957167" y="2096503"/>
                  </a:lnTo>
                  <a:lnTo>
                    <a:pt x="3973398" y="2058035"/>
                  </a:lnTo>
                  <a:lnTo>
                    <a:pt x="3979164" y="2015236"/>
                  </a:lnTo>
                  <a:lnTo>
                    <a:pt x="3979164" y="137109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object 27"/>
            <p:cNvSpPr/>
            <p:nvPr/>
          </p:nvSpPr>
          <p:spPr>
            <a:xfrm>
              <a:off x="5765760" y="2527200"/>
              <a:ext cx="569880" cy="2035440"/>
            </a:xfrm>
            <a:custGeom>
              <a:avLst/>
              <a:gdLst/>
              <a:ahLst/>
              <a:rect l="l" t="t" r="r" b="b"/>
              <a:pathLst>
                <a:path w="759459" h="2714625">
                  <a:moveTo>
                    <a:pt x="271780" y="2503678"/>
                  </a:moveTo>
                  <a:lnTo>
                    <a:pt x="267589" y="2499614"/>
                  </a:lnTo>
                  <a:lnTo>
                    <a:pt x="267589" y="2495423"/>
                  </a:lnTo>
                  <a:lnTo>
                    <a:pt x="197485" y="2429383"/>
                  </a:lnTo>
                  <a:lnTo>
                    <a:pt x="193421" y="2425319"/>
                  </a:lnTo>
                  <a:lnTo>
                    <a:pt x="193421" y="2503678"/>
                  </a:lnTo>
                  <a:lnTo>
                    <a:pt x="271780" y="2503678"/>
                  </a:lnTo>
                  <a:close/>
                </a:path>
                <a:path w="759459" h="2714625">
                  <a:moveTo>
                    <a:pt x="275844" y="2524379"/>
                  </a:moveTo>
                  <a:lnTo>
                    <a:pt x="213995" y="2524379"/>
                  </a:lnTo>
                  <a:lnTo>
                    <a:pt x="213995" y="2549144"/>
                  </a:lnTo>
                  <a:lnTo>
                    <a:pt x="213995" y="2565654"/>
                  </a:lnTo>
                  <a:lnTo>
                    <a:pt x="213995" y="2590419"/>
                  </a:lnTo>
                  <a:lnTo>
                    <a:pt x="213995" y="2606929"/>
                  </a:lnTo>
                  <a:lnTo>
                    <a:pt x="213995" y="2631694"/>
                  </a:lnTo>
                  <a:lnTo>
                    <a:pt x="213995" y="2648204"/>
                  </a:lnTo>
                  <a:lnTo>
                    <a:pt x="209931" y="2652268"/>
                  </a:lnTo>
                  <a:lnTo>
                    <a:pt x="90297" y="2652268"/>
                  </a:lnTo>
                  <a:lnTo>
                    <a:pt x="86233" y="2648204"/>
                  </a:lnTo>
                  <a:lnTo>
                    <a:pt x="86233" y="2631694"/>
                  </a:lnTo>
                  <a:lnTo>
                    <a:pt x="213995" y="2631694"/>
                  </a:lnTo>
                  <a:lnTo>
                    <a:pt x="213995" y="2606929"/>
                  </a:lnTo>
                  <a:lnTo>
                    <a:pt x="209931" y="2610993"/>
                  </a:lnTo>
                  <a:lnTo>
                    <a:pt x="90297" y="2610993"/>
                  </a:lnTo>
                  <a:lnTo>
                    <a:pt x="86233" y="2606929"/>
                  </a:lnTo>
                  <a:lnTo>
                    <a:pt x="86233" y="2590419"/>
                  </a:lnTo>
                  <a:lnTo>
                    <a:pt x="90297" y="2586228"/>
                  </a:lnTo>
                  <a:lnTo>
                    <a:pt x="209931" y="2586228"/>
                  </a:lnTo>
                  <a:lnTo>
                    <a:pt x="213995" y="2590419"/>
                  </a:lnTo>
                  <a:lnTo>
                    <a:pt x="213995" y="2565654"/>
                  </a:lnTo>
                  <a:lnTo>
                    <a:pt x="86233" y="2565654"/>
                  </a:lnTo>
                  <a:lnTo>
                    <a:pt x="86233" y="2549144"/>
                  </a:lnTo>
                  <a:lnTo>
                    <a:pt x="90297" y="2544953"/>
                  </a:lnTo>
                  <a:lnTo>
                    <a:pt x="209931" y="2544953"/>
                  </a:lnTo>
                  <a:lnTo>
                    <a:pt x="213995" y="2549144"/>
                  </a:lnTo>
                  <a:lnTo>
                    <a:pt x="213995" y="2524379"/>
                  </a:lnTo>
                  <a:lnTo>
                    <a:pt x="176911" y="2524379"/>
                  </a:lnTo>
                  <a:lnTo>
                    <a:pt x="172847" y="2516124"/>
                  </a:lnTo>
                  <a:lnTo>
                    <a:pt x="172847" y="2417064"/>
                  </a:lnTo>
                  <a:lnTo>
                    <a:pt x="28448" y="2417064"/>
                  </a:lnTo>
                  <a:lnTo>
                    <a:pt x="24384" y="2425319"/>
                  </a:lnTo>
                  <a:lnTo>
                    <a:pt x="24384" y="2710053"/>
                  </a:lnTo>
                  <a:lnTo>
                    <a:pt x="28448" y="2714244"/>
                  </a:lnTo>
                  <a:lnTo>
                    <a:pt x="271780" y="2714244"/>
                  </a:lnTo>
                  <a:lnTo>
                    <a:pt x="275844" y="2710053"/>
                  </a:lnTo>
                  <a:lnTo>
                    <a:pt x="275844" y="2652268"/>
                  </a:lnTo>
                  <a:lnTo>
                    <a:pt x="275844" y="2631694"/>
                  </a:lnTo>
                  <a:lnTo>
                    <a:pt x="275844" y="2610993"/>
                  </a:lnTo>
                  <a:lnTo>
                    <a:pt x="275844" y="2586228"/>
                  </a:lnTo>
                  <a:lnTo>
                    <a:pt x="275844" y="2565654"/>
                  </a:lnTo>
                  <a:lnTo>
                    <a:pt x="275844" y="2544953"/>
                  </a:lnTo>
                  <a:lnTo>
                    <a:pt x="275844" y="2524379"/>
                  </a:lnTo>
                  <a:close/>
                </a:path>
                <a:path w="759459" h="2714625">
                  <a:moveTo>
                    <a:pt x="282194" y="225933"/>
                  </a:moveTo>
                  <a:lnTo>
                    <a:pt x="274320" y="221996"/>
                  </a:lnTo>
                  <a:lnTo>
                    <a:pt x="262509" y="221996"/>
                  </a:lnTo>
                  <a:lnTo>
                    <a:pt x="262509" y="101219"/>
                  </a:lnTo>
                  <a:lnTo>
                    <a:pt x="219456" y="101219"/>
                  </a:lnTo>
                  <a:lnTo>
                    <a:pt x="219456" y="221996"/>
                  </a:lnTo>
                  <a:lnTo>
                    <a:pt x="199898" y="221996"/>
                  </a:lnTo>
                  <a:lnTo>
                    <a:pt x="199898" y="101219"/>
                  </a:lnTo>
                  <a:lnTo>
                    <a:pt x="160655" y="101219"/>
                  </a:lnTo>
                  <a:lnTo>
                    <a:pt x="160655" y="221996"/>
                  </a:lnTo>
                  <a:lnTo>
                    <a:pt x="141097" y="221996"/>
                  </a:lnTo>
                  <a:lnTo>
                    <a:pt x="141097" y="101219"/>
                  </a:lnTo>
                  <a:lnTo>
                    <a:pt x="97917" y="101219"/>
                  </a:lnTo>
                  <a:lnTo>
                    <a:pt x="97917" y="221996"/>
                  </a:lnTo>
                  <a:lnTo>
                    <a:pt x="78359" y="221996"/>
                  </a:lnTo>
                  <a:lnTo>
                    <a:pt x="78359" y="101219"/>
                  </a:lnTo>
                  <a:lnTo>
                    <a:pt x="39243" y="101219"/>
                  </a:lnTo>
                  <a:lnTo>
                    <a:pt x="39243" y="221996"/>
                  </a:lnTo>
                  <a:lnTo>
                    <a:pt x="23495" y="221996"/>
                  </a:lnTo>
                  <a:lnTo>
                    <a:pt x="19558" y="225933"/>
                  </a:lnTo>
                  <a:lnTo>
                    <a:pt x="19558" y="241427"/>
                  </a:lnTo>
                  <a:lnTo>
                    <a:pt x="282194" y="241427"/>
                  </a:lnTo>
                  <a:lnTo>
                    <a:pt x="282194" y="225933"/>
                  </a:lnTo>
                  <a:close/>
                </a:path>
                <a:path w="759459" h="2714625">
                  <a:moveTo>
                    <a:pt x="301752" y="257048"/>
                  </a:moveTo>
                  <a:lnTo>
                    <a:pt x="297815" y="253111"/>
                  </a:lnTo>
                  <a:lnTo>
                    <a:pt x="3937" y="253111"/>
                  </a:lnTo>
                  <a:lnTo>
                    <a:pt x="0" y="257048"/>
                  </a:lnTo>
                  <a:lnTo>
                    <a:pt x="0" y="280416"/>
                  </a:lnTo>
                  <a:lnTo>
                    <a:pt x="301752" y="280416"/>
                  </a:lnTo>
                  <a:lnTo>
                    <a:pt x="301752" y="257048"/>
                  </a:lnTo>
                  <a:close/>
                </a:path>
                <a:path w="759459" h="2714625">
                  <a:moveTo>
                    <a:pt x="301752" y="62357"/>
                  </a:moveTo>
                  <a:lnTo>
                    <a:pt x="148971" y="0"/>
                  </a:lnTo>
                  <a:lnTo>
                    <a:pt x="0" y="62357"/>
                  </a:lnTo>
                  <a:lnTo>
                    <a:pt x="0" y="81788"/>
                  </a:lnTo>
                  <a:lnTo>
                    <a:pt x="19558" y="81788"/>
                  </a:lnTo>
                  <a:lnTo>
                    <a:pt x="19558" y="85725"/>
                  </a:lnTo>
                  <a:lnTo>
                    <a:pt x="23495" y="89535"/>
                  </a:lnTo>
                  <a:lnTo>
                    <a:pt x="274320" y="89535"/>
                  </a:lnTo>
                  <a:lnTo>
                    <a:pt x="282194" y="85725"/>
                  </a:lnTo>
                  <a:lnTo>
                    <a:pt x="282194" y="81788"/>
                  </a:lnTo>
                  <a:lnTo>
                    <a:pt x="301752" y="81788"/>
                  </a:lnTo>
                  <a:lnTo>
                    <a:pt x="301752" y="62357"/>
                  </a:lnTo>
                  <a:close/>
                </a:path>
                <a:path w="759459" h="2714625">
                  <a:moveTo>
                    <a:pt x="639572" y="1275588"/>
                  </a:moveTo>
                  <a:lnTo>
                    <a:pt x="635000" y="1275588"/>
                  </a:lnTo>
                  <a:lnTo>
                    <a:pt x="635000" y="1270508"/>
                  </a:lnTo>
                  <a:lnTo>
                    <a:pt x="607441" y="1270508"/>
                  </a:lnTo>
                  <a:lnTo>
                    <a:pt x="602869" y="1261618"/>
                  </a:lnTo>
                  <a:lnTo>
                    <a:pt x="602869" y="1256538"/>
                  </a:lnTo>
                  <a:lnTo>
                    <a:pt x="598297" y="1252728"/>
                  </a:lnTo>
                  <a:lnTo>
                    <a:pt x="604367" y="1247648"/>
                  </a:lnTo>
                  <a:lnTo>
                    <a:pt x="609155" y="1243838"/>
                  </a:lnTo>
                  <a:lnTo>
                    <a:pt x="613079" y="1238758"/>
                  </a:lnTo>
                  <a:lnTo>
                    <a:pt x="616585" y="1233678"/>
                  </a:lnTo>
                  <a:lnTo>
                    <a:pt x="616585" y="1229868"/>
                  </a:lnTo>
                  <a:lnTo>
                    <a:pt x="612914" y="1223518"/>
                  </a:lnTo>
                  <a:lnTo>
                    <a:pt x="606615" y="1215898"/>
                  </a:lnTo>
                  <a:lnTo>
                    <a:pt x="604520" y="1213358"/>
                  </a:lnTo>
                  <a:lnTo>
                    <a:pt x="595249" y="1203198"/>
                  </a:lnTo>
                  <a:lnTo>
                    <a:pt x="589026" y="1196848"/>
                  </a:lnTo>
                  <a:lnTo>
                    <a:pt x="584454" y="1196848"/>
                  </a:lnTo>
                  <a:lnTo>
                    <a:pt x="566166" y="1212011"/>
                  </a:lnTo>
                  <a:lnTo>
                    <a:pt x="566166" y="1293368"/>
                  </a:lnTo>
                  <a:lnTo>
                    <a:pt x="562851" y="1313688"/>
                  </a:lnTo>
                  <a:lnTo>
                    <a:pt x="553504" y="1328928"/>
                  </a:lnTo>
                  <a:lnTo>
                    <a:pt x="539000" y="1340358"/>
                  </a:lnTo>
                  <a:lnTo>
                    <a:pt x="520192" y="1344168"/>
                  </a:lnTo>
                  <a:lnTo>
                    <a:pt x="503301" y="1340358"/>
                  </a:lnTo>
                  <a:lnTo>
                    <a:pt x="488581" y="1328928"/>
                  </a:lnTo>
                  <a:lnTo>
                    <a:pt x="478167" y="1313688"/>
                  </a:lnTo>
                  <a:lnTo>
                    <a:pt x="474218" y="1293368"/>
                  </a:lnTo>
                  <a:lnTo>
                    <a:pt x="478167" y="1276858"/>
                  </a:lnTo>
                  <a:lnTo>
                    <a:pt x="488581" y="1261618"/>
                  </a:lnTo>
                  <a:lnTo>
                    <a:pt x="503301" y="1251458"/>
                  </a:lnTo>
                  <a:lnTo>
                    <a:pt x="520192" y="1247648"/>
                  </a:lnTo>
                  <a:lnTo>
                    <a:pt x="539000" y="1251458"/>
                  </a:lnTo>
                  <a:lnTo>
                    <a:pt x="553504" y="1261618"/>
                  </a:lnTo>
                  <a:lnTo>
                    <a:pt x="562851" y="1276858"/>
                  </a:lnTo>
                  <a:lnTo>
                    <a:pt x="566166" y="1293368"/>
                  </a:lnTo>
                  <a:lnTo>
                    <a:pt x="566166" y="1212011"/>
                  </a:lnTo>
                  <a:lnTo>
                    <a:pt x="561467" y="1215898"/>
                  </a:lnTo>
                  <a:lnTo>
                    <a:pt x="556895" y="1215898"/>
                  </a:lnTo>
                  <a:lnTo>
                    <a:pt x="552323" y="1210818"/>
                  </a:lnTo>
                  <a:lnTo>
                    <a:pt x="547751" y="1210818"/>
                  </a:lnTo>
                  <a:lnTo>
                    <a:pt x="543179" y="1182878"/>
                  </a:lnTo>
                  <a:lnTo>
                    <a:pt x="543179" y="1179068"/>
                  </a:lnTo>
                  <a:lnTo>
                    <a:pt x="497205" y="1179068"/>
                  </a:lnTo>
                  <a:lnTo>
                    <a:pt x="497128" y="1190498"/>
                  </a:lnTo>
                  <a:lnTo>
                    <a:pt x="496633" y="1196848"/>
                  </a:lnTo>
                  <a:lnTo>
                    <a:pt x="495274" y="1204468"/>
                  </a:lnTo>
                  <a:lnTo>
                    <a:pt x="492633" y="1210818"/>
                  </a:lnTo>
                  <a:lnTo>
                    <a:pt x="488061" y="1210818"/>
                  </a:lnTo>
                  <a:lnTo>
                    <a:pt x="483489" y="1215898"/>
                  </a:lnTo>
                  <a:lnTo>
                    <a:pt x="478917" y="1215898"/>
                  </a:lnTo>
                  <a:lnTo>
                    <a:pt x="460502" y="1196848"/>
                  </a:lnTo>
                  <a:lnTo>
                    <a:pt x="455930" y="1196848"/>
                  </a:lnTo>
                  <a:lnTo>
                    <a:pt x="449618" y="1200658"/>
                  </a:lnTo>
                  <a:lnTo>
                    <a:pt x="430098" y="1218438"/>
                  </a:lnTo>
                  <a:lnTo>
                    <a:pt x="423799" y="1224788"/>
                  </a:lnTo>
                  <a:lnTo>
                    <a:pt x="423799" y="1233678"/>
                  </a:lnTo>
                  <a:lnTo>
                    <a:pt x="429869" y="1238758"/>
                  </a:lnTo>
                  <a:lnTo>
                    <a:pt x="434657" y="1242568"/>
                  </a:lnTo>
                  <a:lnTo>
                    <a:pt x="438581" y="1247648"/>
                  </a:lnTo>
                  <a:lnTo>
                    <a:pt x="442087" y="1252728"/>
                  </a:lnTo>
                  <a:lnTo>
                    <a:pt x="437515" y="1256538"/>
                  </a:lnTo>
                  <a:lnTo>
                    <a:pt x="437515" y="1266698"/>
                  </a:lnTo>
                  <a:lnTo>
                    <a:pt x="405384" y="1270508"/>
                  </a:lnTo>
                  <a:lnTo>
                    <a:pt x="400812" y="1275588"/>
                  </a:lnTo>
                  <a:lnTo>
                    <a:pt x="400812" y="1316228"/>
                  </a:lnTo>
                  <a:lnTo>
                    <a:pt x="405384" y="1316228"/>
                  </a:lnTo>
                  <a:lnTo>
                    <a:pt x="437515" y="1321308"/>
                  </a:lnTo>
                  <a:lnTo>
                    <a:pt x="437515" y="1330198"/>
                  </a:lnTo>
                  <a:lnTo>
                    <a:pt x="442087" y="1335278"/>
                  </a:lnTo>
                  <a:lnTo>
                    <a:pt x="438581" y="1341628"/>
                  </a:lnTo>
                  <a:lnTo>
                    <a:pt x="434657" y="1346708"/>
                  </a:lnTo>
                  <a:lnTo>
                    <a:pt x="429869" y="1351788"/>
                  </a:lnTo>
                  <a:lnTo>
                    <a:pt x="423799" y="1358138"/>
                  </a:lnTo>
                  <a:lnTo>
                    <a:pt x="423799" y="1363218"/>
                  </a:lnTo>
                  <a:lnTo>
                    <a:pt x="427456" y="1368298"/>
                  </a:lnTo>
                  <a:lnTo>
                    <a:pt x="435864" y="1375918"/>
                  </a:lnTo>
                  <a:lnTo>
                    <a:pt x="445122" y="1384808"/>
                  </a:lnTo>
                  <a:lnTo>
                    <a:pt x="451358" y="1389888"/>
                  </a:lnTo>
                  <a:lnTo>
                    <a:pt x="460502" y="1389888"/>
                  </a:lnTo>
                  <a:lnTo>
                    <a:pt x="478917" y="1375918"/>
                  </a:lnTo>
                  <a:lnTo>
                    <a:pt x="483489" y="1375918"/>
                  </a:lnTo>
                  <a:lnTo>
                    <a:pt x="488061" y="1380998"/>
                  </a:lnTo>
                  <a:lnTo>
                    <a:pt x="492633" y="1380998"/>
                  </a:lnTo>
                  <a:lnTo>
                    <a:pt x="497205" y="1408938"/>
                  </a:lnTo>
                  <a:lnTo>
                    <a:pt x="497205" y="1412748"/>
                  </a:lnTo>
                  <a:lnTo>
                    <a:pt x="543179" y="1412748"/>
                  </a:lnTo>
                  <a:lnTo>
                    <a:pt x="543179" y="1408938"/>
                  </a:lnTo>
                  <a:lnTo>
                    <a:pt x="545820" y="1401318"/>
                  </a:lnTo>
                  <a:lnTo>
                    <a:pt x="547179" y="1394968"/>
                  </a:lnTo>
                  <a:lnTo>
                    <a:pt x="547674" y="1387348"/>
                  </a:lnTo>
                  <a:lnTo>
                    <a:pt x="547751" y="1380998"/>
                  </a:lnTo>
                  <a:lnTo>
                    <a:pt x="552323" y="1375918"/>
                  </a:lnTo>
                  <a:lnTo>
                    <a:pt x="561467" y="1375918"/>
                  </a:lnTo>
                  <a:lnTo>
                    <a:pt x="584454" y="1389888"/>
                  </a:lnTo>
                  <a:lnTo>
                    <a:pt x="589026" y="1389888"/>
                  </a:lnTo>
                  <a:lnTo>
                    <a:pt x="594614" y="1387348"/>
                  </a:lnTo>
                  <a:lnTo>
                    <a:pt x="602805" y="1379728"/>
                  </a:lnTo>
                  <a:lnTo>
                    <a:pt x="606310" y="1375918"/>
                  </a:lnTo>
                  <a:lnTo>
                    <a:pt x="610984" y="1370838"/>
                  </a:lnTo>
                  <a:lnTo>
                    <a:pt x="616585" y="1363218"/>
                  </a:lnTo>
                  <a:lnTo>
                    <a:pt x="616585" y="1358138"/>
                  </a:lnTo>
                  <a:lnTo>
                    <a:pt x="613079" y="1351788"/>
                  </a:lnTo>
                  <a:lnTo>
                    <a:pt x="609155" y="1346708"/>
                  </a:lnTo>
                  <a:lnTo>
                    <a:pt x="606755" y="1344168"/>
                  </a:lnTo>
                  <a:lnTo>
                    <a:pt x="604367" y="1341628"/>
                  </a:lnTo>
                  <a:lnTo>
                    <a:pt x="598297" y="1335278"/>
                  </a:lnTo>
                  <a:lnTo>
                    <a:pt x="602869" y="1330198"/>
                  </a:lnTo>
                  <a:lnTo>
                    <a:pt x="602869" y="1326388"/>
                  </a:lnTo>
                  <a:lnTo>
                    <a:pt x="607441" y="1321308"/>
                  </a:lnTo>
                  <a:lnTo>
                    <a:pt x="635000" y="1316228"/>
                  </a:lnTo>
                  <a:lnTo>
                    <a:pt x="639572" y="1316228"/>
                  </a:lnTo>
                  <a:lnTo>
                    <a:pt x="639572" y="1275588"/>
                  </a:lnTo>
                  <a:close/>
                </a:path>
                <a:path w="759459" h="2714625">
                  <a:moveTo>
                    <a:pt x="758952" y="1375918"/>
                  </a:moveTo>
                  <a:lnTo>
                    <a:pt x="754634" y="1373378"/>
                  </a:lnTo>
                  <a:lnTo>
                    <a:pt x="745159" y="1372108"/>
                  </a:lnTo>
                  <a:lnTo>
                    <a:pt x="731393" y="1372108"/>
                  </a:lnTo>
                  <a:lnTo>
                    <a:pt x="726821" y="1367028"/>
                  </a:lnTo>
                  <a:lnTo>
                    <a:pt x="726821" y="1363218"/>
                  </a:lnTo>
                  <a:lnTo>
                    <a:pt x="722249" y="1363218"/>
                  </a:lnTo>
                  <a:lnTo>
                    <a:pt x="725601" y="1356868"/>
                  </a:lnTo>
                  <a:lnTo>
                    <a:pt x="728535" y="1349248"/>
                  </a:lnTo>
                  <a:lnTo>
                    <a:pt x="729716" y="1344168"/>
                  </a:lnTo>
                  <a:lnTo>
                    <a:pt x="730605" y="1340358"/>
                  </a:lnTo>
                  <a:lnTo>
                    <a:pt x="708406" y="1321308"/>
                  </a:lnTo>
                  <a:lnTo>
                    <a:pt x="708406" y="1389888"/>
                  </a:lnTo>
                  <a:lnTo>
                    <a:pt x="706755" y="1400048"/>
                  </a:lnTo>
                  <a:lnTo>
                    <a:pt x="702119" y="1406398"/>
                  </a:lnTo>
                  <a:lnTo>
                    <a:pt x="694893" y="1411478"/>
                  </a:lnTo>
                  <a:lnTo>
                    <a:pt x="685546" y="1412748"/>
                  </a:lnTo>
                  <a:lnTo>
                    <a:pt x="676109" y="1411478"/>
                  </a:lnTo>
                  <a:lnTo>
                    <a:pt x="668858" y="1406398"/>
                  </a:lnTo>
                  <a:lnTo>
                    <a:pt x="664197" y="1400048"/>
                  </a:lnTo>
                  <a:lnTo>
                    <a:pt x="662559" y="1389888"/>
                  </a:lnTo>
                  <a:lnTo>
                    <a:pt x="664197" y="1380998"/>
                  </a:lnTo>
                  <a:lnTo>
                    <a:pt x="668858" y="1373378"/>
                  </a:lnTo>
                  <a:lnTo>
                    <a:pt x="676109" y="1368298"/>
                  </a:lnTo>
                  <a:lnTo>
                    <a:pt x="685546" y="1367028"/>
                  </a:lnTo>
                  <a:lnTo>
                    <a:pt x="694893" y="1368298"/>
                  </a:lnTo>
                  <a:lnTo>
                    <a:pt x="702119" y="1373378"/>
                  </a:lnTo>
                  <a:lnTo>
                    <a:pt x="706755" y="1380998"/>
                  </a:lnTo>
                  <a:lnTo>
                    <a:pt x="708406" y="1389888"/>
                  </a:lnTo>
                  <a:lnTo>
                    <a:pt x="708406" y="1321308"/>
                  </a:lnTo>
                  <a:lnTo>
                    <a:pt x="704253" y="1327658"/>
                  </a:lnTo>
                  <a:lnTo>
                    <a:pt x="694258" y="1337818"/>
                  </a:lnTo>
                  <a:lnTo>
                    <a:pt x="690118" y="1344168"/>
                  </a:lnTo>
                  <a:lnTo>
                    <a:pt x="680847" y="1344168"/>
                  </a:lnTo>
                  <a:lnTo>
                    <a:pt x="678624" y="1339088"/>
                  </a:lnTo>
                  <a:lnTo>
                    <a:pt x="673417" y="1331468"/>
                  </a:lnTo>
                  <a:lnTo>
                    <a:pt x="667334" y="1323848"/>
                  </a:lnTo>
                  <a:lnTo>
                    <a:pt x="662559" y="1321308"/>
                  </a:lnTo>
                  <a:lnTo>
                    <a:pt x="659599" y="1323848"/>
                  </a:lnTo>
                  <a:lnTo>
                    <a:pt x="652780" y="1327658"/>
                  </a:lnTo>
                  <a:lnTo>
                    <a:pt x="645083" y="1332738"/>
                  </a:lnTo>
                  <a:lnTo>
                    <a:pt x="639572" y="1335278"/>
                  </a:lnTo>
                  <a:lnTo>
                    <a:pt x="640994" y="1340358"/>
                  </a:lnTo>
                  <a:lnTo>
                    <a:pt x="647280" y="1356868"/>
                  </a:lnTo>
                  <a:lnTo>
                    <a:pt x="648716" y="1363218"/>
                  </a:lnTo>
                  <a:lnTo>
                    <a:pt x="644144" y="1363218"/>
                  </a:lnTo>
                  <a:lnTo>
                    <a:pt x="644144" y="1372108"/>
                  </a:lnTo>
                  <a:lnTo>
                    <a:pt x="628650" y="1372108"/>
                  </a:lnTo>
                  <a:lnTo>
                    <a:pt x="620242" y="1373378"/>
                  </a:lnTo>
                  <a:lnTo>
                    <a:pt x="616585" y="1375918"/>
                  </a:lnTo>
                  <a:lnTo>
                    <a:pt x="616585" y="1403858"/>
                  </a:lnTo>
                  <a:lnTo>
                    <a:pt x="620242" y="1405128"/>
                  </a:lnTo>
                  <a:lnTo>
                    <a:pt x="628650" y="1406398"/>
                  </a:lnTo>
                  <a:lnTo>
                    <a:pt x="637908" y="1407668"/>
                  </a:lnTo>
                  <a:lnTo>
                    <a:pt x="644144" y="1408938"/>
                  </a:lnTo>
                  <a:lnTo>
                    <a:pt x="644144" y="1412748"/>
                  </a:lnTo>
                  <a:lnTo>
                    <a:pt x="648716" y="1417828"/>
                  </a:lnTo>
                  <a:lnTo>
                    <a:pt x="647280" y="1422908"/>
                  </a:lnTo>
                  <a:lnTo>
                    <a:pt x="640994" y="1439418"/>
                  </a:lnTo>
                  <a:lnTo>
                    <a:pt x="639572" y="1445768"/>
                  </a:lnTo>
                  <a:lnTo>
                    <a:pt x="645083" y="1447038"/>
                  </a:lnTo>
                  <a:lnTo>
                    <a:pt x="652780" y="1452118"/>
                  </a:lnTo>
                  <a:lnTo>
                    <a:pt x="659599" y="1457198"/>
                  </a:lnTo>
                  <a:lnTo>
                    <a:pt x="662559" y="1458468"/>
                  </a:lnTo>
                  <a:lnTo>
                    <a:pt x="667334" y="1455928"/>
                  </a:lnTo>
                  <a:lnTo>
                    <a:pt x="673417" y="1449578"/>
                  </a:lnTo>
                  <a:lnTo>
                    <a:pt x="678624" y="1441958"/>
                  </a:lnTo>
                  <a:lnTo>
                    <a:pt x="680847" y="1435608"/>
                  </a:lnTo>
                  <a:lnTo>
                    <a:pt x="690118" y="1435608"/>
                  </a:lnTo>
                  <a:lnTo>
                    <a:pt x="694893" y="1441958"/>
                  </a:lnTo>
                  <a:lnTo>
                    <a:pt x="700976" y="1449578"/>
                  </a:lnTo>
                  <a:lnTo>
                    <a:pt x="706183" y="1455928"/>
                  </a:lnTo>
                  <a:lnTo>
                    <a:pt x="708406" y="1458468"/>
                  </a:lnTo>
                  <a:lnTo>
                    <a:pt x="713917" y="1457198"/>
                  </a:lnTo>
                  <a:lnTo>
                    <a:pt x="721614" y="1452118"/>
                  </a:lnTo>
                  <a:lnTo>
                    <a:pt x="728433" y="1447038"/>
                  </a:lnTo>
                  <a:lnTo>
                    <a:pt x="731393" y="1445768"/>
                  </a:lnTo>
                  <a:lnTo>
                    <a:pt x="730605" y="1439418"/>
                  </a:lnTo>
                  <a:lnTo>
                    <a:pt x="729564" y="1435608"/>
                  </a:lnTo>
                  <a:lnTo>
                    <a:pt x="728535" y="1431798"/>
                  </a:lnTo>
                  <a:lnTo>
                    <a:pt x="725601" y="1422908"/>
                  </a:lnTo>
                  <a:lnTo>
                    <a:pt x="722249" y="1417828"/>
                  </a:lnTo>
                  <a:lnTo>
                    <a:pt x="727468" y="1412748"/>
                  </a:lnTo>
                  <a:lnTo>
                    <a:pt x="731393" y="1408938"/>
                  </a:lnTo>
                  <a:lnTo>
                    <a:pt x="758952" y="1403858"/>
                  </a:lnTo>
                  <a:lnTo>
                    <a:pt x="758952" y="1375918"/>
                  </a:lnTo>
                  <a:close/>
                </a:path>
                <a:path w="759459" h="2714625">
                  <a:moveTo>
                    <a:pt x="758952" y="1187958"/>
                  </a:moveTo>
                  <a:lnTo>
                    <a:pt x="754634" y="1185418"/>
                  </a:lnTo>
                  <a:lnTo>
                    <a:pt x="745159" y="1184148"/>
                  </a:lnTo>
                  <a:lnTo>
                    <a:pt x="735698" y="1184148"/>
                  </a:lnTo>
                  <a:lnTo>
                    <a:pt x="731393" y="1182878"/>
                  </a:lnTo>
                  <a:lnTo>
                    <a:pt x="726821" y="1179068"/>
                  </a:lnTo>
                  <a:lnTo>
                    <a:pt x="726821" y="1173988"/>
                  </a:lnTo>
                  <a:lnTo>
                    <a:pt x="722249" y="1173988"/>
                  </a:lnTo>
                  <a:lnTo>
                    <a:pt x="725601" y="1168908"/>
                  </a:lnTo>
                  <a:lnTo>
                    <a:pt x="728535" y="1160018"/>
                  </a:lnTo>
                  <a:lnTo>
                    <a:pt x="729564" y="1156208"/>
                  </a:lnTo>
                  <a:lnTo>
                    <a:pt x="730605" y="1152398"/>
                  </a:lnTo>
                  <a:lnTo>
                    <a:pt x="708406" y="1133348"/>
                  </a:lnTo>
                  <a:lnTo>
                    <a:pt x="708406" y="1201928"/>
                  </a:lnTo>
                  <a:lnTo>
                    <a:pt x="706755" y="1210818"/>
                  </a:lnTo>
                  <a:lnTo>
                    <a:pt x="702119" y="1218438"/>
                  </a:lnTo>
                  <a:lnTo>
                    <a:pt x="694893" y="1223518"/>
                  </a:lnTo>
                  <a:lnTo>
                    <a:pt x="685546" y="1224788"/>
                  </a:lnTo>
                  <a:lnTo>
                    <a:pt x="676109" y="1223518"/>
                  </a:lnTo>
                  <a:lnTo>
                    <a:pt x="668858" y="1218438"/>
                  </a:lnTo>
                  <a:lnTo>
                    <a:pt x="664197" y="1210818"/>
                  </a:lnTo>
                  <a:lnTo>
                    <a:pt x="662559" y="1201928"/>
                  </a:lnTo>
                  <a:lnTo>
                    <a:pt x="664197" y="1193038"/>
                  </a:lnTo>
                  <a:lnTo>
                    <a:pt x="668858" y="1185418"/>
                  </a:lnTo>
                  <a:lnTo>
                    <a:pt x="676109" y="1180338"/>
                  </a:lnTo>
                  <a:lnTo>
                    <a:pt x="685546" y="1179068"/>
                  </a:lnTo>
                  <a:lnTo>
                    <a:pt x="694893" y="1180338"/>
                  </a:lnTo>
                  <a:lnTo>
                    <a:pt x="702119" y="1185418"/>
                  </a:lnTo>
                  <a:lnTo>
                    <a:pt x="706755" y="1193038"/>
                  </a:lnTo>
                  <a:lnTo>
                    <a:pt x="708406" y="1201928"/>
                  </a:lnTo>
                  <a:lnTo>
                    <a:pt x="708406" y="1133348"/>
                  </a:lnTo>
                  <a:lnTo>
                    <a:pt x="704253" y="1137158"/>
                  </a:lnTo>
                  <a:lnTo>
                    <a:pt x="699249" y="1142238"/>
                  </a:lnTo>
                  <a:lnTo>
                    <a:pt x="694258" y="1148588"/>
                  </a:lnTo>
                  <a:lnTo>
                    <a:pt x="690118" y="1156208"/>
                  </a:lnTo>
                  <a:lnTo>
                    <a:pt x="690118" y="1151128"/>
                  </a:lnTo>
                  <a:lnTo>
                    <a:pt x="680847" y="1151128"/>
                  </a:lnTo>
                  <a:lnTo>
                    <a:pt x="680847" y="1156208"/>
                  </a:lnTo>
                  <a:lnTo>
                    <a:pt x="678624" y="1149858"/>
                  </a:lnTo>
                  <a:lnTo>
                    <a:pt x="673417" y="1142238"/>
                  </a:lnTo>
                  <a:lnTo>
                    <a:pt x="667334" y="1135888"/>
                  </a:lnTo>
                  <a:lnTo>
                    <a:pt x="662559" y="1133348"/>
                  </a:lnTo>
                  <a:lnTo>
                    <a:pt x="659599" y="1134618"/>
                  </a:lnTo>
                  <a:lnTo>
                    <a:pt x="652780" y="1139698"/>
                  </a:lnTo>
                  <a:lnTo>
                    <a:pt x="645083" y="1144778"/>
                  </a:lnTo>
                  <a:lnTo>
                    <a:pt x="639572" y="1147318"/>
                  </a:lnTo>
                  <a:lnTo>
                    <a:pt x="640994" y="1152398"/>
                  </a:lnTo>
                  <a:lnTo>
                    <a:pt x="647280" y="1168908"/>
                  </a:lnTo>
                  <a:lnTo>
                    <a:pt x="648716" y="1173988"/>
                  </a:lnTo>
                  <a:lnTo>
                    <a:pt x="644144" y="1173988"/>
                  </a:lnTo>
                  <a:lnTo>
                    <a:pt x="644144" y="1182878"/>
                  </a:lnTo>
                  <a:lnTo>
                    <a:pt x="637908" y="1184148"/>
                  </a:lnTo>
                  <a:lnTo>
                    <a:pt x="628650" y="1184148"/>
                  </a:lnTo>
                  <a:lnTo>
                    <a:pt x="620242" y="1185418"/>
                  </a:lnTo>
                  <a:lnTo>
                    <a:pt x="616585" y="1187958"/>
                  </a:lnTo>
                  <a:lnTo>
                    <a:pt x="616585" y="1215898"/>
                  </a:lnTo>
                  <a:lnTo>
                    <a:pt x="620242" y="1215898"/>
                  </a:lnTo>
                  <a:lnTo>
                    <a:pt x="628650" y="1218438"/>
                  </a:lnTo>
                  <a:lnTo>
                    <a:pt x="637908" y="1219708"/>
                  </a:lnTo>
                  <a:lnTo>
                    <a:pt x="644144" y="1219708"/>
                  </a:lnTo>
                  <a:lnTo>
                    <a:pt x="644144" y="1224788"/>
                  </a:lnTo>
                  <a:lnTo>
                    <a:pt x="648716" y="1229868"/>
                  </a:lnTo>
                  <a:lnTo>
                    <a:pt x="648716" y="1233678"/>
                  </a:lnTo>
                  <a:lnTo>
                    <a:pt x="639572" y="1252728"/>
                  </a:lnTo>
                  <a:lnTo>
                    <a:pt x="639572" y="1256538"/>
                  </a:lnTo>
                  <a:lnTo>
                    <a:pt x="645083" y="1259078"/>
                  </a:lnTo>
                  <a:lnTo>
                    <a:pt x="652780" y="1264158"/>
                  </a:lnTo>
                  <a:lnTo>
                    <a:pt x="659599" y="1269238"/>
                  </a:lnTo>
                  <a:lnTo>
                    <a:pt x="662559" y="1270508"/>
                  </a:lnTo>
                  <a:lnTo>
                    <a:pt x="667334" y="1267968"/>
                  </a:lnTo>
                  <a:lnTo>
                    <a:pt x="673417" y="1261618"/>
                  </a:lnTo>
                  <a:lnTo>
                    <a:pt x="678624" y="1252728"/>
                  </a:lnTo>
                  <a:lnTo>
                    <a:pt x="680847" y="1247648"/>
                  </a:lnTo>
                  <a:lnTo>
                    <a:pt x="690118" y="1247648"/>
                  </a:lnTo>
                  <a:lnTo>
                    <a:pt x="694893" y="1252728"/>
                  </a:lnTo>
                  <a:lnTo>
                    <a:pt x="700976" y="1261618"/>
                  </a:lnTo>
                  <a:lnTo>
                    <a:pt x="706183" y="1267968"/>
                  </a:lnTo>
                  <a:lnTo>
                    <a:pt x="708406" y="1270508"/>
                  </a:lnTo>
                  <a:lnTo>
                    <a:pt x="713917" y="1269238"/>
                  </a:lnTo>
                  <a:lnTo>
                    <a:pt x="721614" y="1264158"/>
                  </a:lnTo>
                  <a:lnTo>
                    <a:pt x="728433" y="1259078"/>
                  </a:lnTo>
                  <a:lnTo>
                    <a:pt x="731393" y="1256538"/>
                  </a:lnTo>
                  <a:lnTo>
                    <a:pt x="731393" y="1252728"/>
                  </a:lnTo>
                  <a:lnTo>
                    <a:pt x="730173" y="1247648"/>
                  </a:lnTo>
                  <a:lnTo>
                    <a:pt x="726821" y="1233678"/>
                  </a:lnTo>
                  <a:lnTo>
                    <a:pt x="722249" y="1229868"/>
                  </a:lnTo>
                  <a:lnTo>
                    <a:pt x="726821" y="1224788"/>
                  </a:lnTo>
                  <a:lnTo>
                    <a:pt x="731393" y="1219708"/>
                  </a:lnTo>
                  <a:lnTo>
                    <a:pt x="758952" y="1215898"/>
                  </a:lnTo>
                  <a:lnTo>
                    <a:pt x="758952" y="1187958"/>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6" name="object 28"/>
          <p:cNvSpPr/>
          <p:nvPr/>
        </p:nvSpPr>
        <p:spPr>
          <a:xfrm>
            <a:off x="252360" y="4159080"/>
            <a:ext cx="2460600" cy="92268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Policy can be for one year  or more than one year  (Maxm -10 years </a:t>
            </a:r>
            <a:r>
              <a:rPr b="0" lang="en-US" sz="1500" spc="-1" strike="noStrike">
                <a:solidFill>
                  <a:srgbClr val="22228b"/>
                </a:solidFill>
                <a:latin typeface="Gill Sans MT"/>
              </a:rPr>
              <a:t>only for Individual owners</a:t>
            </a:r>
            <a:r>
              <a:rPr b="1" lang="en-US" sz="1500" spc="-1" strike="noStrike">
                <a:solidFill>
                  <a:srgbClr val="000000"/>
                </a:solidFill>
                <a:latin typeface="Century Gothic"/>
                <a:ea typeface="Century Gothic"/>
              </a:rPr>
              <a:t>)</a:t>
            </a:r>
            <a:endParaRPr b="0" lang="en-US" sz="1500" spc="-1" strike="noStrike">
              <a:solidFill>
                <a:srgbClr val="000000"/>
              </a:solidFill>
              <a:latin typeface="Times New Roman"/>
            </a:endParaRPr>
          </a:p>
        </p:txBody>
      </p:sp>
      <p:sp>
        <p:nvSpPr>
          <p:cNvPr id="87" name="object 29"/>
          <p:cNvSpPr/>
          <p:nvPr/>
        </p:nvSpPr>
        <p:spPr>
          <a:xfrm>
            <a:off x="6093000" y="2332080"/>
            <a:ext cx="2814480" cy="603720"/>
          </a:xfrm>
          <a:prstGeom prst="rect">
            <a:avLst/>
          </a:prstGeom>
          <a:noFill/>
          <a:ln w="0">
            <a:noFill/>
          </a:ln>
        </p:spPr>
        <p:style>
          <a:lnRef idx="0"/>
          <a:fillRef idx="0"/>
          <a:effectRef idx="0"/>
          <a:fontRef idx="minor"/>
        </p:style>
        <p:txBody>
          <a:bodyPr lIns="0" rIns="0" tIns="1008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Will replace the policy for </a:t>
            </a:r>
            <a:r>
              <a:rPr b="1" lang="en-US" sz="1500" spc="-1" strike="noStrike">
                <a:solidFill>
                  <a:srgbClr val="000000"/>
                </a:solidFill>
                <a:latin typeface="Century Gothic"/>
                <a:ea typeface="Century Gothic"/>
              </a:rPr>
              <a:t>Dwellings</a:t>
            </a:r>
            <a:endParaRPr b="0" lang="en-US" sz="15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under erstwhile Fire tariff</a:t>
            </a:r>
            <a:endParaRPr b="0" lang="en-US" sz="1200" spc="-1" strike="noStrike">
              <a:solidFill>
                <a:srgbClr val="000000"/>
              </a:solidFill>
              <a:latin typeface="Times New Roman"/>
            </a:endParaRPr>
          </a:p>
        </p:txBody>
      </p:sp>
      <p:sp>
        <p:nvSpPr>
          <p:cNvPr id="88" name="object 30"/>
          <p:cNvSpPr/>
          <p:nvPr/>
        </p:nvSpPr>
        <p:spPr>
          <a:xfrm>
            <a:off x="6402240" y="3056040"/>
            <a:ext cx="277668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Can </a:t>
            </a:r>
            <a:r>
              <a:rPr b="1" lang="en-US" sz="1300" spc="-1" strike="noStrike">
                <a:solidFill>
                  <a:srgbClr val="000000"/>
                </a:solidFill>
                <a:latin typeface="Arial"/>
                <a:ea typeface="Arial"/>
              </a:rPr>
              <a:t>be</a:t>
            </a:r>
            <a:r>
              <a:rPr b="1" lang="en-US" sz="1300" spc="-1" strike="noStrike">
                <a:solidFill>
                  <a:srgbClr val="000000"/>
                </a:solidFill>
                <a:latin typeface="Century Gothic"/>
                <a:ea typeface="Century Gothic"/>
              </a:rPr>
              <a:t> taken by anyone for their</a:t>
            </a:r>
            <a:endParaRPr b="0" lang="en-US" sz="1300" spc="-1" strike="noStrike">
              <a:solidFill>
                <a:srgbClr val="000000"/>
              </a:solidFill>
              <a:latin typeface="Times New Roman"/>
            </a:endParaRPr>
          </a:p>
        </p:txBody>
      </p:sp>
      <p:sp>
        <p:nvSpPr>
          <p:cNvPr id="89" name="object 31"/>
          <p:cNvSpPr/>
          <p:nvPr/>
        </p:nvSpPr>
        <p:spPr>
          <a:xfrm>
            <a:off x="6402240" y="3262320"/>
            <a:ext cx="2373480" cy="405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residential accommodation  </a:t>
            </a:r>
            <a:r>
              <a:rPr b="1" lang="en-US" sz="1300" spc="-1" strike="noStrike">
                <a:solidFill>
                  <a:srgbClr val="000000"/>
                </a:solidFill>
                <a:latin typeface="Arial"/>
                <a:ea typeface="Arial"/>
              </a:rPr>
              <a:t>irrespective</a:t>
            </a:r>
            <a:r>
              <a:rPr b="1" lang="en-US" sz="1300" spc="-1" strike="noStrike">
                <a:solidFill>
                  <a:srgbClr val="000000"/>
                </a:solidFill>
                <a:latin typeface="Century Gothic"/>
                <a:ea typeface="Century Gothic"/>
              </a:rPr>
              <a:t> of Sum insured</a:t>
            </a:r>
            <a:endParaRPr b="0" lang="en-US" sz="1300" spc="-1" strike="noStrike">
              <a:solidFill>
                <a:srgbClr val="000000"/>
              </a:solidFill>
              <a:latin typeface="Times New Roman"/>
            </a:endParaRPr>
          </a:p>
        </p:txBody>
      </p:sp>
      <p:sp>
        <p:nvSpPr>
          <p:cNvPr id="90" name="object 32"/>
          <p:cNvSpPr/>
          <p:nvPr/>
        </p:nvSpPr>
        <p:spPr>
          <a:xfrm>
            <a:off x="6200640" y="4100400"/>
            <a:ext cx="2390760" cy="694440"/>
          </a:xfrm>
          <a:prstGeom prst="rect">
            <a:avLst/>
          </a:prstGeom>
          <a:noFill/>
          <a:ln w="0">
            <a:noFill/>
          </a:ln>
        </p:spPr>
        <p:style>
          <a:lnRef idx="0"/>
          <a:fillRef idx="0"/>
          <a:effectRef idx="0"/>
          <a:fontRef idx="minor"/>
        </p:style>
        <p:txBody>
          <a:bodyPr lIns="0" rIns="0" tIns="9360" bIns="0" anchor="t">
            <a:spAutoFit/>
          </a:bodyPr>
          <a:p>
            <a:pPr marL="9360" algn="just">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It can be incorporated as  part of package policy or  other polic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Close Proxim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09480" y="1600200"/>
            <a:ext cx="7848720" cy="4038480"/>
          </a:xfrm>
          <a:prstGeom prst="rect">
            <a:avLst/>
          </a:prstGeom>
          <a:noFill/>
          <a:ln w="76320">
            <a:solidFill>
              <a:srgbClr val="339966"/>
            </a:solidFill>
            <a:miter/>
          </a:ln>
        </p:spPr>
        <p:txBody>
          <a:bodyPr anchor="t">
            <a:noAutofit/>
          </a:bodyPr>
          <a:p>
            <a:pPr lvl="1" marL="457200" algn="just">
              <a:lnSpc>
                <a:spcPct val="100000"/>
              </a:lnSpc>
              <a:spcBef>
                <a:spcPts val="601"/>
              </a:spcBef>
              <a:buClr>
                <a:srgbClr val="cc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Bookman Old Style"/>
              </a:rPr>
              <a:t>Loss occurs with in 5 days from the inception of the risk.</a:t>
            </a:r>
            <a:endParaRPr b="0" lang="en-US" sz="24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etailed Investigation should be immediately instituted to ensure</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s the risk has remained un- insured or adequately insured prior to the insurance cover</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56" dur="500"/>
                                        <p:tgtEl>
                                          <p:spTgt spid="247">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361" dur="2000"/>
                                        <p:tgtEl>
                                          <p:spTgt spid="247">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366"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imes New Roman"/>
              </a:rPr>
              <a:t>Compromised Claim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990360"/>
            <a:ext cx="7772400" cy="510516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of policy condition/warran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on compliance of Tariff Prov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harging incorrect premium due to Misrepresentation / mis- declaration / nondisclosure by insured</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after rectification- deduction of any further amount other than rectification premium from the assessed claim as per internal instruction issued by the company</a:t>
            </a:r>
            <a:r>
              <a:rPr b="0" lang="en-US" sz="3200" spc="-1" strike="noStrike">
                <a:solidFill>
                  <a:srgbClr val="000000"/>
                </a:solidFill>
                <a:latin typeface="Bookman Old Style"/>
              </a:rPr>
              <a: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25% to 75% depend upon the nature of laps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251"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253"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a:t>
            </a: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construction, erectio        </a:t>
            </a:r>
            <a:r>
              <a:rPr b="1" lang="en-US" sz="2400" spc="-1" strike="noStrike">
                <a:solidFill>
                  <a:srgbClr val="0000cc"/>
                </a:solidFill>
                <a:latin typeface="Arial"/>
              </a:rPr>
              <a:t>	</a:t>
            </a:r>
            <a:r>
              <a:rPr b="1" lang="en-US" sz="2400" spc="-1" strike="noStrike">
                <a:solidFill>
                  <a:srgbClr val="0000cc"/>
                </a:solidFill>
                <a:latin typeface="Arial"/>
              </a:rPr>
              <a:t>until completion of testing</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a:t>
            </a: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533520" y="2437920"/>
            <a:ext cx="7619760" cy="25909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stipulated ex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2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Half the escalated value if op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EQUIPMENTS</a:t>
            </a:r>
            <a:endParaRPr b="0" lang="en-US" sz="4400" spc="-1" strike="noStrike">
              <a:solidFill>
                <a:srgbClr val="000000"/>
              </a:solidFill>
              <a:latin typeface="Times New Roman"/>
            </a:endParaRPr>
          </a:p>
        </p:txBody>
      </p:sp>
      <p:sp>
        <p:nvSpPr>
          <p:cNvPr id="261" name="PlaceHolder 2"/>
          <p:cNvSpPr>
            <a:spLocks noGrp="1"/>
          </p:cNvSpPr>
          <p:nvPr>
            <p:ph/>
          </p:nvPr>
        </p:nvSpPr>
        <p:spPr>
          <a:xfrm>
            <a:off x="304920" y="1143000"/>
            <a:ext cx="8534160" cy="4952880"/>
          </a:xfrm>
          <a:prstGeom prst="rect">
            <a:avLst/>
          </a:prstGeom>
          <a:noFill/>
          <a:ln w="76320">
            <a:solidFill>
              <a:srgbClr val="ff00ff"/>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2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object 2"/>
          <p:cNvGrpSpPr/>
          <p:nvPr/>
        </p:nvGrpSpPr>
        <p:grpSpPr>
          <a:xfrm>
            <a:off x="92160" y="1952640"/>
            <a:ext cx="9051840" cy="3535200"/>
            <a:chOff x="92160" y="1952640"/>
            <a:chExt cx="9051840" cy="3535200"/>
          </a:xfrm>
        </p:grpSpPr>
        <p:pic>
          <p:nvPicPr>
            <p:cNvPr id="92" name="object 3" descr=""/>
            <p:cNvPicPr/>
            <p:nvPr/>
          </p:nvPicPr>
          <p:blipFill>
            <a:blip r:embed="rId1"/>
            <a:stretch/>
          </p:blipFill>
          <p:spPr>
            <a:xfrm>
              <a:off x="195840" y="1990440"/>
              <a:ext cx="8866800" cy="3497400"/>
            </a:xfrm>
            <a:prstGeom prst="rect">
              <a:avLst/>
            </a:prstGeom>
            <a:ln w="0">
              <a:noFill/>
            </a:ln>
          </p:spPr>
        </p:pic>
        <p:pic>
          <p:nvPicPr>
            <p:cNvPr id="93" name="object 4" descr=""/>
            <p:cNvPicPr/>
            <p:nvPr/>
          </p:nvPicPr>
          <p:blipFill>
            <a:blip r:embed="rId2"/>
            <a:stretch/>
          </p:blipFill>
          <p:spPr>
            <a:xfrm>
              <a:off x="1405440" y="1952640"/>
              <a:ext cx="2773800" cy="1757520"/>
            </a:xfrm>
            <a:prstGeom prst="rect">
              <a:avLst/>
            </a:prstGeom>
            <a:ln w="0">
              <a:noFill/>
            </a:ln>
          </p:spPr>
        </p:pic>
        <p:pic>
          <p:nvPicPr>
            <p:cNvPr id="94" name="object 5" descr=""/>
            <p:cNvPicPr/>
            <p:nvPr/>
          </p:nvPicPr>
          <p:blipFill>
            <a:blip r:embed="rId3"/>
            <a:stretch/>
          </p:blipFill>
          <p:spPr>
            <a:xfrm flipH="1" rot="10800000">
              <a:off x="92160" y="5361480"/>
              <a:ext cx="2818800" cy="57240"/>
            </a:xfrm>
            <a:prstGeom prst="rect">
              <a:avLst/>
            </a:prstGeom>
            <a:ln w="0">
              <a:noFill/>
            </a:ln>
          </p:spPr>
        </p:pic>
        <p:pic>
          <p:nvPicPr>
            <p:cNvPr id="95" name="object 7" descr=""/>
            <p:cNvPicPr/>
            <p:nvPr/>
          </p:nvPicPr>
          <p:blipFill>
            <a:blip r:embed="rId4"/>
            <a:stretch/>
          </p:blipFill>
          <p:spPr>
            <a:xfrm>
              <a:off x="3192840" y="2041560"/>
              <a:ext cx="5951160" cy="3377520"/>
            </a:xfrm>
            <a:prstGeom prst="rect">
              <a:avLst/>
            </a:prstGeom>
            <a:ln w="0">
              <a:noFill/>
            </a:ln>
          </p:spPr>
        </p:pic>
      </p:grpSp>
      <p:sp>
        <p:nvSpPr>
          <p:cNvPr id="96" name="object 8"/>
          <p:cNvSpPr/>
          <p:nvPr/>
        </p:nvSpPr>
        <p:spPr>
          <a:xfrm>
            <a:off x="1622520" y="2305080"/>
            <a:ext cx="2262240" cy="1849320"/>
          </a:xfrm>
          <a:prstGeom prst="rect">
            <a:avLst/>
          </a:prstGeom>
          <a:solidFill>
            <a:srgbClr val="ecfadc"/>
          </a:solidFill>
          <a:ln w="0">
            <a:noFill/>
          </a:ln>
        </p:spPr>
        <p:style>
          <a:lnRef idx="0"/>
          <a:fillRef idx="0"/>
          <a:effectRef idx="0"/>
          <a:fontRef idx="minor"/>
        </p:style>
        <p:txBody>
          <a:bodyPr lIns="0" rIns="0" tIns="23040" bIns="0" anchor="t">
            <a:spAutoFit/>
          </a:bodyPr>
          <a:p>
            <a:pPr marL="66600">
              <a:lnSpc>
                <a:spcPct val="100000"/>
              </a:lnSpc>
              <a:spcBef>
                <a:spcPts val="1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USED ONLY FOR THE  PURPOSE OF RESIDENC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 </a:t>
            </a:r>
            <a:r>
              <a:rPr b="1" lang="en-US" sz="1500" spc="-1" strike="noStrike">
                <a:solidFill>
                  <a:srgbClr val="000000"/>
                </a:solidFill>
                <a:latin typeface="Tw Cen MT"/>
                <a:ea typeface="Tw Cen MT"/>
              </a:rPr>
              <a:t>SELF, FAMILY, TENANT</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LICENSEE OR EMPLOYE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a:t>
            </a:r>
            <a:endParaRPr b="0" lang="en-US" sz="1500" spc="-1" strike="noStrike">
              <a:solidFill>
                <a:srgbClr val="000000"/>
              </a:solidFill>
              <a:latin typeface="Times New Roman"/>
            </a:endParaRPr>
          </a:p>
        </p:txBody>
      </p:sp>
      <p:sp>
        <p:nvSpPr>
          <p:cNvPr id="97" name="object 9"/>
          <p:cNvSpPr/>
          <p:nvPr/>
        </p:nvSpPr>
        <p:spPr>
          <a:xfrm>
            <a:off x="3316320" y="4162320"/>
            <a:ext cx="2735280" cy="823680"/>
          </a:xfrm>
          <a:prstGeom prst="rect">
            <a:avLst/>
          </a:prstGeom>
          <a:solidFill>
            <a:srgbClr val="bdebdf"/>
          </a:solidFill>
          <a:ln w="0">
            <a:noFill/>
          </a:ln>
        </p:spPr>
        <p:style>
          <a:lnRef idx="0"/>
          <a:fillRef idx="0"/>
          <a:effectRef idx="0"/>
          <a:fontRef idx="minor"/>
        </p:style>
        <p:txBody>
          <a:bodyPr lIns="0" rIns="0" tIns="31320" bIns="0" anchor="t">
            <a:spAutoFit/>
          </a:bodyPr>
          <a:p>
            <a:pPr marL="66600">
              <a:lnSpc>
                <a:spcPct val="10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Home building is used as a  Holiday home, or for lodging  and boarding or any other  purpose other than residential</a:t>
            </a:r>
            <a:endParaRPr b="0" lang="en-US" sz="1300" spc="-1" strike="noStrike">
              <a:solidFill>
                <a:srgbClr val="000000"/>
              </a:solidFill>
              <a:latin typeface="Times New Roman"/>
            </a:endParaRPr>
          </a:p>
        </p:txBody>
      </p:sp>
      <p:sp>
        <p:nvSpPr>
          <p:cNvPr id="98" name="object 10"/>
          <p:cNvSpPr/>
          <p:nvPr/>
        </p:nvSpPr>
        <p:spPr>
          <a:xfrm>
            <a:off x="3462480" y="3848040"/>
            <a:ext cx="1636560" cy="46620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WILL NOT PAY IF…..</a:t>
            </a:r>
            <a:endParaRPr b="0" lang="en-US" sz="1500" spc="-1" strike="noStrike">
              <a:solidFill>
                <a:srgbClr val="000000"/>
              </a:solidFill>
              <a:latin typeface="Times New Roman"/>
            </a:endParaRPr>
          </a:p>
        </p:txBody>
      </p:sp>
      <p:sp>
        <p:nvSpPr>
          <p:cNvPr id="99" name="object 11"/>
          <p:cNvSpPr/>
          <p:nvPr/>
        </p:nvSpPr>
        <p:spPr>
          <a:xfrm>
            <a:off x="6199200" y="2308320"/>
            <a:ext cx="2805120" cy="2005920"/>
          </a:xfrm>
          <a:prstGeom prst="rect">
            <a:avLst/>
          </a:prstGeom>
          <a:solidFill>
            <a:srgbClr val="b8c2e9"/>
          </a:solidFill>
          <a:ln w="0">
            <a:noFill/>
          </a:ln>
        </p:spPr>
        <p:style>
          <a:lnRef idx="0"/>
          <a:fillRef idx="0"/>
          <a:effectRef idx="0"/>
          <a:fontRef idx="minor"/>
        </p:style>
        <p:txBody>
          <a:bodyPr lIns="0" rIns="0" tIns="25560" bIns="0" anchor="t">
            <a:spAutoFit/>
          </a:bodyPr>
          <a:p>
            <a:pPr marL="68400">
              <a:lnSpc>
                <a:spcPct val="100000"/>
              </a:lnSpc>
              <a:spcBef>
                <a:spcPts val="2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WILL PAY IF…PART OF HOME IS  USED FOR THE PURPOSE OF  EARNING THE LIVELIHOO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THE INSURED IS SELF EMPLOYE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YOU HAVE SHIFTED OFFICE TO  HOME BUILDING DUE TO  LOCKDOWN.. OR CLOSURE DUE TO  ORDER BY PUBLIC AUTHORITY..</a:t>
            </a:r>
            <a:endParaRPr b="0" lang="en-US" sz="1300" spc="-1" strike="noStrike">
              <a:solidFill>
                <a:srgbClr val="000000"/>
              </a:solidFill>
              <a:latin typeface="Times New Roman"/>
            </a:endParaRPr>
          </a:p>
        </p:txBody>
      </p:sp>
      <p:grpSp>
        <p:nvGrpSpPr>
          <p:cNvPr id="100" name="object 12"/>
          <p:cNvGrpSpPr/>
          <p:nvPr/>
        </p:nvGrpSpPr>
        <p:grpSpPr>
          <a:xfrm>
            <a:off x="2560680" y="1754280"/>
            <a:ext cx="479520" cy="474480"/>
            <a:chOff x="2560680" y="1754280"/>
            <a:chExt cx="479520" cy="474480"/>
          </a:xfrm>
        </p:grpSpPr>
        <p:sp>
          <p:nvSpPr>
            <p:cNvPr id="101" name="object 13"/>
            <p:cNvSpPr/>
            <p:nvPr/>
          </p:nvSpPr>
          <p:spPr>
            <a:xfrm>
              <a:off x="2560680" y="1754280"/>
              <a:ext cx="479520" cy="474480"/>
            </a:xfrm>
            <a:custGeom>
              <a:avLst/>
              <a:gdLst/>
              <a:ahLst/>
              <a:rect l="l" t="t" r="r" b="b"/>
              <a:pathLst>
                <a:path w="611504" h="605155">
                  <a:moveTo>
                    <a:pt x="305562" y="0"/>
                  </a:moveTo>
                  <a:lnTo>
                    <a:pt x="255991" y="3957"/>
                  </a:lnTo>
                  <a:lnTo>
                    <a:pt x="208970" y="15416"/>
                  </a:lnTo>
                  <a:lnTo>
                    <a:pt x="165127" y="33755"/>
                  </a:lnTo>
                  <a:lnTo>
                    <a:pt x="125089" y="58350"/>
                  </a:lnTo>
                  <a:lnTo>
                    <a:pt x="89487" y="88582"/>
                  </a:lnTo>
                  <a:lnTo>
                    <a:pt x="58948" y="123828"/>
                  </a:lnTo>
                  <a:lnTo>
                    <a:pt x="34101" y="163465"/>
                  </a:lnTo>
                  <a:lnTo>
                    <a:pt x="15575" y="206873"/>
                  </a:lnTo>
                  <a:lnTo>
                    <a:pt x="3998" y="253430"/>
                  </a:lnTo>
                  <a:lnTo>
                    <a:pt x="0" y="302513"/>
                  </a:lnTo>
                  <a:lnTo>
                    <a:pt x="3998" y="351597"/>
                  </a:lnTo>
                  <a:lnTo>
                    <a:pt x="15575" y="398154"/>
                  </a:lnTo>
                  <a:lnTo>
                    <a:pt x="34101" y="441562"/>
                  </a:lnTo>
                  <a:lnTo>
                    <a:pt x="58948" y="481199"/>
                  </a:lnTo>
                  <a:lnTo>
                    <a:pt x="89487" y="516445"/>
                  </a:lnTo>
                  <a:lnTo>
                    <a:pt x="125089" y="546677"/>
                  </a:lnTo>
                  <a:lnTo>
                    <a:pt x="165127" y="571272"/>
                  </a:lnTo>
                  <a:lnTo>
                    <a:pt x="208970" y="589611"/>
                  </a:lnTo>
                  <a:lnTo>
                    <a:pt x="255991" y="601070"/>
                  </a:lnTo>
                  <a:lnTo>
                    <a:pt x="305562" y="605027"/>
                  </a:lnTo>
                  <a:lnTo>
                    <a:pt x="355132" y="601070"/>
                  </a:lnTo>
                  <a:lnTo>
                    <a:pt x="402153" y="589611"/>
                  </a:lnTo>
                  <a:lnTo>
                    <a:pt x="445996" y="571272"/>
                  </a:lnTo>
                  <a:lnTo>
                    <a:pt x="486034" y="546677"/>
                  </a:lnTo>
                  <a:lnTo>
                    <a:pt x="521636" y="516445"/>
                  </a:lnTo>
                  <a:lnTo>
                    <a:pt x="552175" y="481199"/>
                  </a:lnTo>
                  <a:lnTo>
                    <a:pt x="577022" y="441562"/>
                  </a:lnTo>
                  <a:lnTo>
                    <a:pt x="595548" y="398154"/>
                  </a:lnTo>
                  <a:lnTo>
                    <a:pt x="607125" y="351597"/>
                  </a:lnTo>
                  <a:lnTo>
                    <a:pt x="611124" y="302513"/>
                  </a:lnTo>
                  <a:lnTo>
                    <a:pt x="607125" y="253430"/>
                  </a:lnTo>
                  <a:lnTo>
                    <a:pt x="595548" y="206873"/>
                  </a:lnTo>
                  <a:lnTo>
                    <a:pt x="577022" y="163465"/>
                  </a:lnTo>
                  <a:lnTo>
                    <a:pt x="552175" y="123828"/>
                  </a:lnTo>
                  <a:lnTo>
                    <a:pt x="521636" y="88582"/>
                  </a:lnTo>
                  <a:lnTo>
                    <a:pt x="486034" y="58350"/>
                  </a:lnTo>
                  <a:lnTo>
                    <a:pt x="445996" y="33755"/>
                  </a:lnTo>
                  <a:lnTo>
                    <a:pt x="402153" y="15416"/>
                  </a:lnTo>
                  <a:lnTo>
                    <a:pt x="355132" y="3957"/>
                  </a:lnTo>
                  <a:lnTo>
                    <a:pt x="30556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object 14"/>
            <p:cNvSpPr/>
            <p:nvPr/>
          </p:nvSpPr>
          <p:spPr>
            <a:xfrm>
              <a:off x="2560680" y="1754280"/>
              <a:ext cx="479520" cy="474480"/>
            </a:xfrm>
            <a:custGeom>
              <a:avLst/>
              <a:gdLst/>
              <a:ahLst/>
              <a:rect l="l" t="t" r="r" b="b"/>
              <a:pathLst>
                <a:path w="611504" h="605155">
                  <a:moveTo>
                    <a:pt x="0" y="302513"/>
                  </a:moveTo>
                  <a:lnTo>
                    <a:pt x="3998" y="253430"/>
                  </a:lnTo>
                  <a:lnTo>
                    <a:pt x="15575" y="206873"/>
                  </a:lnTo>
                  <a:lnTo>
                    <a:pt x="34101" y="163465"/>
                  </a:lnTo>
                  <a:lnTo>
                    <a:pt x="58948" y="123828"/>
                  </a:lnTo>
                  <a:lnTo>
                    <a:pt x="89487" y="88582"/>
                  </a:lnTo>
                  <a:lnTo>
                    <a:pt x="125089" y="58350"/>
                  </a:lnTo>
                  <a:lnTo>
                    <a:pt x="165127" y="33755"/>
                  </a:lnTo>
                  <a:lnTo>
                    <a:pt x="208970" y="15416"/>
                  </a:lnTo>
                  <a:lnTo>
                    <a:pt x="255991" y="3957"/>
                  </a:lnTo>
                  <a:lnTo>
                    <a:pt x="305562" y="0"/>
                  </a:lnTo>
                  <a:lnTo>
                    <a:pt x="355132" y="3957"/>
                  </a:lnTo>
                  <a:lnTo>
                    <a:pt x="402153" y="15416"/>
                  </a:lnTo>
                  <a:lnTo>
                    <a:pt x="445996" y="33755"/>
                  </a:lnTo>
                  <a:lnTo>
                    <a:pt x="486034" y="58350"/>
                  </a:lnTo>
                  <a:lnTo>
                    <a:pt x="521636" y="88582"/>
                  </a:lnTo>
                  <a:lnTo>
                    <a:pt x="552175" y="123828"/>
                  </a:lnTo>
                  <a:lnTo>
                    <a:pt x="577022" y="163465"/>
                  </a:lnTo>
                  <a:lnTo>
                    <a:pt x="595548" y="206873"/>
                  </a:lnTo>
                  <a:lnTo>
                    <a:pt x="607125" y="253430"/>
                  </a:lnTo>
                  <a:lnTo>
                    <a:pt x="611124" y="302513"/>
                  </a:lnTo>
                  <a:lnTo>
                    <a:pt x="607125" y="351597"/>
                  </a:lnTo>
                  <a:lnTo>
                    <a:pt x="595548" y="398154"/>
                  </a:lnTo>
                  <a:lnTo>
                    <a:pt x="577022" y="441562"/>
                  </a:lnTo>
                  <a:lnTo>
                    <a:pt x="552175" y="481199"/>
                  </a:lnTo>
                  <a:lnTo>
                    <a:pt x="521636" y="516445"/>
                  </a:lnTo>
                  <a:lnTo>
                    <a:pt x="486034" y="546677"/>
                  </a:lnTo>
                  <a:lnTo>
                    <a:pt x="445996" y="571272"/>
                  </a:lnTo>
                  <a:lnTo>
                    <a:pt x="402153" y="589611"/>
                  </a:lnTo>
                  <a:lnTo>
                    <a:pt x="355132" y="601070"/>
                  </a:lnTo>
                  <a:lnTo>
                    <a:pt x="305562" y="605027"/>
                  </a:lnTo>
                  <a:lnTo>
                    <a:pt x="255991" y="601070"/>
                  </a:lnTo>
                  <a:lnTo>
                    <a:pt x="208970" y="589611"/>
                  </a:lnTo>
                  <a:lnTo>
                    <a:pt x="165127" y="571272"/>
                  </a:lnTo>
                  <a:lnTo>
                    <a:pt x="125089" y="546677"/>
                  </a:lnTo>
                  <a:lnTo>
                    <a:pt x="89487" y="516445"/>
                  </a:lnTo>
                  <a:lnTo>
                    <a:pt x="58948" y="481199"/>
                  </a:lnTo>
                  <a:lnTo>
                    <a:pt x="34101" y="441562"/>
                  </a:lnTo>
                  <a:lnTo>
                    <a:pt x="15575" y="398154"/>
                  </a:lnTo>
                  <a:lnTo>
                    <a:pt x="3998" y="351597"/>
                  </a:lnTo>
                  <a:lnTo>
                    <a:pt x="0" y="302513"/>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3" name="object 15"/>
          <p:cNvSpPr/>
          <p:nvPr/>
        </p:nvSpPr>
        <p:spPr>
          <a:xfrm>
            <a:off x="2732040" y="1870200"/>
            <a:ext cx="1382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A</a:t>
            </a:r>
            <a:endParaRPr b="0" lang="en-US" sz="1300" spc="-1" strike="noStrike">
              <a:solidFill>
                <a:srgbClr val="000000"/>
              </a:solidFill>
              <a:latin typeface="Times New Roman"/>
            </a:endParaRPr>
          </a:p>
        </p:txBody>
      </p:sp>
      <p:grpSp>
        <p:nvGrpSpPr>
          <p:cNvPr id="104" name="object 16"/>
          <p:cNvGrpSpPr/>
          <p:nvPr/>
        </p:nvGrpSpPr>
        <p:grpSpPr>
          <a:xfrm>
            <a:off x="4761000" y="3286080"/>
            <a:ext cx="566640" cy="577800"/>
            <a:chOff x="4761000" y="3286080"/>
            <a:chExt cx="566640" cy="577800"/>
          </a:xfrm>
        </p:grpSpPr>
        <p:sp>
          <p:nvSpPr>
            <p:cNvPr id="105" name="object 17"/>
            <p:cNvSpPr/>
            <p:nvPr/>
          </p:nvSpPr>
          <p:spPr>
            <a:xfrm>
              <a:off x="4761000" y="3286080"/>
              <a:ext cx="566640" cy="577800"/>
            </a:xfrm>
            <a:custGeom>
              <a:avLst/>
              <a:gdLst/>
              <a:ahLst/>
              <a:rect l="l" t="t" r="r" b="b"/>
              <a:pathLst>
                <a:path w="727075" h="742314">
                  <a:moveTo>
                    <a:pt x="363473" y="0"/>
                  </a:moveTo>
                  <a:lnTo>
                    <a:pt x="317871" y="2890"/>
                  </a:lnTo>
                  <a:lnTo>
                    <a:pt x="273962" y="11331"/>
                  </a:lnTo>
                  <a:lnTo>
                    <a:pt x="232085" y="24975"/>
                  </a:lnTo>
                  <a:lnTo>
                    <a:pt x="192582" y="43473"/>
                  </a:lnTo>
                  <a:lnTo>
                    <a:pt x="155793" y="66479"/>
                  </a:lnTo>
                  <a:lnTo>
                    <a:pt x="122058" y="93645"/>
                  </a:lnTo>
                  <a:lnTo>
                    <a:pt x="91716" y="124624"/>
                  </a:lnTo>
                  <a:lnTo>
                    <a:pt x="65109" y="159067"/>
                  </a:lnTo>
                  <a:lnTo>
                    <a:pt x="42577" y="196628"/>
                  </a:lnTo>
                  <a:lnTo>
                    <a:pt x="24460" y="236958"/>
                  </a:lnTo>
                  <a:lnTo>
                    <a:pt x="11098" y="279711"/>
                  </a:lnTo>
                  <a:lnTo>
                    <a:pt x="2831" y="324539"/>
                  </a:lnTo>
                  <a:lnTo>
                    <a:pt x="0" y="371094"/>
                  </a:lnTo>
                  <a:lnTo>
                    <a:pt x="2831" y="417648"/>
                  </a:lnTo>
                  <a:lnTo>
                    <a:pt x="11098" y="462476"/>
                  </a:lnTo>
                  <a:lnTo>
                    <a:pt x="24460" y="505229"/>
                  </a:lnTo>
                  <a:lnTo>
                    <a:pt x="42577" y="545559"/>
                  </a:lnTo>
                  <a:lnTo>
                    <a:pt x="65109" y="583120"/>
                  </a:lnTo>
                  <a:lnTo>
                    <a:pt x="91716" y="617563"/>
                  </a:lnTo>
                  <a:lnTo>
                    <a:pt x="122058" y="648542"/>
                  </a:lnTo>
                  <a:lnTo>
                    <a:pt x="155793" y="675708"/>
                  </a:lnTo>
                  <a:lnTo>
                    <a:pt x="192582" y="698714"/>
                  </a:lnTo>
                  <a:lnTo>
                    <a:pt x="232085" y="717212"/>
                  </a:lnTo>
                  <a:lnTo>
                    <a:pt x="273962" y="730856"/>
                  </a:lnTo>
                  <a:lnTo>
                    <a:pt x="317871" y="739297"/>
                  </a:lnTo>
                  <a:lnTo>
                    <a:pt x="363473" y="742188"/>
                  </a:lnTo>
                  <a:lnTo>
                    <a:pt x="409076" y="739297"/>
                  </a:lnTo>
                  <a:lnTo>
                    <a:pt x="452985" y="730856"/>
                  </a:lnTo>
                  <a:lnTo>
                    <a:pt x="494862" y="717212"/>
                  </a:lnTo>
                  <a:lnTo>
                    <a:pt x="534365" y="698714"/>
                  </a:lnTo>
                  <a:lnTo>
                    <a:pt x="571154" y="675708"/>
                  </a:lnTo>
                  <a:lnTo>
                    <a:pt x="604889" y="648542"/>
                  </a:lnTo>
                  <a:lnTo>
                    <a:pt x="635231" y="617563"/>
                  </a:lnTo>
                  <a:lnTo>
                    <a:pt x="661838" y="583120"/>
                  </a:lnTo>
                  <a:lnTo>
                    <a:pt x="684370" y="545559"/>
                  </a:lnTo>
                  <a:lnTo>
                    <a:pt x="702487" y="505229"/>
                  </a:lnTo>
                  <a:lnTo>
                    <a:pt x="715849" y="462476"/>
                  </a:lnTo>
                  <a:lnTo>
                    <a:pt x="724116" y="417648"/>
                  </a:lnTo>
                  <a:lnTo>
                    <a:pt x="726947" y="371094"/>
                  </a:lnTo>
                  <a:lnTo>
                    <a:pt x="724116" y="324539"/>
                  </a:lnTo>
                  <a:lnTo>
                    <a:pt x="715849" y="279711"/>
                  </a:lnTo>
                  <a:lnTo>
                    <a:pt x="702487" y="236958"/>
                  </a:lnTo>
                  <a:lnTo>
                    <a:pt x="684370" y="196628"/>
                  </a:lnTo>
                  <a:lnTo>
                    <a:pt x="661838" y="159067"/>
                  </a:lnTo>
                  <a:lnTo>
                    <a:pt x="635231" y="124624"/>
                  </a:lnTo>
                  <a:lnTo>
                    <a:pt x="604889" y="93645"/>
                  </a:lnTo>
                  <a:lnTo>
                    <a:pt x="571154" y="66479"/>
                  </a:lnTo>
                  <a:lnTo>
                    <a:pt x="534365" y="43473"/>
                  </a:lnTo>
                  <a:lnTo>
                    <a:pt x="494862" y="24975"/>
                  </a:lnTo>
                  <a:lnTo>
                    <a:pt x="452985" y="11331"/>
                  </a:lnTo>
                  <a:lnTo>
                    <a:pt x="409076" y="2890"/>
                  </a:lnTo>
                  <a:lnTo>
                    <a:pt x="363473"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object 18"/>
            <p:cNvSpPr/>
            <p:nvPr/>
          </p:nvSpPr>
          <p:spPr>
            <a:xfrm>
              <a:off x="4761000" y="3286080"/>
              <a:ext cx="566640" cy="577800"/>
            </a:xfrm>
            <a:custGeom>
              <a:avLst/>
              <a:gdLst/>
              <a:ahLst/>
              <a:rect l="l" t="t" r="r" b="b"/>
              <a:pathLst>
                <a:path w="727075" h="742314">
                  <a:moveTo>
                    <a:pt x="0" y="371094"/>
                  </a:moveTo>
                  <a:lnTo>
                    <a:pt x="2831" y="324539"/>
                  </a:lnTo>
                  <a:lnTo>
                    <a:pt x="11098" y="279711"/>
                  </a:lnTo>
                  <a:lnTo>
                    <a:pt x="24460" y="236958"/>
                  </a:lnTo>
                  <a:lnTo>
                    <a:pt x="42577" y="196628"/>
                  </a:lnTo>
                  <a:lnTo>
                    <a:pt x="65109" y="159067"/>
                  </a:lnTo>
                  <a:lnTo>
                    <a:pt x="91716" y="124624"/>
                  </a:lnTo>
                  <a:lnTo>
                    <a:pt x="122058" y="93645"/>
                  </a:lnTo>
                  <a:lnTo>
                    <a:pt x="155793" y="66479"/>
                  </a:lnTo>
                  <a:lnTo>
                    <a:pt x="192582" y="43473"/>
                  </a:lnTo>
                  <a:lnTo>
                    <a:pt x="232085" y="24975"/>
                  </a:lnTo>
                  <a:lnTo>
                    <a:pt x="273962" y="11331"/>
                  </a:lnTo>
                  <a:lnTo>
                    <a:pt x="317871" y="2890"/>
                  </a:lnTo>
                  <a:lnTo>
                    <a:pt x="363473" y="0"/>
                  </a:lnTo>
                  <a:lnTo>
                    <a:pt x="409076" y="2890"/>
                  </a:lnTo>
                  <a:lnTo>
                    <a:pt x="452985" y="11331"/>
                  </a:lnTo>
                  <a:lnTo>
                    <a:pt x="494862" y="24975"/>
                  </a:lnTo>
                  <a:lnTo>
                    <a:pt x="534365" y="43473"/>
                  </a:lnTo>
                  <a:lnTo>
                    <a:pt x="571154" y="66479"/>
                  </a:lnTo>
                  <a:lnTo>
                    <a:pt x="604889" y="93645"/>
                  </a:lnTo>
                  <a:lnTo>
                    <a:pt x="635231" y="124624"/>
                  </a:lnTo>
                  <a:lnTo>
                    <a:pt x="661838" y="159067"/>
                  </a:lnTo>
                  <a:lnTo>
                    <a:pt x="684370" y="196628"/>
                  </a:lnTo>
                  <a:lnTo>
                    <a:pt x="702487" y="236958"/>
                  </a:lnTo>
                  <a:lnTo>
                    <a:pt x="715849" y="279711"/>
                  </a:lnTo>
                  <a:lnTo>
                    <a:pt x="724116" y="324539"/>
                  </a:lnTo>
                  <a:lnTo>
                    <a:pt x="726947" y="371094"/>
                  </a:lnTo>
                  <a:lnTo>
                    <a:pt x="724116" y="417648"/>
                  </a:lnTo>
                  <a:lnTo>
                    <a:pt x="715849" y="462476"/>
                  </a:lnTo>
                  <a:lnTo>
                    <a:pt x="702487" y="505229"/>
                  </a:lnTo>
                  <a:lnTo>
                    <a:pt x="684370" y="545559"/>
                  </a:lnTo>
                  <a:lnTo>
                    <a:pt x="661838" y="583120"/>
                  </a:lnTo>
                  <a:lnTo>
                    <a:pt x="635231" y="617563"/>
                  </a:lnTo>
                  <a:lnTo>
                    <a:pt x="604889" y="648542"/>
                  </a:lnTo>
                  <a:lnTo>
                    <a:pt x="571154" y="675708"/>
                  </a:lnTo>
                  <a:lnTo>
                    <a:pt x="534365" y="698714"/>
                  </a:lnTo>
                  <a:lnTo>
                    <a:pt x="494862" y="717212"/>
                  </a:lnTo>
                  <a:lnTo>
                    <a:pt x="452985" y="730856"/>
                  </a:lnTo>
                  <a:lnTo>
                    <a:pt x="409076" y="739297"/>
                  </a:lnTo>
                  <a:lnTo>
                    <a:pt x="363473" y="742188"/>
                  </a:lnTo>
                  <a:lnTo>
                    <a:pt x="317871" y="739297"/>
                  </a:lnTo>
                  <a:lnTo>
                    <a:pt x="273962" y="730856"/>
                  </a:lnTo>
                  <a:lnTo>
                    <a:pt x="232085" y="717212"/>
                  </a:lnTo>
                  <a:lnTo>
                    <a:pt x="192582" y="698714"/>
                  </a:lnTo>
                  <a:lnTo>
                    <a:pt x="155793" y="675708"/>
                  </a:lnTo>
                  <a:lnTo>
                    <a:pt x="122058" y="648542"/>
                  </a:lnTo>
                  <a:lnTo>
                    <a:pt x="91716" y="617563"/>
                  </a:lnTo>
                  <a:lnTo>
                    <a:pt x="65109" y="583120"/>
                  </a:lnTo>
                  <a:lnTo>
                    <a:pt x="42577" y="545559"/>
                  </a:lnTo>
                  <a:lnTo>
                    <a:pt x="24460" y="505229"/>
                  </a:lnTo>
                  <a:lnTo>
                    <a:pt x="11098" y="462476"/>
                  </a:lnTo>
                  <a:lnTo>
                    <a:pt x="2831" y="417648"/>
                  </a:lnTo>
                  <a:lnTo>
                    <a:pt x="0" y="37109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7" name="object 19"/>
          <p:cNvSpPr/>
          <p:nvPr/>
        </p:nvSpPr>
        <p:spPr>
          <a:xfrm>
            <a:off x="4989600" y="3454560"/>
            <a:ext cx="1094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B</a:t>
            </a:r>
            <a:endParaRPr b="0" lang="en-US" sz="1300" spc="-1" strike="noStrike">
              <a:solidFill>
                <a:srgbClr val="000000"/>
              </a:solidFill>
              <a:latin typeface="Times New Roman"/>
            </a:endParaRPr>
          </a:p>
        </p:txBody>
      </p:sp>
      <p:grpSp>
        <p:nvGrpSpPr>
          <p:cNvPr id="108" name="object 20"/>
          <p:cNvGrpSpPr/>
          <p:nvPr/>
        </p:nvGrpSpPr>
        <p:grpSpPr>
          <a:xfrm>
            <a:off x="7178760" y="1577880"/>
            <a:ext cx="646200" cy="542880"/>
            <a:chOff x="7178760" y="1577880"/>
            <a:chExt cx="646200" cy="542880"/>
          </a:xfrm>
        </p:grpSpPr>
        <p:sp>
          <p:nvSpPr>
            <p:cNvPr id="109" name="object 21"/>
            <p:cNvSpPr/>
            <p:nvPr/>
          </p:nvSpPr>
          <p:spPr>
            <a:xfrm>
              <a:off x="7178760" y="1577880"/>
              <a:ext cx="646200" cy="542880"/>
            </a:xfrm>
            <a:custGeom>
              <a:avLst/>
              <a:gdLst/>
              <a:ahLst/>
              <a:rect l="l" t="t" r="r" b="b"/>
              <a:pathLst>
                <a:path w="832484" h="696594">
                  <a:moveTo>
                    <a:pt x="416051" y="0"/>
                  </a:moveTo>
                  <a:lnTo>
                    <a:pt x="363870" y="2713"/>
                  </a:lnTo>
                  <a:lnTo>
                    <a:pt x="313621" y="10638"/>
                  </a:lnTo>
                  <a:lnTo>
                    <a:pt x="265694" y="23445"/>
                  </a:lnTo>
                  <a:lnTo>
                    <a:pt x="220479" y="40810"/>
                  </a:lnTo>
                  <a:lnTo>
                    <a:pt x="178368" y="62404"/>
                  </a:lnTo>
                  <a:lnTo>
                    <a:pt x="139749" y="87902"/>
                  </a:lnTo>
                  <a:lnTo>
                    <a:pt x="105014" y="116976"/>
                  </a:lnTo>
                  <a:lnTo>
                    <a:pt x="74552" y="149300"/>
                  </a:lnTo>
                  <a:lnTo>
                    <a:pt x="48754" y="184547"/>
                  </a:lnTo>
                  <a:lnTo>
                    <a:pt x="28009" y="222391"/>
                  </a:lnTo>
                  <a:lnTo>
                    <a:pt x="12708" y="262505"/>
                  </a:lnTo>
                  <a:lnTo>
                    <a:pt x="3242" y="304561"/>
                  </a:lnTo>
                  <a:lnTo>
                    <a:pt x="0" y="348234"/>
                  </a:lnTo>
                  <a:lnTo>
                    <a:pt x="3242" y="391906"/>
                  </a:lnTo>
                  <a:lnTo>
                    <a:pt x="12708" y="433962"/>
                  </a:lnTo>
                  <a:lnTo>
                    <a:pt x="28009" y="474076"/>
                  </a:lnTo>
                  <a:lnTo>
                    <a:pt x="48754" y="511920"/>
                  </a:lnTo>
                  <a:lnTo>
                    <a:pt x="74552" y="547167"/>
                  </a:lnTo>
                  <a:lnTo>
                    <a:pt x="105014" y="579491"/>
                  </a:lnTo>
                  <a:lnTo>
                    <a:pt x="139749" y="608565"/>
                  </a:lnTo>
                  <a:lnTo>
                    <a:pt x="178368" y="634063"/>
                  </a:lnTo>
                  <a:lnTo>
                    <a:pt x="220479" y="655657"/>
                  </a:lnTo>
                  <a:lnTo>
                    <a:pt x="265694" y="673022"/>
                  </a:lnTo>
                  <a:lnTo>
                    <a:pt x="313621" y="685829"/>
                  </a:lnTo>
                  <a:lnTo>
                    <a:pt x="363870" y="693754"/>
                  </a:lnTo>
                  <a:lnTo>
                    <a:pt x="416051" y="696467"/>
                  </a:lnTo>
                  <a:lnTo>
                    <a:pt x="468233" y="693754"/>
                  </a:lnTo>
                  <a:lnTo>
                    <a:pt x="518482" y="685829"/>
                  </a:lnTo>
                  <a:lnTo>
                    <a:pt x="566409" y="673022"/>
                  </a:lnTo>
                  <a:lnTo>
                    <a:pt x="611624" y="655657"/>
                  </a:lnTo>
                  <a:lnTo>
                    <a:pt x="653735" y="634063"/>
                  </a:lnTo>
                  <a:lnTo>
                    <a:pt x="692354" y="608565"/>
                  </a:lnTo>
                  <a:lnTo>
                    <a:pt x="727089" y="579491"/>
                  </a:lnTo>
                  <a:lnTo>
                    <a:pt x="757551" y="547167"/>
                  </a:lnTo>
                  <a:lnTo>
                    <a:pt x="783349" y="511920"/>
                  </a:lnTo>
                  <a:lnTo>
                    <a:pt x="804094" y="474076"/>
                  </a:lnTo>
                  <a:lnTo>
                    <a:pt x="819395" y="433962"/>
                  </a:lnTo>
                  <a:lnTo>
                    <a:pt x="828861" y="391906"/>
                  </a:lnTo>
                  <a:lnTo>
                    <a:pt x="832103" y="348234"/>
                  </a:lnTo>
                  <a:lnTo>
                    <a:pt x="828861" y="304561"/>
                  </a:lnTo>
                  <a:lnTo>
                    <a:pt x="819395" y="262505"/>
                  </a:lnTo>
                  <a:lnTo>
                    <a:pt x="804094" y="222391"/>
                  </a:lnTo>
                  <a:lnTo>
                    <a:pt x="783349" y="184547"/>
                  </a:lnTo>
                  <a:lnTo>
                    <a:pt x="757551" y="149300"/>
                  </a:lnTo>
                  <a:lnTo>
                    <a:pt x="727089" y="116976"/>
                  </a:lnTo>
                  <a:lnTo>
                    <a:pt x="692354" y="87902"/>
                  </a:lnTo>
                  <a:lnTo>
                    <a:pt x="653735" y="62404"/>
                  </a:lnTo>
                  <a:lnTo>
                    <a:pt x="611624" y="40810"/>
                  </a:lnTo>
                  <a:lnTo>
                    <a:pt x="566409" y="23445"/>
                  </a:lnTo>
                  <a:lnTo>
                    <a:pt x="518482" y="10638"/>
                  </a:lnTo>
                  <a:lnTo>
                    <a:pt x="468233" y="2713"/>
                  </a:lnTo>
                  <a:lnTo>
                    <a:pt x="416051"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object 22"/>
            <p:cNvSpPr/>
            <p:nvPr/>
          </p:nvSpPr>
          <p:spPr>
            <a:xfrm>
              <a:off x="7178760" y="1577880"/>
              <a:ext cx="646200" cy="542880"/>
            </a:xfrm>
            <a:custGeom>
              <a:avLst/>
              <a:gdLst/>
              <a:ahLst/>
              <a:rect l="l" t="t" r="r" b="b"/>
              <a:pathLst>
                <a:path w="832484" h="696594">
                  <a:moveTo>
                    <a:pt x="0" y="348234"/>
                  </a:moveTo>
                  <a:lnTo>
                    <a:pt x="3242" y="304561"/>
                  </a:lnTo>
                  <a:lnTo>
                    <a:pt x="12708" y="262505"/>
                  </a:lnTo>
                  <a:lnTo>
                    <a:pt x="28009" y="222391"/>
                  </a:lnTo>
                  <a:lnTo>
                    <a:pt x="48754" y="184547"/>
                  </a:lnTo>
                  <a:lnTo>
                    <a:pt x="74552" y="149300"/>
                  </a:lnTo>
                  <a:lnTo>
                    <a:pt x="105014" y="116976"/>
                  </a:lnTo>
                  <a:lnTo>
                    <a:pt x="139749" y="87902"/>
                  </a:lnTo>
                  <a:lnTo>
                    <a:pt x="178368" y="62404"/>
                  </a:lnTo>
                  <a:lnTo>
                    <a:pt x="220479" y="40810"/>
                  </a:lnTo>
                  <a:lnTo>
                    <a:pt x="265694" y="23445"/>
                  </a:lnTo>
                  <a:lnTo>
                    <a:pt x="313621" y="10638"/>
                  </a:lnTo>
                  <a:lnTo>
                    <a:pt x="363870" y="2713"/>
                  </a:lnTo>
                  <a:lnTo>
                    <a:pt x="416051" y="0"/>
                  </a:lnTo>
                  <a:lnTo>
                    <a:pt x="468233" y="2713"/>
                  </a:lnTo>
                  <a:lnTo>
                    <a:pt x="518482" y="10638"/>
                  </a:lnTo>
                  <a:lnTo>
                    <a:pt x="566409" y="23445"/>
                  </a:lnTo>
                  <a:lnTo>
                    <a:pt x="611624" y="40810"/>
                  </a:lnTo>
                  <a:lnTo>
                    <a:pt x="653735" y="62404"/>
                  </a:lnTo>
                  <a:lnTo>
                    <a:pt x="692354" y="87902"/>
                  </a:lnTo>
                  <a:lnTo>
                    <a:pt x="727089" y="116976"/>
                  </a:lnTo>
                  <a:lnTo>
                    <a:pt x="757551" y="149300"/>
                  </a:lnTo>
                  <a:lnTo>
                    <a:pt x="783349" y="184547"/>
                  </a:lnTo>
                  <a:lnTo>
                    <a:pt x="804094" y="222391"/>
                  </a:lnTo>
                  <a:lnTo>
                    <a:pt x="819395" y="262505"/>
                  </a:lnTo>
                  <a:lnTo>
                    <a:pt x="828861" y="304561"/>
                  </a:lnTo>
                  <a:lnTo>
                    <a:pt x="832103" y="348234"/>
                  </a:lnTo>
                  <a:lnTo>
                    <a:pt x="828861" y="391906"/>
                  </a:lnTo>
                  <a:lnTo>
                    <a:pt x="819395" y="433962"/>
                  </a:lnTo>
                  <a:lnTo>
                    <a:pt x="804094" y="474076"/>
                  </a:lnTo>
                  <a:lnTo>
                    <a:pt x="783349" y="511920"/>
                  </a:lnTo>
                  <a:lnTo>
                    <a:pt x="757551" y="547167"/>
                  </a:lnTo>
                  <a:lnTo>
                    <a:pt x="727089" y="579491"/>
                  </a:lnTo>
                  <a:lnTo>
                    <a:pt x="692354" y="608565"/>
                  </a:lnTo>
                  <a:lnTo>
                    <a:pt x="653735" y="634063"/>
                  </a:lnTo>
                  <a:lnTo>
                    <a:pt x="611624" y="655657"/>
                  </a:lnTo>
                  <a:lnTo>
                    <a:pt x="566409" y="673022"/>
                  </a:lnTo>
                  <a:lnTo>
                    <a:pt x="518482" y="685829"/>
                  </a:lnTo>
                  <a:lnTo>
                    <a:pt x="468233" y="693754"/>
                  </a:lnTo>
                  <a:lnTo>
                    <a:pt x="416051" y="696467"/>
                  </a:lnTo>
                  <a:lnTo>
                    <a:pt x="363870" y="693754"/>
                  </a:lnTo>
                  <a:lnTo>
                    <a:pt x="313621" y="685829"/>
                  </a:lnTo>
                  <a:lnTo>
                    <a:pt x="265694" y="673022"/>
                  </a:lnTo>
                  <a:lnTo>
                    <a:pt x="220479" y="655657"/>
                  </a:lnTo>
                  <a:lnTo>
                    <a:pt x="178368" y="634063"/>
                  </a:lnTo>
                  <a:lnTo>
                    <a:pt x="139749" y="608565"/>
                  </a:lnTo>
                  <a:lnTo>
                    <a:pt x="105014" y="579491"/>
                  </a:lnTo>
                  <a:lnTo>
                    <a:pt x="74552" y="547167"/>
                  </a:lnTo>
                  <a:lnTo>
                    <a:pt x="48754" y="511920"/>
                  </a:lnTo>
                  <a:lnTo>
                    <a:pt x="28009" y="474076"/>
                  </a:lnTo>
                  <a:lnTo>
                    <a:pt x="12708" y="433962"/>
                  </a:lnTo>
                  <a:lnTo>
                    <a:pt x="3242" y="391906"/>
                  </a:lnTo>
                  <a:lnTo>
                    <a:pt x="0" y="34823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1" name="object 23"/>
          <p:cNvSpPr/>
          <p:nvPr/>
        </p:nvSpPr>
        <p:spPr>
          <a:xfrm>
            <a:off x="7442280" y="1727280"/>
            <a:ext cx="12060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C</a:t>
            </a:r>
            <a:endParaRPr b="0" lang="en-US" sz="1300" spc="-1" strike="noStrike">
              <a:solidFill>
                <a:srgbClr val="000000"/>
              </a:solidFill>
              <a:latin typeface="Times New Roman"/>
            </a:endParaRPr>
          </a:p>
        </p:txBody>
      </p:sp>
      <p:sp>
        <p:nvSpPr>
          <p:cNvPr id="112" name="PlaceHolder 1"/>
          <p:cNvSpPr>
            <a:spLocks noGrp="1"/>
          </p:cNvSpPr>
          <p:nvPr>
            <p:ph type="title"/>
          </p:nvPr>
        </p:nvSpPr>
        <p:spPr>
          <a:xfrm>
            <a:off x="601200" y="1064880"/>
            <a:ext cx="5721480" cy="561960"/>
          </a:xfrm>
          <a:prstGeom prst="rect">
            <a:avLst/>
          </a:prstGeom>
          <a:noFill/>
          <a:ln w="0">
            <a:noFill/>
          </a:ln>
        </p:spPr>
        <p:txBody>
          <a:bodyPr lIns="0" rIns="0" tIns="9000" bIns="0" anchor="ctr">
            <a:noAutofit/>
          </a:bodyPr>
          <a:p>
            <a:pPr marL="9360" indent="0" algn="ctr">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USE FOR RESID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2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DE</a:t>
            </a:r>
            <a:endParaRPr b="0" lang="en-US" sz="24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type="subTitle"/>
          </p:nvPr>
        </p:nvSpPr>
        <p:spPr>
          <a:xfrm>
            <a:off x="304920" y="2286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CLUS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YAL OF EX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2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2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2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2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58Z</dcterms:modified>
  <cp:revision>166</cp:revision>
  <dc:subject/>
  <dc:title>No Slide Title</dc:title>
</cp:coreProperties>
</file>